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737-2D53-4F04-A570-80A0A55F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B93-3D52-45B6-9449-EB09ECA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154-AACC-45EB-9550-169B0DE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0CF-6D68-4609-974E-7C06C13D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2F5-3DE9-460D-BA64-FB841FF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15A-7FAA-4300-A698-A7038E7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C4F-4DD6-4D70-98A4-513B0DE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C65-D21C-425D-B8FD-D5370F2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B96-774D-411D-88CB-01C7D5F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C9C-EFBA-4071-AB32-5DEDADF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626-69EC-48F0-82B3-6681DC9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F9A-B4FF-4FF2-9F9C-9403061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904-8804-4FE9-B509-B115F28051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3520" y="1523880"/>
            <a:ext cx="8010360" cy="23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 и НН в суффикс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лагатель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2209680" y="304920"/>
            <a:ext cx="4391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ктант "Проверь себя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52280" y="182880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ж – самый старый из столовых приборов. До бронзового века ножи были каме…ыми. С появлением металла кухо…ые ножи стали делать из железа и стали. Ножи для сервировки стола были серебря…ыми или золотыми. Рукоятки ножей украшались драгоце…ыми камнями, искусной резьб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7" descr="00010798"/>
          <p:cNvPicPr/>
          <p:nvPr/>
        </p:nvPicPr>
        <p:blipFill>
          <a:blip r:embed="rId4"/>
          <a:stretch/>
        </p:blipFill>
        <p:spPr>
          <a:xfrm>
            <a:off x="1905120" y="4876920"/>
            <a:ext cx="1449360" cy="1747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00010796"/>
          <p:cNvPicPr/>
          <p:nvPr/>
        </p:nvPicPr>
        <p:blipFill>
          <a:blip r:embed="rId5"/>
          <a:stretch/>
        </p:blipFill>
        <p:spPr>
          <a:xfrm>
            <a:off x="7696080" y="4729320"/>
            <a:ext cx="1366920" cy="1900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00010802"/>
          <p:cNvPicPr/>
          <p:nvPr/>
        </p:nvPicPr>
        <p:blipFill>
          <a:blip r:embed="rId6"/>
          <a:stretch/>
        </p:blipFill>
        <p:spPr>
          <a:xfrm>
            <a:off x="152280" y="4876920"/>
            <a:ext cx="1392480" cy="1768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00010830"/>
          <p:cNvPicPr/>
          <p:nvPr/>
        </p:nvPicPr>
        <p:blipFill>
          <a:blip r:embed="rId7"/>
          <a:stretch/>
        </p:blipFill>
        <p:spPr>
          <a:xfrm>
            <a:off x="152280" y="152280"/>
            <a:ext cx="1925640" cy="1301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00011989"/>
          <p:cNvPicPr/>
          <p:nvPr/>
        </p:nvPicPr>
        <p:blipFill>
          <a:blip r:embed="rId8"/>
          <a:stretch/>
        </p:blipFill>
        <p:spPr>
          <a:xfrm>
            <a:off x="3581280" y="4832280"/>
            <a:ext cx="2286000" cy="1808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00012176"/>
          <p:cNvPicPr/>
          <p:nvPr/>
        </p:nvPicPr>
        <p:blipFill>
          <a:blip r:embed="rId9"/>
          <a:stretch/>
        </p:blipFill>
        <p:spPr>
          <a:xfrm>
            <a:off x="6095880" y="4770360"/>
            <a:ext cx="1285920" cy="185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00012161"/>
          <p:cNvPicPr/>
          <p:nvPr/>
        </p:nvPicPr>
        <p:blipFill>
          <a:blip r:embed="rId10"/>
          <a:stretch/>
        </p:blipFill>
        <p:spPr>
          <a:xfrm>
            <a:off x="7162920" y="152280"/>
            <a:ext cx="18316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457200" y="228600"/>
            <a:ext cx="8305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 и нн в суффиксах прилагатель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68480" y="20574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990720" y="1981080"/>
            <a:ext cx="121896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668320" y="20574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ма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2590920" y="1981080"/>
            <a:ext cx="1066680" cy="6858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81280" y="1981080"/>
            <a:ext cx="228240" cy="228240"/>
            <a:chOff x="3581280" y="1981080"/>
            <a:chExt cx="228240" cy="228240"/>
          </a:xfrm>
        </p:grpSpPr>
        <p:sp>
          <p:nvSpPr>
            <p:cNvPr id="48" name="Line 11"/>
            <p:cNvSpPr/>
            <p:nvPr/>
          </p:nvSpPr>
          <p:spPr>
            <a:xfrm flipH="1">
              <a:off x="3581280" y="198108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Line 12"/>
            <p:cNvSpPr/>
            <p:nvPr/>
          </p:nvSpPr>
          <p:spPr>
            <a:xfrm>
              <a:off x="3695400" y="198108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Line 15"/>
          <p:cNvSpPr/>
          <p:nvPr/>
        </p:nvSpPr>
        <p:spPr>
          <a:xfrm>
            <a:off x="1752480" y="2514600"/>
            <a:ext cx="2872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752480" y="2590920"/>
            <a:ext cx="2872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3389400" y="2438280"/>
            <a:ext cx="4204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3389400" y="2514600"/>
            <a:ext cx="4204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5029200" y="2057400"/>
            <a:ext cx="380880" cy="30492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5030640" y="19573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551232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6021360" y="1981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" name="Group 27"/>
          <p:cNvGrpSpPr/>
          <p:nvPr/>
        </p:nvGrpSpPr>
        <p:grpSpPr>
          <a:xfrm>
            <a:off x="6095880" y="1981080"/>
            <a:ext cx="228240" cy="228240"/>
            <a:chOff x="6095880" y="1981080"/>
            <a:chExt cx="228240" cy="228240"/>
          </a:xfrm>
        </p:grpSpPr>
        <p:sp>
          <p:nvSpPr>
            <p:cNvPr id="59" name="Line 28"/>
            <p:cNvSpPr/>
            <p:nvPr/>
          </p:nvSpPr>
          <p:spPr>
            <a:xfrm flipH="1">
              <a:off x="6095880" y="198108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6210000" y="198108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Text Box 30"/>
          <p:cNvSpPr/>
          <p:nvPr/>
        </p:nvSpPr>
        <p:spPr>
          <a:xfrm>
            <a:off x="657900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6985080" y="1981080"/>
            <a:ext cx="7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2"/>
          <p:cNvSpPr/>
          <p:nvPr/>
        </p:nvSpPr>
        <p:spPr>
          <a:xfrm>
            <a:off x="96804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2428200" y="20574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ма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589680" y="31240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1765440" y="312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ре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36"/>
          <p:cNvSpPr/>
          <p:nvPr/>
        </p:nvSpPr>
        <p:spPr>
          <a:xfrm>
            <a:off x="3840840" y="3124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кур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37"/>
          <p:cNvSpPr/>
          <p:nvPr/>
        </p:nvSpPr>
        <p:spPr>
          <a:xfrm>
            <a:off x="5922360" y="31240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курси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685800" y="3124080"/>
            <a:ext cx="533520" cy="60984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752480" y="3048120"/>
            <a:ext cx="685800" cy="838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" name="Group 40"/>
          <p:cNvGrpSpPr/>
          <p:nvPr/>
        </p:nvGrpSpPr>
        <p:grpSpPr>
          <a:xfrm>
            <a:off x="2437920" y="3048120"/>
            <a:ext cx="456840" cy="228240"/>
            <a:chOff x="2437920" y="3048120"/>
            <a:chExt cx="456840" cy="228240"/>
          </a:xfrm>
        </p:grpSpPr>
        <p:sp>
          <p:nvSpPr>
            <p:cNvPr id="72" name="Line 41"/>
            <p:cNvSpPr/>
            <p:nvPr/>
          </p:nvSpPr>
          <p:spPr>
            <a:xfrm flipH="1">
              <a:off x="2437920" y="3048120"/>
              <a:ext cx="233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Line 42"/>
            <p:cNvSpPr/>
            <p:nvPr/>
          </p:nvSpPr>
          <p:spPr>
            <a:xfrm>
              <a:off x="2666520" y="3048120"/>
              <a:ext cx="22824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AutoShape 43"/>
          <p:cNvSpPr/>
          <p:nvPr/>
        </p:nvSpPr>
        <p:spPr>
          <a:xfrm>
            <a:off x="3886200" y="3048120"/>
            <a:ext cx="137160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6019920" y="3048120"/>
            <a:ext cx="137160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" name="Group 45"/>
          <p:cNvGrpSpPr/>
          <p:nvPr/>
        </p:nvGrpSpPr>
        <p:grpSpPr>
          <a:xfrm>
            <a:off x="7391160" y="3048120"/>
            <a:ext cx="456840" cy="228240"/>
            <a:chOff x="7391160" y="3048120"/>
            <a:chExt cx="456840" cy="228240"/>
          </a:xfrm>
        </p:grpSpPr>
        <p:sp>
          <p:nvSpPr>
            <p:cNvPr id="77" name="Line 46"/>
            <p:cNvSpPr/>
            <p:nvPr/>
          </p:nvSpPr>
          <p:spPr>
            <a:xfrm flipH="1">
              <a:off x="7391160" y="3048120"/>
              <a:ext cx="233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Line 47"/>
            <p:cNvSpPr/>
            <p:nvPr/>
          </p:nvSpPr>
          <p:spPr>
            <a:xfrm>
              <a:off x="7619760" y="3048120"/>
              <a:ext cx="22824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Text Box 48"/>
          <p:cNvSpPr/>
          <p:nvPr/>
        </p:nvSpPr>
        <p:spPr>
          <a:xfrm>
            <a:off x="500400" y="388620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манная д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49"/>
          <p:cNvSpPr/>
          <p:nvPr/>
        </p:nvSpPr>
        <p:spPr>
          <a:xfrm>
            <a:off x="2779200" y="38862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? краткое прилагатель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3971160" y="388620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ь тум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609480" y="3809880"/>
            <a:ext cx="914400" cy="76212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55"/>
          <p:cNvSpPr/>
          <p:nvPr/>
        </p:nvSpPr>
        <p:spPr>
          <a:xfrm>
            <a:off x="4800600" y="3809880"/>
            <a:ext cx="914400" cy="76212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56"/>
          <p:cNvGrpSpPr/>
          <p:nvPr/>
        </p:nvGrpSpPr>
        <p:grpSpPr>
          <a:xfrm>
            <a:off x="1447920" y="3809880"/>
            <a:ext cx="228240" cy="228240"/>
            <a:chOff x="1447920" y="3809880"/>
            <a:chExt cx="228240" cy="228240"/>
          </a:xfrm>
        </p:grpSpPr>
        <p:sp>
          <p:nvSpPr>
            <p:cNvPr id="85" name="Line 57"/>
            <p:cNvSpPr/>
            <p:nvPr/>
          </p:nvSpPr>
          <p:spPr>
            <a:xfrm flipH="1">
              <a:off x="1447920" y="380988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Line 58"/>
            <p:cNvSpPr/>
            <p:nvPr/>
          </p:nvSpPr>
          <p:spPr>
            <a:xfrm>
              <a:off x="1562040" y="380988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" name="Group 59"/>
          <p:cNvGrpSpPr/>
          <p:nvPr/>
        </p:nvGrpSpPr>
        <p:grpSpPr>
          <a:xfrm>
            <a:off x="5638680" y="3809880"/>
            <a:ext cx="228240" cy="228240"/>
            <a:chOff x="5638680" y="3809880"/>
            <a:chExt cx="228240" cy="228240"/>
          </a:xfrm>
        </p:grpSpPr>
        <p:sp>
          <p:nvSpPr>
            <p:cNvPr id="88" name="Line 60"/>
            <p:cNvSpPr/>
            <p:nvPr/>
          </p:nvSpPr>
          <p:spPr>
            <a:xfrm flipH="1">
              <a:off x="5638680" y="380988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61"/>
            <p:cNvSpPr/>
            <p:nvPr/>
          </p:nvSpPr>
          <p:spPr>
            <a:xfrm>
              <a:off x="5752800" y="380988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" name="Line 62"/>
          <p:cNvSpPr/>
          <p:nvPr/>
        </p:nvSpPr>
        <p:spPr>
          <a:xfrm>
            <a:off x="5486400" y="4419720"/>
            <a:ext cx="4572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63"/>
          <p:cNvSpPr/>
          <p:nvPr/>
        </p:nvSpPr>
        <p:spPr>
          <a:xfrm>
            <a:off x="5486400" y="4343400"/>
            <a:ext cx="4572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1489680" y="464976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есная книг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65"/>
          <p:cNvSpPr/>
          <p:nvPr/>
        </p:nvSpPr>
        <p:spPr>
          <a:xfrm>
            <a:off x="5400000" y="46483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ига интерес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7"/>
          <p:cNvSpPr/>
          <p:nvPr/>
        </p:nvSpPr>
        <p:spPr>
          <a:xfrm>
            <a:off x="1600200" y="4572000"/>
            <a:ext cx="121932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" name="Group 68"/>
          <p:cNvGrpSpPr/>
          <p:nvPr/>
        </p:nvGrpSpPr>
        <p:grpSpPr>
          <a:xfrm>
            <a:off x="2743200" y="4572000"/>
            <a:ext cx="228240" cy="228240"/>
            <a:chOff x="2743200" y="4572000"/>
            <a:chExt cx="228240" cy="228240"/>
          </a:xfrm>
        </p:grpSpPr>
        <p:sp>
          <p:nvSpPr>
            <p:cNvPr id="96" name="Line 69"/>
            <p:cNvSpPr/>
            <p:nvPr/>
          </p:nvSpPr>
          <p:spPr>
            <a:xfrm flipH="1">
              <a:off x="2743200" y="457200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70"/>
            <p:cNvSpPr/>
            <p:nvPr/>
          </p:nvSpPr>
          <p:spPr>
            <a:xfrm>
              <a:off x="2857320" y="457200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AutoShape 71"/>
          <p:cNvSpPr/>
          <p:nvPr/>
        </p:nvSpPr>
        <p:spPr>
          <a:xfrm>
            <a:off x="6400800" y="4572000"/>
            <a:ext cx="121932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Group 72"/>
          <p:cNvGrpSpPr/>
          <p:nvPr/>
        </p:nvGrpSpPr>
        <p:grpSpPr>
          <a:xfrm>
            <a:off x="7543800" y="4572000"/>
            <a:ext cx="228240" cy="228240"/>
            <a:chOff x="7543800" y="4572000"/>
            <a:chExt cx="228240" cy="228240"/>
          </a:xfrm>
        </p:grpSpPr>
        <p:sp>
          <p:nvSpPr>
            <p:cNvPr id="100" name="Line 73"/>
            <p:cNvSpPr/>
            <p:nvPr/>
          </p:nvSpPr>
          <p:spPr>
            <a:xfrm flipH="1">
              <a:off x="7543800" y="457200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Line 74"/>
            <p:cNvSpPr/>
            <p:nvPr/>
          </p:nvSpPr>
          <p:spPr>
            <a:xfrm>
              <a:off x="7657920" y="457200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3124080" y="304920"/>
            <a:ext cx="26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поминаем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18600" y="1981080"/>
            <a:ext cx="48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ие суффиксы пишутся с 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435640" y="182880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ин-,  -ан-, -ян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89160" y="2744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склю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312280" y="271620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клянный, оловянный, деревянн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08880" y="365904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ие суффиксы пишутся с Н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609520" y="350532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ahoma"/>
              </a:rPr>
              <a:t>-онн-, -енн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3" descr="00007536"/>
          <p:cNvPicPr/>
          <p:nvPr/>
        </p:nvPicPr>
        <p:blipFill>
          <a:blip r:embed="rId1"/>
          <a:stretch/>
        </p:blipFill>
        <p:spPr>
          <a:xfrm>
            <a:off x="5943600" y="2900520"/>
            <a:ext cx="3200400" cy="395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00010622"/>
          <p:cNvPicPr/>
          <p:nvPr/>
        </p:nvPicPr>
        <p:blipFill>
          <a:blip r:embed="rId2"/>
          <a:stretch/>
        </p:blipFill>
        <p:spPr>
          <a:xfrm>
            <a:off x="0" y="0"/>
            <a:ext cx="2979720" cy="449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pro1"/>
          <p:cNvPicPr/>
          <p:nvPr/>
        </p:nvPicPr>
        <p:blipFill>
          <a:blip r:embed="rId3"/>
          <a:stretch/>
        </p:blipFill>
        <p:spPr>
          <a:xfrm>
            <a:off x="2057400" y="1905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 rot="5400000">
            <a:off x="-2676600" y="2981160"/>
            <a:ext cx="6486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енировочные упраж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905120" y="380880"/>
            <a:ext cx="58672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гад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4" name="Picture 6" descr="00017409"/>
          <p:cNvPicPr/>
          <p:nvPr/>
        </p:nvPicPr>
        <p:blipFill>
          <a:blip r:embed="rId1"/>
          <a:stretch/>
        </p:blipFill>
        <p:spPr>
          <a:xfrm>
            <a:off x="5759280" y="1639800"/>
            <a:ext cx="3384720" cy="5218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459600" y="236232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ь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64280" y="37339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иный буль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666880" y="3657600"/>
            <a:ext cx="609840" cy="6094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3276720" y="3657600"/>
            <a:ext cx="228240" cy="228240"/>
            <a:chOff x="3276720" y="3657600"/>
            <a:chExt cx="228240" cy="228240"/>
          </a:xfrm>
        </p:grpSpPr>
        <p:sp>
          <p:nvSpPr>
            <p:cNvPr id="119" name="Line 11"/>
            <p:cNvSpPr/>
            <p:nvPr/>
          </p:nvSpPr>
          <p:spPr>
            <a:xfrm flipH="1">
              <a:off x="3276720" y="365760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3390840" y="365760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 rot="5400000">
            <a:off x="-2676600" y="2981160"/>
            <a:ext cx="6486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енировочные упраж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905120" y="380880"/>
            <a:ext cx="58672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гад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3" name="Picture 6" descr="22"/>
          <p:cNvPicPr/>
          <p:nvPr/>
        </p:nvPicPr>
        <p:blipFill>
          <a:blip r:embed="rId1"/>
          <a:stretch/>
        </p:blipFill>
        <p:spPr>
          <a:xfrm>
            <a:off x="914400" y="12952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285960" y="2514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843160" y="52578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авлиное кр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5943600" y="5181480"/>
            <a:ext cx="1219320" cy="91440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7086600" y="5181480"/>
            <a:ext cx="228240" cy="228240"/>
            <a:chOff x="7086600" y="5181480"/>
            <a:chExt cx="228240" cy="228240"/>
          </a:xfrm>
        </p:grpSpPr>
        <p:sp>
          <p:nvSpPr>
            <p:cNvPr id="128" name="Line 11"/>
            <p:cNvSpPr/>
            <p:nvPr/>
          </p:nvSpPr>
          <p:spPr>
            <a:xfrm flipH="1">
              <a:off x="7086600" y="518148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7200720" y="518148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 rot="5400000">
            <a:off x="-2676600" y="2981160"/>
            <a:ext cx="6486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енировочные упраж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1905120" y="380880"/>
            <a:ext cx="58672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гад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Picture 6" descr="00012689"/>
          <p:cNvPicPr/>
          <p:nvPr/>
        </p:nvPicPr>
        <p:blipFill>
          <a:blip r:embed="rId1"/>
          <a:stretch/>
        </p:blipFill>
        <p:spPr>
          <a:xfrm>
            <a:off x="1447920" y="1568520"/>
            <a:ext cx="4038480" cy="3252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6210360" y="28954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ф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677920" y="44974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монные конф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867280" y="4419720"/>
            <a:ext cx="914400" cy="7617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6705720" y="4419720"/>
            <a:ext cx="228240" cy="228240"/>
            <a:chOff x="6705720" y="4419720"/>
            <a:chExt cx="228240" cy="228240"/>
          </a:xfrm>
        </p:grpSpPr>
        <p:sp>
          <p:nvSpPr>
            <p:cNvPr id="137" name="Line 11"/>
            <p:cNvSpPr/>
            <p:nvPr/>
          </p:nvSpPr>
          <p:spPr>
            <a:xfrm flipH="1">
              <a:off x="6705720" y="441972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6819840" y="441972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 rot="5400000">
            <a:off x="-2676600" y="2981160"/>
            <a:ext cx="6486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енировочные упраж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05120" y="380880"/>
            <a:ext cx="58672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гад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1" name="Picture 6" descr="00046932"/>
          <p:cNvPicPr/>
          <p:nvPr/>
        </p:nvPicPr>
        <p:blipFill>
          <a:blip r:embed="rId1"/>
          <a:stretch/>
        </p:blipFill>
        <p:spPr>
          <a:xfrm>
            <a:off x="914400" y="1355760"/>
            <a:ext cx="5562720" cy="4449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798240" y="28954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904720" y="601992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донная проп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6553080" y="6019920"/>
            <a:ext cx="609840" cy="6094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7086600" y="5943600"/>
            <a:ext cx="151920" cy="228240"/>
            <a:chOff x="7086600" y="5943600"/>
            <a:chExt cx="151920" cy="228240"/>
          </a:xfrm>
        </p:grpSpPr>
        <p:sp>
          <p:nvSpPr>
            <p:cNvPr id="146" name="Line 12"/>
            <p:cNvSpPr/>
            <p:nvPr/>
          </p:nvSpPr>
          <p:spPr>
            <a:xfrm flipH="1">
              <a:off x="7086600" y="5943600"/>
              <a:ext cx="7776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7162560" y="5943600"/>
              <a:ext cx="7596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 rot="5400000">
            <a:off x="-2676600" y="2981160"/>
            <a:ext cx="6486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енировочные упраж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905120" y="380880"/>
            <a:ext cx="58672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гадай-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0" name="Picture 6" descr="00008879"/>
          <p:cNvPicPr/>
          <p:nvPr/>
        </p:nvPicPr>
        <p:blipFill>
          <a:blip r:embed="rId1"/>
          <a:stretch/>
        </p:blipFill>
        <p:spPr>
          <a:xfrm>
            <a:off x="1828800" y="1066680"/>
            <a:ext cx="2778120" cy="381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00008874"/>
          <p:cNvPicPr/>
          <p:nvPr/>
        </p:nvPicPr>
        <p:blipFill>
          <a:blip r:embed="rId2"/>
          <a:stretch/>
        </p:blipFill>
        <p:spPr>
          <a:xfrm>
            <a:off x="1828800" y="3962520"/>
            <a:ext cx="2819520" cy="1806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5824080" y="2592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251680" y="35053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ная вещ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5334120" y="3505320"/>
            <a:ext cx="609480" cy="6094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5867280" y="3429000"/>
            <a:ext cx="228240" cy="228240"/>
            <a:chOff x="5867280" y="3429000"/>
            <a:chExt cx="228240" cy="228240"/>
          </a:xfrm>
        </p:grpSpPr>
        <p:sp>
          <p:nvSpPr>
            <p:cNvPr id="156" name="Line 12"/>
            <p:cNvSpPr/>
            <p:nvPr/>
          </p:nvSpPr>
          <p:spPr>
            <a:xfrm flipH="1">
              <a:off x="5867280" y="342900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5981400" y="342900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5485320" y="44974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це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6400800" y="4495680"/>
            <a:ext cx="609480" cy="60984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6934320" y="4419720"/>
            <a:ext cx="228240" cy="228240"/>
            <a:chOff x="6934320" y="4419720"/>
            <a:chExt cx="228240" cy="228240"/>
          </a:xfrm>
        </p:grpSpPr>
        <p:sp>
          <p:nvSpPr>
            <p:cNvPr id="161" name="Line 17"/>
            <p:cNvSpPr/>
            <p:nvPr/>
          </p:nvSpPr>
          <p:spPr>
            <a:xfrm flipH="1">
              <a:off x="6934320" y="4419720"/>
              <a:ext cx="116640" cy="22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7048440" y="4419720"/>
              <a:ext cx="1141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Line 19"/>
          <p:cNvSpPr/>
          <p:nvPr/>
        </p:nvSpPr>
        <p:spPr>
          <a:xfrm>
            <a:off x="5791320" y="3886200"/>
            <a:ext cx="2872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1981080" y="15228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орочный диктан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523880" y="1752480"/>
            <a:ext cx="1447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5638680" y="167652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н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874120" y="25160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ный плу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09360" y="25909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ной п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5640" y="297324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счаная отм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7480" y="34290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овяной скл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983840" y="28954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оменная подсти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55480" y="38862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яный пр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701640" y="42670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аная кур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403600" y="327672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чанная кап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557680" y="36576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тье дли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105160" y="40384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ревянная мод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64200" y="441972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ная галер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16:07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