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98E-D2D7-4846-8185-638824F4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DEE-E6ED-4A4F-B094-784616AE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A86-5A8B-4570-B0B2-0C59269E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F33-2759-490B-81CA-5836D2F3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5B4-CF20-4208-9D5C-D0D14D0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06B-440B-4076-B991-50D464E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D5F-2523-4E7C-9B2F-86C5E46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3D1-C81A-4B9D-81B6-674770D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3A5-7E32-4641-A72D-4BB294A1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0F7-03A3-4658-A149-93F527D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A2A-4B24-4CC4-898C-EDF9B2B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00E-9B98-4D73-8C54-38A656F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3A1-C867-4F4F-85A1-43ADE5E53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i-mummi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ние и разрушение почв. Охрана поч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40360" y="6093000"/>
            <a:ext cx="47448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14760" y="26028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ВА  ДОРОЖЕ ЗО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 Почва нуждается в бережном отношении, так как она легко разрушается, смывается и сдувается ве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нужно делать для защиты от              разрушения поч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908000" y="1844640"/>
            <a:ext cx="525636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1834920" y="3429000"/>
            <a:ext cx="108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5364000" y="3429000"/>
            <a:ext cx="1152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24000" y="4581360"/>
            <a:ext cx="2354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788000" y="4581360"/>
            <a:ext cx="26431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равильно обрабатывая почву, высаживая лесозащитные полосы, засыпая промоины, проводя другие работы, человек может спасти почву, сохранить её плодородие. В охране почвы большую роль можете оказать и вы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85186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СТ НА ЗАКРЕП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Какая главная часть поч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воздух                  с)перегной                    я)г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Что используют растения для пит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перегной              б)микробы                    в)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Как называется наука, которая изучает живую природ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ботаника              о) биология                  в)зо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Что образуется из остатков умерших растений и животных под действием микроб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)песок                   й) перегной                  д)г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К какой природе можно отнести почв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)к живой природе     н)к неживой природ    с)неживая и живая в почве соединя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Слой земли, на котором растут рас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)почва                  з)песок                         м)г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Вещество, повышающее плодородие поч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)воздух                в)перегной                   щ)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Одна из составных частей поч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)камень               о)песок                         п)гран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4175280" y="649116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лово получ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СВ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зовите основное свойство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71640" y="40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д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427640" y="404640"/>
            <a:ext cx="3600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71640" y="141300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делает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427640" y="1413000"/>
            <a:ext cx="360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делает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971640" y="2205000"/>
            <a:ext cx="345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ир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427640" y="2205000"/>
            <a:ext cx="3600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ах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971640" y="306864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427640" y="3068640"/>
            <a:ext cx="360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971640" y="3860640"/>
            <a:ext cx="34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4427640" y="3860640"/>
            <a:ext cx="3600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2050920" y="4024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р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55640" y="1557360"/>
            <a:ext cx="712944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я на уроке мы узн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404640"/>
            <a:ext cx="3456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д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427640" y="404640"/>
            <a:ext cx="3600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141300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делает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27640" y="1413000"/>
            <a:ext cx="360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делает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971640" y="2205000"/>
            <a:ext cx="345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ир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427640" y="2205000"/>
            <a:ext cx="3600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71640" y="306864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4427640" y="3068640"/>
            <a:ext cx="360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71640" y="3860640"/>
            <a:ext cx="34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427640" y="3860640"/>
            <a:ext cx="3600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050920" y="4024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р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ать понятия о составе почвы, её свойств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установить причинно-следственные связи между  растениями, животными,  микроорганизм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работы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« Волшебная кладова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по опорным сх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646464">
                  <a:alpha val="12156"/>
                </a:srgbClr>
              </a:gs>
              <a:gs pos="50000">
                <a:srgbClr val="000000"/>
              </a:gs>
              <a:gs pos="100000">
                <a:srgbClr val="646464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684360" y="1989000"/>
            <a:ext cx="3963960" cy="3497400"/>
          </a:xfrm>
          <a:prstGeom prst="ellipse">
            <a:avLst/>
          </a:prstGeom>
          <a:gradFill rotWithShape="0">
            <a:gsLst>
              <a:gs pos="0">
                <a:srgbClr val="8c8cc5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fbfdfd"/>
              </a:gs>
            </a:gsLst>
            <a:lin ang="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211640" y="2997360"/>
            <a:ext cx="378144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0f0f0"/>
              </a:gs>
            </a:gsLst>
            <a:lin ang="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РЕГ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fbfdfd"/>
              </a:gs>
            </a:gsLst>
            <a:lin ang="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СОК, 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0f0f0"/>
              </a:gs>
            </a:gsLst>
            <a:lin ang="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fbfdfd"/>
              </a:gs>
            </a:gsLst>
            <a:lin ang="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ИК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187280" y="2997360"/>
            <a:ext cx="2592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3348000" y="1700280"/>
            <a:ext cx="431964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0f0f0"/>
              </a:gs>
            </a:gsLst>
            <a:lin ang="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ЗДУ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187280" y="476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удесная клад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175280" y="630864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333360"/>
            <a:ext cx="7991280" cy="561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– потреб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почва для живых организмов? Образование поч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 -- экспе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разрушается поч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– Юные хранители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ужно делать для охраны почв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995640" y="587700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3924360" y="630864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орная схема д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95640" y="1413000"/>
            <a:ext cx="4392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то участвует в образовании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1692000" y="2781360"/>
            <a:ext cx="1366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68360" y="3716280"/>
            <a:ext cx="18493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635280" y="2781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050920" y="4869000"/>
            <a:ext cx="24987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5148360" y="2781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067280" y="4076640"/>
            <a:ext cx="208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6156360" y="278136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724360" y="4797360"/>
            <a:ext cx="28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276640" y="595152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3851280" y="6093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чва не может появиться без живых существ. И растениям, и животным необходима почва. Получается всё в природе взаимосвяза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76640" y="638172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3851280" y="566100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орная схема д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195640" y="1413000"/>
            <a:ext cx="4392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ЗРУШЕНИЕ ПОЧ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1692000" y="2781360"/>
            <a:ext cx="1366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360" y="3645000"/>
            <a:ext cx="18493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охим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635280" y="2781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050920" y="5373720"/>
            <a:ext cx="24987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5148360" y="2781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67280" y="4076640"/>
            <a:ext cx="208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ровая э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6156360" y="278136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724360" y="4797360"/>
            <a:ext cx="28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ая э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 flipH="1">
            <a:off x="2556000" y="2781360"/>
            <a:ext cx="792000" cy="17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258920" y="4581360"/>
            <a:ext cx="21398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276640" y="587700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924360" y="6237360"/>
            <a:ext cx="49687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университет –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-mumm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1:00:25Z</dcterms:created>
  <dc:creator>UserXP</dc:creator>
  <dc:description/>
  <dc:language>en-US</dc:language>
  <cp:lastModifiedBy>a</cp:lastModifiedBy>
  <dcterms:modified xsi:type="dcterms:W3CDTF">2011-11-28T02:54:21Z</dcterms:modified>
  <cp:revision>5</cp:revision>
  <dc:subject/>
  <dc:title>Образование и разрушение почв. Охрана почв.</dc:title>
</cp:coreProperties>
</file>