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0BC-2CF4-4E48-A602-693860D8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BD2-2128-458F-AE7C-F3C141FB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1B0-BA0C-4C4A-BE4D-390A8F37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EAF-191F-4176-98ED-57BC1F30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84FD-2D80-478F-A231-730D8BA9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2EAD-A0AE-47CC-BB00-6FA0280C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5EAA-E17B-4A9C-83AE-26A304A0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2549-F111-4A92-8A38-BECAD3D7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DC50-5FBB-4725-996C-29AF94D5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5AD3-C411-4536-90E0-C60F6ACA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4D11-04F1-4FC4-BD0D-DC991DB6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AB1-EB61-4A5A-AC7B-454B8827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0EAF-2900-4443-9E90-CC418CC0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4B7B-C13F-4467-ACB5-BD21387A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C8C4-C7DB-4C69-A088-BB538A96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11B6-CCBC-48F7-B141-2440BD89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B6FD-3CB4-4AB3-B144-0983DF47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5B0-31F7-4F53-97ED-926BFEEC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68B-8D25-454B-B9AD-A11638BA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11F-9CC9-4ED3-AF62-F0D7346A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8CE-58D9-4BD1-9854-D29E2A67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A69-DC4A-4B30-AF1A-6E19796C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B82-6BE5-46C8-A532-B8B8F4AA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194-E6DF-4632-88D8-4045327C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AA96-A589-4CDE-BC67-FF3FD86637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6A45-1480-45B2-BCDC-6D413D5C137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447920" y="304920"/>
            <a:ext cx="7467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Базовая форма лодочка (катамаран)</a:t>
            </a:r>
            <a:endParaRPr b="0" lang="en-US" sz="12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4748040" y="1204920"/>
            <a:ext cx="2486160" cy="2690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4"/>
          <a:stretch/>
        </p:blipFill>
        <p:spPr>
          <a:xfrm>
            <a:off x="1447920" y="1498680"/>
            <a:ext cx="2324160" cy="2208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2438280" y="1066680"/>
            <a:ext cx="1371600" cy="276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 Narrow"/>
              </a:rPr>
              <a:t>Схема №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5"/>
          <a:stretch/>
        </p:blipFill>
        <p:spPr>
          <a:xfrm>
            <a:off x="5991120" y="4114800"/>
            <a:ext cx="2898720" cy="2449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6"/>
          <a:stretch/>
        </p:blipFill>
        <p:spPr>
          <a:xfrm>
            <a:off x="2324160" y="4290840"/>
            <a:ext cx="289548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752480" y="228600"/>
            <a:ext cx="3733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Схема оригами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 “</a:t>
            </a: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Лодка”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6"/>
          <a:srcRect l="0" t="0" r="999" b="38144"/>
          <a:stretch/>
        </p:blipFill>
        <p:spPr>
          <a:xfrm>
            <a:off x="5562720" y="2057400"/>
            <a:ext cx="2725560" cy="7430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5486400" y="3429000"/>
            <a:ext cx="3297240" cy="1006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 Narrow"/>
              </a:rPr>
              <a:t>1. Сгибаем и разгибаем квадрат посредине;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 Narrow"/>
              </a:rPr>
              <a:t>2. Сгибаем к середине верхнюю и нижнюю четверти;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 Narrow"/>
              </a:rPr>
              <a:t>3. Загибаем все четыре угла прямоугольника;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 Narrow"/>
              </a:rPr>
              <a:t>4. Загибаем левые верхнюю и нижнюю части фигуры;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1900080" y="2017800"/>
            <a:ext cx="2443320" cy="1919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8"/>
          <a:stretch/>
        </p:blipFill>
        <p:spPr>
          <a:xfrm>
            <a:off x="6754680" y="190440"/>
            <a:ext cx="2197080" cy="162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9"/>
          <a:stretch/>
        </p:blipFill>
        <p:spPr>
          <a:xfrm>
            <a:off x="1389240" y="4356000"/>
            <a:ext cx="3722400" cy="8748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1523880" y="5486400"/>
            <a:ext cx="6248520" cy="824040"/>
          </a:xfrm>
          <a:prstGeom prst="rect">
            <a:avLst/>
          </a:prstGeom>
          <a:solidFill>
            <a:srgbClr val="a6a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 Narrow"/>
              </a:rPr>
              <a:t>5. Повторяем с правой частью;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 Narrow"/>
              </a:rPr>
              <a:t>6. Загибаем к центру верхнюю и нижнюю вершины ромба;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 Narrow"/>
              </a:rPr>
              <a:t>7. Разворачиваем верхние слои бумаги;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 Narrow"/>
              </a:rPr>
              <a:t>8. Переворачиваем фигуру и  получаем своё судёнышко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3"/>
          <p:cNvSpPr txBox="1"/>
          <p:nvPr/>
        </p:nvSpPr>
        <p:spPr>
          <a:xfrm>
            <a:off x="1295280" y="3597120"/>
            <a:ext cx="13352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Narrow"/>
              </a:rPr>
              <a:t>Звезда</a:t>
            </a:r>
            <a:endParaRPr b="0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295280" y="4414680"/>
            <a:ext cx="23623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 Narrow"/>
              </a:rPr>
              <a:t>Шестнадцатимодульная звезда является прекрасным украшением не только елки, но и любого интерьера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 Narrow"/>
              </a:rPr>
              <a:t>  </a:t>
            </a:r>
            <a:r>
              <a:rPr b="0" lang="ru-RU" sz="1200" spc="-1" strike="noStrike">
                <a:solidFill>
                  <a:srgbClr val="333300"/>
                </a:solidFill>
                <a:latin typeface="Arial Narrow"/>
              </a:rPr>
              <a:t>Для складывания годится любая бумага, но особенно красивыми получаются такие звёзды из блестящей новогодней упаковочной бумаги, хотя складывать из неё модель заметно сложнее. Вам потребуется 16 квадрат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2819520" y="3132000"/>
            <a:ext cx="1218960" cy="1203480"/>
          </a:xfrm>
          <a:prstGeom prst="rect">
            <a:avLst/>
          </a:prstGeom>
          <a:ln w="0">
            <a:noFill/>
          </a:ln>
        </p:spPr>
      </p:pic>
      <p:sp>
        <p:nvSpPr>
          <p:cNvPr id="178" name="WordArt 4"/>
          <p:cNvSpPr txBox="1"/>
          <p:nvPr/>
        </p:nvSpPr>
        <p:spPr>
          <a:xfrm>
            <a:off x="6629400" y="3733920"/>
            <a:ext cx="190512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Narrow"/>
              </a:rPr>
              <a:t>Кусудама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524560" y="4414680"/>
            <a:ext cx="32209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 Narrow"/>
              </a:rPr>
              <a:t>Одной из популярных разновидностей оригами является модульное оригами, в котором целая фигура собирается из многих одинаковых частей (модулей). Каждый модуль складывается по правилам классического оригами из одного листа бумаги, а затем модули соединяются путём вкладывания их друг в друга, появляющаяся при этом сила трения не даёт конструкции распасться. Одним из наиболее часто встречающихся объектов модульного оригами является кусудама, объёмное тело шарообразной формы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4710240" y="2860560"/>
            <a:ext cx="1628640" cy="163368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>
            <a:off x="2954160" y="1523880"/>
            <a:ext cx="403884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Модульное оригами   </a:t>
            </a:r>
            <a:endParaRPr b="0" lang="en-US" sz="12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82" name="WordArt 2"/>
          <p:cNvSpPr txBox="1"/>
          <p:nvPr/>
        </p:nvSpPr>
        <p:spPr>
          <a:xfrm>
            <a:off x="2502000" y="185760"/>
            <a:ext cx="482112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Narrow"/>
              </a:rPr>
              <a:t>Мастер класс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2243160" y="895320"/>
            <a:ext cx="51055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Для родителей группы №5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1668600" y="2117880"/>
            <a:ext cx="661176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Narrow"/>
              </a:rPr>
              <a:t>Провела   Завьялова  Татьяна Анатольевна</a:t>
            </a:r>
            <a:endParaRPr b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714680" y="241200"/>
            <a:ext cx="2865240" cy="2722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5410080" y="3843360"/>
            <a:ext cx="2311560" cy="2146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DSC06014"/>
          <p:cNvPicPr/>
          <p:nvPr/>
        </p:nvPicPr>
        <p:blipFill>
          <a:blip r:embed="rId3"/>
          <a:stretch/>
        </p:blipFill>
        <p:spPr>
          <a:xfrm>
            <a:off x="5181480" y="838080"/>
            <a:ext cx="2667240" cy="2212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4"/>
          <a:stretch/>
        </p:blipFill>
        <p:spPr>
          <a:xfrm>
            <a:off x="1967040" y="3429000"/>
            <a:ext cx="23619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2-03-04T17:53:5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