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C76-814B-4F84-A414-638B1DAD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6C6-DF9F-4AC0-91AE-15E739D9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645-1140-4DF5-80A1-5BDE60DA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4CF-0DAD-4F72-9C31-00EB1CF1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85F-5E05-48B2-9D5E-DCD116D2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055-E75B-4B92-9920-B1C0B67B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923-BA75-476F-BDFA-DDBBBBA3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8C2-711D-45AB-B459-C9655106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A30-8500-495B-8431-D5A5FBC7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B0D-E8AC-4071-9C15-6B048E38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DDE-0FFF-4401-B45D-028E96E2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BA8A-9BC7-4114-8D9A-D0F973E7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8B4D-B567-471B-AD79-25FC9E828F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1760" y="2428920"/>
            <a:ext cx="6029280" cy="171432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онятие правовой культур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571680" y="746280"/>
            <a:ext cx="4214520" cy="1739880"/>
          </a:xfrm>
          <a:prstGeom prst="rect">
            <a:avLst/>
          </a:prstGeom>
          <a:solidFill>
            <a:srgbClr val="ffffff"/>
          </a:solidFill>
          <a:ln w="284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 правого общения в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селения  (соблюдение закон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злоупотребления власть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етентность, гарантирова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 и своб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900000" y="3879720"/>
            <a:ext cx="3743280" cy="1465560"/>
          </a:xfrm>
          <a:prstGeom prst="rect">
            <a:avLst/>
          </a:prstGeom>
          <a:solidFill>
            <a:srgbClr val="ffffff"/>
          </a:solidFill>
          <a:ln w="284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 правов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и (необходим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сылка и созида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правого состоя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5929200" y="2790720"/>
            <a:ext cx="2428920" cy="1465560"/>
          </a:xfrm>
          <a:prstGeom prst="rect">
            <a:avLst/>
          </a:prstGeom>
          <a:solidFill>
            <a:srgbClr val="ffffff"/>
          </a:solidFill>
          <a:ln w="28440">
            <a:solidFill>
              <a:srgbClr val="558e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развития                                                                              прав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уры 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6"/>
          <p:cNvSpPr/>
          <p:nvPr/>
        </p:nvSpPr>
        <p:spPr>
          <a:xfrm rot="1227600">
            <a:off x="4795920" y="2610000"/>
            <a:ext cx="1071360" cy="214200"/>
          </a:xfrm>
          <a:prstGeom prst="rightArrow">
            <a:avLst>
              <a:gd name="adj1" fmla="val 18398"/>
              <a:gd name="adj2" fmla="val 93480"/>
            </a:avLst>
          </a:prstGeom>
          <a:solidFill>
            <a:srgbClr val="b9cde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право 7"/>
          <p:cNvSpPr/>
          <p:nvPr/>
        </p:nvSpPr>
        <p:spPr>
          <a:xfrm rot="20631600">
            <a:off x="4778280" y="3569760"/>
            <a:ext cx="1071720" cy="214560"/>
          </a:xfrm>
          <a:prstGeom prst="rightArrow">
            <a:avLst>
              <a:gd name="adj1" fmla="val 18398"/>
              <a:gd name="adj2" fmla="val 93355"/>
            </a:avLst>
          </a:prstGeom>
          <a:solidFill>
            <a:srgbClr val="b9cde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28760" y="285840"/>
            <a:ext cx="8229600" cy="592920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овая культура часть культуры общества, т.е. система ценностей, убеждений, образцов и норм поведения, присущих обществу и личности той или иной страны на том или ином этапе ее существов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а пронизывае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онодательств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осозна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оотнош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жим закон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жившийся правопоряд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28760" y="142920"/>
            <a:ext cx="8229600" cy="657216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вая культура обеспечивает единство и взаимодействие правовых институтов и организаций, поддерживает целостность и интегрированность общественной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вая культура, как часть духовной культуры, характеризует качественное состояние правовой жизни общества, которое выражается в достигнутом уровне правотворческой и правореализующей  деятельности, правосознания и правоотношений, степени гарантированности государством и гражданским обществом интересов и прав гражд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вая культура – это комплекс правил, на основе которых во всех областях жизни, подпадающих под нормы права, строятся взаимоотношения и действия людей, а также других юридических л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642600"/>
            <a:ext cx="8229600" cy="535788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осознание – совокупность представлений о праве. В правосознании формируются суждения о том, каковы должны быть нормы права и правопорядок, как нужно их понимать и толковать, как следует относиться к действующим в государстве юридическим законам и к правоохранительным органам, что можно и что нельзя делать в тех или иных конкретных услови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о и правосознание – это два основных компонента правовой культу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28760" y="500040"/>
            <a:ext cx="8229600" cy="550080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и правовой культур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циализации – путем целенаправленной воспитательной  работы формируются правовые качества лич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муникативная – правовая культура влияет на общение граждан в юридической сфере жизни общества, на освоение правовых культур других народов и эпо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ностно-нормативная – правовые нормы и составляющие правовой культуры общества приобретают ценностный характер, т.е. выступают объектами оцен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8440" y="2000160"/>
            <a:ext cx="7157880" cy="192888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Правовая культура населения</a:t>
            </a:r>
            <a:br>
              <a:rPr sz="54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356760"/>
            <a:ext cx="8229600" cy="214308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ридические законы создаются для того, чтобы регулировать поведение людей в обществе. Выполнить эту задачу возможно только тогда, когда между правовой системой государства и уровнем массового правосознания граждан существует какое-то соответств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1571760" y="3603600"/>
            <a:ext cx="2214360" cy="1739880"/>
          </a:xfrm>
          <a:prstGeom prst="rect">
            <a:avLst/>
          </a:prstGeom>
          <a:solidFill>
            <a:srgbClr val="ffffff">
              <a:alpha val="66000"/>
            </a:srgbClr>
          </a:solidFill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жени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одатель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вых представлений, господствующих в общест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5427720" y="3714840"/>
            <a:ext cx="2355480" cy="1465560"/>
          </a:xfrm>
          <a:prstGeom prst="rect">
            <a:avLst/>
          </a:prstGeom>
          <a:solidFill>
            <a:srgbClr val="ffffff">
              <a:alpha val="66000"/>
            </a:srgbClr>
          </a:solidFill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прав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уры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массо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сознан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опослуш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право 5"/>
          <p:cNvSpPr/>
          <p:nvPr/>
        </p:nvSpPr>
        <p:spPr>
          <a:xfrm>
            <a:off x="4000680" y="4000680"/>
            <a:ext cx="1214280" cy="3571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2f2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право 6"/>
          <p:cNvSpPr/>
          <p:nvPr/>
        </p:nvSpPr>
        <p:spPr>
          <a:xfrm rot="10800000">
            <a:off x="4000320" y="4572000"/>
            <a:ext cx="1214280" cy="3571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571320"/>
            <a:ext cx="8229600" cy="550044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ьность выступает как воплощенное в действительность, объективированное выражение правовой культуры. Правовая культура фиксируется не только в юридических документах, но и сложившейся в обществе практике поведения людей, деятельности правоохранительных органов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порядок и его нарушение – явления социальной действительности, обусловленные сложившейся в обществе правовой культурой. Правонарушения – это результат противоречия между  правосознанием людей и закон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. Маколей «Закон – не больше, чем клочок бумаги, пока общественное мнение не вдохнет дыхание в мертвую букв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402840"/>
            <a:ext cx="8229600" cy="5668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овая культура предполагает определенный уровень правового мышления и эмоционально-чувственного восприятия правовой действи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овая культура зависит от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воения населением правовых явлений (ценность прав и свобод, поиск компромиссов и т.д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ированности населения о действующем законодательств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ношения населения к закону, суду, различным правоохранительным орган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12-03-04T08:03:56Z</dcterms:modified>
  <cp:revision>14</cp:revision>
  <dc:subject/>
  <dc:title>Понятие правовой культуры</dc:title>
</cp:coreProperties>
</file>