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35E9-D03C-4308-A321-4DA8DC854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7633-2B5E-40C3-A555-7804DDC6CD49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етарий – 1) Устройство, показывающее движение планет и других светил на полусферическом экране-куполе. 2) Зрелищное и научно – просветительское учреждение, где при помощи такого устройства показывается искусственное звездное неб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A21A-D0EC-45CA-9FE1-6C24A7CF5BA7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D318-FC9D-4481-AD96-BFEF9224067D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A56F-5F69-4F11-885A-F2A3E496CF69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35CF-ED60-4F0F-A878-E9ABA5025E15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5FA8-1287-464A-82CB-5CB5D8AFA198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CA8-C8E9-4B46-9C0B-27C63D81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816-75CF-459D-AE66-F225ED93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B0E-A95C-443A-B58F-213F18D4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650-4A6F-4AD8-9003-FACFD435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5ED6-84B8-4AE1-9D60-38518DAD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2D3E-8986-4098-80C5-B3F49397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2BC7-EF16-489A-97E9-BBB6449A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F6BD-789A-48D7-9D92-7BD1C7D8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CAE7-6A5A-40D1-A771-06871EA5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E50-5255-4ED2-8842-24A3551D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7BF4-1059-4E1D-BDB2-4F0CA469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A53-426D-4024-BA12-F5D66F6B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6796-8F72-4184-9307-14973B7A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146B-AA3C-448B-AD9F-56F86C5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AFE-AF2A-4624-B189-E2D77A9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1E52-3F52-4883-B2B2-28F00BE4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BC41-C9CF-4FD1-82CA-3E063679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813-1D70-41D6-A7B2-D2629A58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F3E-02B6-44DA-8FDD-22C358AC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FA1-E1DA-4597-824F-099E6F20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93F-D7CE-48EA-A7E5-0FF1DB79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421-FDC2-4A96-B734-1869DC9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480-17D0-423D-96E2-032ED2D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98F-D8FC-4720-9DA8-D24B798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B379-7C88-4DA4-A7B5-FFA3CF2F24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0880" cy="6130800"/>
              <a:chOff x="5409360" y="61560"/>
              <a:chExt cx="362088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6920"/>
                  <a:gd name="textAreaBottom" fmla="*/ 2356920 h 23569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120"/>
                <a:ext cx="906120" cy="84240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9092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560" y="264528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640" y="2930760"/>
                <a:ext cx="523440" cy="326772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8440"/>
              <a:ext cx="892800" cy="825840"/>
              <a:chOff x="5652360" y="29844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304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81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61400"/>
              <a:ext cx="1059480" cy="830880"/>
              <a:chOff x="968400" y="526140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76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600"/>
                <a:ext cx="448920" cy="1278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7104-8445-42DE-8893-8CF6FCC2C21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2002wht6"/>
          <p:cNvPicPr/>
          <p:nvPr/>
        </p:nvPicPr>
        <p:blipFill>
          <a:blip r:embed="rId1"/>
          <a:stretch/>
        </p:blipFill>
        <p:spPr>
          <a:xfrm>
            <a:off x="-304920" y="-334800"/>
            <a:ext cx="9677520" cy="71928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4876920" y="22860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нетарий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34113_enl"/>
          <p:cNvPicPr/>
          <p:nvPr/>
        </p:nvPicPr>
        <p:blipFill>
          <a:blip r:embed="rId1"/>
          <a:stretch/>
        </p:blipFill>
        <p:spPr>
          <a:xfrm>
            <a:off x="-685800" y="-122400"/>
            <a:ext cx="1059192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25785386567256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914400" y="762120"/>
            <a:ext cx="7539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 уроке астрономи… учитель сделал объявление об экскурси… в планетарий. Встретиться мы решили в здани… планетария. И вот мы отправились в путешествие по звездному небу. Очень интересно было узнавать о движени… звезд и планет. В конце экскурси… нам рассказали о професси… космонавта. Еще долго потом мы вспоминали о заняти… в планетари…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411520" y="68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93576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982520" y="198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716440" y="3276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571644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259240" y="4114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2211120" y="495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4878360" y="495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VER0236_NS-220A-1A-2-0"/>
          <p:cNvPicPr/>
          <p:nvPr/>
        </p:nvPicPr>
        <p:blipFill>
          <a:blip r:embed="rId1"/>
          <a:stretch/>
        </p:blipFill>
        <p:spPr>
          <a:xfrm>
            <a:off x="2743200" y="6094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f_star"/>
          <p:cNvPicPr/>
          <p:nvPr/>
        </p:nvPicPr>
        <p:blipFill>
          <a:blip r:embed="rId1"/>
          <a:stretch/>
        </p:blipFill>
        <p:spPr>
          <a:xfrm>
            <a:off x="2209680" y="3129120"/>
            <a:ext cx="4572000" cy="37288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533520" y="68580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ланетарий – устройство, показывающее движение планет и других светил на полусферическом экране –куполе; зрелищное и научно-просветительское учреждение, где при помощи такого устройства показывается искусственное звёздное неб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828800" y="380880"/>
            <a:ext cx="56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скурсия в планетарий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3" descr="359127679"/>
          <p:cNvPicPr/>
          <p:nvPr/>
        </p:nvPicPr>
        <p:blipFill>
          <a:blip r:embed="rId1"/>
          <a:stretch/>
        </p:blipFill>
        <p:spPr>
          <a:xfrm>
            <a:off x="685800" y="1066680"/>
            <a:ext cx="79246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402920" y="1905120"/>
            <a:ext cx="63284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Повторение правила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правописани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безударных окончаний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имен существительных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на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–ий, -ие, -ия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1371600" y="9144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Тема урока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72040" y="1447920"/>
            <a:ext cx="770796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У слов на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–ий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-ие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в П.п. 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у слов на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–ия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в Р.п. Д.п. и П.п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пишется окончание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–и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685800" y="8380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Правило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609480" y="99072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457200"/>
            <a:ext cx="2514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ланетар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.п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утешеств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.п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кскурс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.п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.п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.п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31600" y="8380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говорю о чем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410080" y="838080"/>
            <a:ext cx="23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 планетари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731600" y="228600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говорю о чем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385960" y="22096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 путешестви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725480" y="37339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т чего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731240" y="44956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д чему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731600" y="5181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говорю о чем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5393160" y="37339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кскурси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5393160" y="449568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кскурси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5410440" y="51814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 экскурси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39720" y="914400"/>
            <a:ext cx="76514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Вывод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У слов на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–ий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-ие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в П.п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и у слов на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–ия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в Р.п., Д.п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и П.п. пишется окончание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–и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artistsimpression"/>
          <p:cNvPicPr/>
          <p:nvPr/>
        </p:nvPicPr>
        <p:blipFill>
          <a:blip r:embed="rId1"/>
          <a:stretch/>
        </p:blipFill>
        <p:spPr>
          <a:xfrm>
            <a:off x="-228600" y="0"/>
            <a:ext cx="1013472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РТ</cp:lastModifiedBy>
  <dcterms:modified xsi:type="dcterms:W3CDTF">2012-02-14T12:50:4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