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83D-BB91-41ED-A4B3-76044CBF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D2B-A3B5-4242-8610-1F437336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358-95BD-46F4-B1EA-F9F51514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1E6-3F1D-43DC-81F9-989D2FF0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8DF-4CD2-46C3-B6C1-6486CF90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197E-28EB-4A7D-98FE-88493F74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4995-4193-4C2F-A5A0-3A6FFC19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0D44-68B6-4CCD-A05A-9774792B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BC1A-2D01-488A-9A6E-FE50047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7A70-1C9A-4ADC-B86B-22B0EC41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A2A-F69F-4007-BBDC-606AED3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2A3-BA64-4C37-A990-BA2F28F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629F-3F99-4750-A223-0113C1FA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EB24-3D99-43B1-9601-F983CBC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9635-08DF-45AD-8E09-F2118FC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65E7-064F-4073-AA2E-182B333B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FCAC-64BB-4F88-AA8E-547D2F0D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071-D672-4279-A187-EB70D993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715-1E20-4BFB-B48B-03BA87C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26F-03B7-4F60-951C-D3D9B02D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16B-460D-4160-86C0-D35A659C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1DC-09AE-4B73-A2D7-086F630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8D8-B8D5-4F7D-A1F9-A868D7E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967-348B-4E77-8E94-04794C0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3D8-4353-4961-868C-6C4031B96AC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F38F-9078-4EB7-AB1A-E481F6375C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12144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ложные предл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Organization Chart 7"/>
          <p:cNvGrpSpPr/>
          <p:nvPr/>
        </p:nvGrpSpPr>
        <p:grpSpPr>
          <a:xfrm>
            <a:off x="755640" y="1557360"/>
            <a:ext cx="7200360" cy="4127760"/>
            <a:chOff x="755640" y="1557360"/>
            <a:chExt cx="7200360" cy="412776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202720" y="2360880"/>
              <a:ext cx="826200" cy="2520720"/>
            </a:xfrm>
            <a:prstGeom prst="bentConnector3">
              <a:avLst>
                <a:gd name="adj1" fmla="val 499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rot="16200000">
              <a:off x="3942720" y="3621240"/>
              <a:ext cx="8262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682720" y="2361240"/>
              <a:ext cx="826200" cy="2520360"/>
            </a:xfrm>
            <a:prstGeom prst="bentConnector3">
              <a:avLst>
                <a:gd name="adj1" fmla="val 499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1031"/>
            <p:cNvSpPr/>
            <p:nvPr/>
          </p:nvSpPr>
          <p:spPr>
            <a:xfrm>
              <a:off x="3275640" y="1557360"/>
              <a:ext cx="2160000" cy="1650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ложносочине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редложе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_s1032"/>
            <p:cNvSpPr/>
            <p:nvPr/>
          </p:nvSpPr>
          <p:spPr>
            <a:xfrm>
              <a:off x="755640" y="4034160"/>
              <a:ext cx="2160000" cy="1650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оединительным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оюзам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_s1033"/>
            <p:cNvSpPr/>
            <p:nvPr/>
          </p:nvSpPr>
          <p:spPr>
            <a:xfrm>
              <a:off x="3275640" y="4034160"/>
              <a:ext cx="2160000" cy="1650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ротивительным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оюзам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5796000" y="4034160"/>
              <a:ext cx="2160000" cy="1650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зделительным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оюзам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74898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остые предложения, входящие в состав сложносочиненных, отделяются друг от друга запят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Шелестя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зелены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ереж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я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еребряные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рос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Запятая перед союзом и не ставится, если он соединяет два вопросительных предлож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буде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обрани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т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буде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нем докладчик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Тире в сложносочиненном предложении вместо запятой выражает быструю смену событий, неожиданность содержания второго предлож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хой треск ракетницы  - и в небе вспыхивают два рассыпчатых зеленых огня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mic Sans MS"/>
              </a:rPr>
              <a:t>Частями сложносочиненных предложений могут быть простые и сложные предложения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ого есть на свете хороших книг, но эти книги хороши для тех людей, которые умеют их чит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сплодной почвы нет, и Сахару можно сделать плодородной. Если работать упорно, с любовь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1042920" y="242100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2556000" y="234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33"/>
          <p:cNvSpPr/>
          <p:nvPr/>
        </p:nvSpPr>
        <p:spPr>
          <a:xfrm>
            <a:off x="255600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35"/>
          <p:cNvSpPr/>
          <p:nvPr/>
        </p:nvSpPr>
        <p:spPr>
          <a:xfrm>
            <a:off x="7093080" y="2349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3780000" y="2852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378000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118728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40"/>
          <p:cNvSpPr/>
          <p:nvPr/>
        </p:nvSpPr>
        <p:spPr>
          <a:xfrm>
            <a:off x="2916360" y="3357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2916360" y="35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4"/>
          <p:cNvSpPr/>
          <p:nvPr/>
        </p:nvSpPr>
        <p:spPr>
          <a:xfrm>
            <a:off x="507672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45"/>
          <p:cNvSpPr/>
          <p:nvPr/>
        </p:nvSpPr>
        <p:spPr>
          <a:xfrm>
            <a:off x="5076720" y="35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46"/>
          <p:cNvSpPr/>
          <p:nvPr/>
        </p:nvSpPr>
        <p:spPr>
          <a:xfrm>
            <a:off x="5076720" y="38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5076720" y="400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48"/>
          <p:cNvSpPr/>
          <p:nvPr/>
        </p:nvSpPr>
        <p:spPr>
          <a:xfrm>
            <a:off x="1187280" y="43657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49"/>
          <p:cNvSpPr/>
          <p:nvPr/>
        </p:nvSpPr>
        <p:spPr>
          <a:xfrm>
            <a:off x="1187280" y="4437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50"/>
          <p:cNvSpPr/>
          <p:nvPr/>
        </p:nvSpPr>
        <p:spPr>
          <a:xfrm>
            <a:off x="1187280" y="4869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51"/>
          <p:cNvSpPr/>
          <p:nvPr/>
        </p:nvSpPr>
        <p:spPr>
          <a:xfrm>
            <a:off x="1187280" y="494172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В мире есть страны, где природа ярче наших полей и лугов, но родная красота должна стать для наших детей самой дорогой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Я не знаю было ли это в действительности так и нет ли вымысла в этой рассказанной мне поэтической новелле, но я хочу, чтобы все это было правдой, потому что нет для меня ничего правдивее и лучше этого рассказа о верности слову и и о силе слова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Леса еще не видно, но в воздухе уже знойно и остро пахнет сосновой смолой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2268360" y="692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268360" y="765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298764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003640" y="692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6372360" y="6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6372360" y="76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6300720" y="10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1042920" y="1413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042920" y="1557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5940360" y="14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5940360" y="155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1042920" y="1773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1042920" y="1844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90000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133200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1332000" y="2276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2700360" y="220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270036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4"/>
          <p:cNvSpPr/>
          <p:nvPr/>
        </p:nvSpPr>
        <p:spPr>
          <a:xfrm>
            <a:off x="4140360" y="2205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493236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493236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291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327672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327672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5867280" y="328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31"/>
          <p:cNvSpPr/>
          <p:nvPr/>
        </p:nvSpPr>
        <p:spPr>
          <a:xfrm>
            <a:off x="651672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32"/>
          <p:cNvSpPr/>
          <p:nvPr/>
        </p:nvSpPr>
        <p:spPr>
          <a:xfrm>
            <a:off x="6516720" y="33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1042920" y="364500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34"/>
          <p:cNvSpPr/>
          <p:nvPr/>
        </p:nvSpPr>
        <p:spPr>
          <a:xfrm>
            <a:off x="1042920" y="371628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4427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442764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37"/>
          <p:cNvSpPr/>
          <p:nvPr/>
        </p:nvSpPr>
        <p:spPr>
          <a:xfrm>
            <a:off x="2627280" y="47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38"/>
          <p:cNvSpPr/>
          <p:nvPr/>
        </p:nvSpPr>
        <p:spPr>
          <a:xfrm>
            <a:off x="2556000" y="486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39"/>
          <p:cNvSpPr/>
          <p:nvPr/>
        </p:nvSpPr>
        <p:spPr>
          <a:xfrm>
            <a:off x="97164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40"/>
          <p:cNvSpPr/>
          <p:nvPr/>
        </p:nvSpPr>
        <p:spPr>
          <a:xfrm>
            <a:off x="97164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41"/>
          <p:cNvSpPr/>
          <p:nvPr/>
        </p:nvSpPr>
        <p:spPr>
          <a:xfrm>
            <a:off x="3564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42"/>
          <p:cNvSpPr/>
          <p:nvPr/>
        </p:nvSpPr>
        <p:spPr>
          <a:xfrm>
            <a:off x="3564000" y="522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10108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ложносочиненные предложения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едложения, в которых простые предложения связываются друг с другом интонацией и сочинительными союзам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54920" cy="17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ложносочиненные предложения с соединительными союза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62624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юзы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, да, да и, а (в значении и), тоже, такж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шно выли провода на столбах,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омыхали вывес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оза разразилась,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ждь освежил томящуюся земл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ложносочиненных предложениях выражаются разнообразные знач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986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ременные знач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осложняются дополнительными значениями причины и следствия, которые могут быть подчеркнуты обстоятельством причи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стародавние годы красавицы умывались первым снегом из серебряного кувшина,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поэтому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никогда не вяла их крас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000" y="549360"/>
            <a:ext cx="734364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чинно – следственные значен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могут быть выражены лексическим наполнением простых предложений, образующих сложно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мер: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е очень понравились эти цветы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я нарвал большой букет. (После союза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но вставить местоимение – наречие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этом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34220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ложносочиненные предложения с противительными союза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юзы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о, и, да (в значении но), однако, за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мер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 проходит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е все забывае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ень учения горек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то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ды его горь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55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 значением союза могут употребляться и частицы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е, только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др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ько песне нужна красота, красоте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песен не над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 не отказываюсь бороться,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только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 буду бороться чест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ложносочиненные предложения с разделительными союза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юзы: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ли (иль), либо, то – то, то ли – то ли и д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б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моя речь произвела сильное впечатление,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б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у колонистов и без того накипе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 л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гречка цветет,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 л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речка теч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-914868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259920"/>
            <a:ext cx="7201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обого внимания требуют сложносочиненные предложения, включающие односоставные предлож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ству здесь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убирал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и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н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ечально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уршал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д ног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ран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но в нем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сть что – т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общее с Иль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9:50:08Z</dcterms:created>
  <dc:creator>Парфирова Лилиана Валерьевна</dc:creator>
  <dc:description/>
  <cp:keywords>учитель русский язык литература презентация открытый урок разработка урока школа конспект</cp:keywords>
  <dc:language>en-US</dc:language>
  <cp:lastModifiedBy>ВСШ 5</cp:lastModifiedBy>
  <dcterms:modified xsi:type="dcterms:W3CDTF">2011-10-02T11:51:53Z</dcterms:modified>
  <cp:revision>7</cp:revision>
  <dc:subject>на тему "Сложные предложения".</dc:subject>
  <dc:title>Урок-презентация по русскому языку в 11 классе на тему "Сложные предложения". www.uroki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ладелец">
    <vt:lpwstr>Парфирова Лилиана Валерьевна</vt:lpwstr>
  </property>
  <property fmtid="{D5CDD505-2E9C-101B-9397-08002B2CF9AE}" pid="3" name="Издатель">
    <vt:lpwstr>www.uroki.net</vt:lpwstr>
  </property>
  <property fmtid="{D5CDD505-2E9C-101B-9397-08002B2CF9AE}" pid="4" name="Ссылка">
    <vt:lpwstr>http://www.uroki.net</vt:lpwstr>
  </property>
</Properties>
</file>