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B1DF-743D-4542-8359-506DB3FBE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302-159F-47AF-9880-FC574300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5FC-1EA0-4503-9B82-10A1DA5E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027-DE2B-4FB7-B294-6F20A9F8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74E-9147-4F55-B8A0-572A29E1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6E3-AC83-420F-809C-47892E5E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B43-A95D-4B30-8272-DB9AC009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EE2-3B75-4B85-8A31-F609A489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303-E8AC-4E21-AF64-4473E682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9A1-0616-478D-B0AE-62947DE1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B98-BB35-4029-ADE4-0D088B7B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0F6-9E69-40A2-880E-7C99915F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0EA-BC35-4F57-A9C4-46DE4D0F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B068-409E-4854-9986-9B6A2F624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hyperlink" Target="http://ermolov.org.ru/gallery/img/ermolov012.jpg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http://www.emc.komi.com/02/13/img/048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95640" y="4723920"/>
            <a:ext cx="28080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оварны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1166800">
            <a:off x="826920" y="2708280"/>
            <a:ext cx="763272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0c0c0"/>
                </a:solidFill>
                <a:latin typeface="Arial"/>
              </a:rPr>
              <a:t>Россия в XIX век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c0c0c0"/>
              </a:solidFill>
              <a:latin typeface="Arial"/>
              <a:ea typeface="Arial"/>
            </a:endParaRPr>
          </a:p>
        </p:txBody>
      </p:sp>
      <p:pic>
        <p:nvPicPr>
          <p:cNvPr id="50" name="i-main-pic" descr="Картинка 1 из 1640"/>
          <p:cNvPicPr/>
          <p:nvPr/>
        </p:nvPicPr>
        <p:blipFill>
          <a:blip r:embed="rId2"/>
          <a:stretch/>
        </p:blipFill>
        <p:spPr>
          <a:xfrm rot="20468400">
            <a:off x="2124000" y="259920"/>
            <a:ext cx="143820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>
            <a:lum bright="20000"/>
          </a:blip>
          <a:stretch/>
        </p:blipFill>
        <p:spPr>
          <a:xfrm rot="352200">
            <a:off x="468000" y="907560"/>
            <a:ext cx="1741320" cy="2016360"/>
          </a:xfrm>
          <a:prstGeom prst="rect">
            <a:avLst/>
          </a:prstGeom>
          <a:ln w="0">
            <a:noFill/>
          </a:ln>
        </p:spPr>
      </p:pic>
      <p:pic>
        <p:nvPicPr>
          <p:cNvPr id="52" name="i-tmb-0x" descr=""/>
          <p:cNvPicPr/>
          <p:nvPr/>
        </p:nvPicPr>
        <p:blipFill>
          <a:blip r:embed="rId4">
            <a:lum bright="20000"/>
          </a:blip>
          <a:stretch/>
        </p:blipFill>
        <p:spPr>
          <a:xfrm rot="465600">
            <a:off x="3634920" y="476280"/>
            <a:ext cx="172080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2424" descr=""/>
          <p:cNvPicPr/>
          <p:nvPr/>
        </p:nvPicPr>
        <p:blipFill>
          <a:blip r:embed="rId5"/>
          <a:stretch/>
        </p:blipFill>
        <p:spPr>
          <a:xfrm rot="20646000">
            <a:off x="5724000" y="259920"/>
            <a:ext cx="1449720" cy="196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042920" y="472428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003640" y="4508640"/>
            <a:ext cx="1641600" cy="194292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1 из 3120">
            <a:hlinkClick r:id="rId8"/>
          </p:cNvPr>
          <p:cNvPicPr/>
          <p:nvPr/>
        </p:nvPicPr>
        <p:blipFill>
          <a:blip r:embed="rId9"/>
          <a:stretch/>
        </p:blipFill>
        <p:spPr>
          <a:xfrm rot="1017000">
            <a:off x="7019640" y="4508640"/>
            <a:ext cx="1514520" cy="1726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7236000" y="549360"/>
            <a:ext cx="1439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маковский отдых во время сбора урожая"/>
          <p:cNvPicPr/>
          <p:nvPr/>
        </p:nvPicPr>
        <p:blipFill>
          <a:blip r:embed="rId2"/>
          <a:stretch/>
        </p:blipFill>
        <p:spPr>
          <a:xfrm>
            <a:off x="179280" y="476280"/>
            <a:ext cx="8686800" cy="6075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1209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ссия в первой четверти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5689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овые работы в хозяйстве помещ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стьяне временно ушедшие на заработки в город или на сельхозработы в другие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людей, обладающих одинаковыми правами и обязанностями, закрепленными обычаями или законами и передающимися по наслед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тизация законодательства, результатом которой является составление свода законо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енное формирование, созданное в помощь действующей армии на добровольных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50840" y="1773360"/>
            <a:ext cx="1211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рщ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50840" y="2637000"/>
            <a:ext cx="14792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ход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51200" y="3573360"/>
            <a:ext cx="13039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9920" y="4724280"/>
            <a:ext cx="18054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дифик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78480" y="5734080"/>
            <a:ext cx="15112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ол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634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мкнутое прямоугольное, многоугольное полевое укрепление  для круговой обороны с наружным рвом и земляной насып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поселения, в котором солдаты не только несли военную службу, но и занимались сельхозтрудом, сокращая таким образом затраты на содержание армии в мирн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, союз для достижение общей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10 года высший законосовещательный орган. Состоял (наполовину из выборных, наполовину из назначенных царем лиц) из высшей бюрократии, военных деятелей, крупнейших помещиков и буржу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8840" y="620640"/>
            <a:ext cx="9061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д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8480" y="2133720"/>
            <a:ext cx="24912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ые по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0840" y="3141720"/>
            <a:ext cx="13510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али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50080" y="4941720"/>
            <a:ext cx="29408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енный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 во второй четвер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I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6851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а взглядов, отстаивающая и охраняющая традиционный церковный, государственный и общественный 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а государственного надзора за печа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ход от мануфактуры, основанной на ручном труде, к машинному производству, характеризующийся не только эволюцией техники, но и переменами в социальной структуре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ятиугольное укрепление в виде выступа на углах креп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а правления, при которой глава государства является одновременно его религиозным гла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ники общественного движения в России в 40-50-х гг. 19 века, которые признавали западноевропейский, капиталистический путь развития пригодным дл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56280" y="1413000"/>
            <a:ext cx="1858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серватиз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7400" y="1989000"/>
            <a:ext cx="11851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нз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02840" y="3500280"/>
            <a:ext cx="33325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мышленный пере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7920" y="4076640"/>
            <a:ext cx="1192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сти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5560" y="4869000"/>
            <a:ext cx="1418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окра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9560" y="5589720"/>
            <a:ext cx="14580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ад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01480" y="476280"/>
            <a:ext cx="8642520" cy="5689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6707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авление русской общественной мысли 40-50-х гг. 19 века, выдвинувшее теорию об особом пути развития России, в основе которого лежат присущие только славянам общинный строй, православие и гармоничное сочетание государственной власти и на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е, выдвигающее в качестве цели и идеала общества социального равенства и справед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авление в европейском искусстве первой половины 19 века, выдвигавшее на первый план индивидуальность, наделявшее ее идеальными устремлениями к безграничной свободе, жаждой совершенства и обно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знание представителями народа своего духовного, экономического, политического еди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97000" y="1916280"/>
            <a:ext cx="23126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вянофи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85000" y="2924280"/>
            <a:ext cx="1589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з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72640" y="4365720"/>
            <a:ext cx="14425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67920" y="5661000"/>
            <a:ext cx="35258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ое 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bright="60000"/>
          </a:blip>
          <a:srcRect l="13843" t="14225" r="13843" b="18064"/>
          <a:stretch/>
        </p:blipFill>
        <p:spPr>
          <a:xfrm>
            <a:off x="395280" y="1052640"/>
            <a:ext cx="7777080" cy="5267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 в период правления Александ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66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о свободные крестьяне, вынужденные выполнять все свои повинности перед помещиком до перехода на выку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лжностное лицо в период проведения крестьянской реформы 1861 г. Назначался из дворян для составления и утверждения уставных грамот и разбора споров между помещиками и крестья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итическое течение, отрицавшее все формы государственной власти, провозглашавшее абсолютную свободу индивиду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ганы местного самоуправления в России, созданные согласно реформы 186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форм проявления национальной нетерпимости, враждебное отношение к евре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7400" y="1268280"/>
            <a:ext cx="26452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ообяза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94840" y="2924280"/>
            <a:ext cx="24865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ровой поср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27200" y="4005360"/>
            <a:ext cx="13651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рхиз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8280" y="4797360"/>
            <a:ext cx="11880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02440" y="5734080"/>
            <a:ext cx="15811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е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-tmb-0x" descr=""/>
          <p:cNvPicPr/>
          <p:nvPr/>
        </p:nvPicPr>
        <p:blipFill>
          <a:blip r:embed="rId2"/>
          <a:stretch/>
        </p:blipFill>
        <p:spPr>
          <a:xfrm>
            <a:off x="5435640" y="836640"/>
            <a:ext cx="3402000" cy="482436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2 из 942">
            <a:hlinkClick r:id="rId3"/>
          </p:cNvPr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468360" y="404640"/>
            <a:ext cx="4805280" cy="614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66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к отделению, самосто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итическое течение русской радикальной интеллигенции, рассматривавшее народ, крестьянство как реальную политическую силу и стремившееся сделать эту силу сознательной и организова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образование, изменение какой-либо стороны общественной жизни, не уничтожающее основ существующей социальной 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ронник коренных перемен существующего государственного и общественного устройства насильственным пу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нение крайне жестких методов политического запугивания, устрашения, вплоть до физического истребления проти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01360" y="476280"/>
            <a:ext cx="15386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пара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8280" y="1773360"/>
            <a:ext cx="19530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род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9560" y="3068640"/>
            <a:ext cx="13633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фо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55920" y="3716280"/>
            <a:ext cx="19058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волюцио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41400" y="49417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рр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6227640" cy="13687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 в период правление Александ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51847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итический строй, при котором практикуется подавление властями внутренних противников методами насилия, слежки и сы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лючительное право государства на продажу и производство спиртных напи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шое казачье се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ждународный договор по какому-либо определенному во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ст городов и усиление их роли в жизни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61360" y="2852640"/>
            <a:ext cx="31662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ицейское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7040" y="3789360"/>
            <a:ext cx="23738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ная монопо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81000" y="4365720"/>
            <a:ext cx="11286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7560" y="5013360"/>
            <a:ext cx="14198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64280" y="5589720"/>
            <a:ext cx="16650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б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1758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совитина С.И. Мониторинг успешности обучения. Словарные работы. Современный урок, №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Л. Данилов, Л.Г. Косулина. Рабочая тетрадь по истории России 19 века. М.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3:25:19Z</dcterms:created>
  <dc:creator>Admin</dc:creator>
  <dc:description/>
  <dc:language>en-US</dc:language>
  <cp:lastModifiedBy>Admin</cp:lastModifiedBy>
  <dcterms:modified xsi:type="dcterms:W3CDTF">2012-03-04T07:30:48Z</dcterms:modified>
  <cp:revision>3</cp:revision>
  <dc:subject/>
  <dc:title>Россия в XIX веке</dc:title>
</cp:coreProperties>
</file>