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584E-EEE9-483C-BAE9-34628E5E63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CA34-E35C-4324-BD76-9030BAA9F7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6900-79C2-49CF-98E4-A5D7E13A08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0F1F-C7C1-49BA-A6AD-70B7D7A255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315A-33C4-4486-91AF-771B917034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FFBC-91CD-4B36-9E6D-04EAE9B335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FCE8-67FC-480F-8F9F-35446D5A60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B0B-C1DF-4850-982E-B77216E6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402C-287F-468A-BBD6-9BDD12D4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686-7E3E-4F0C-8125-850ABAF6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223-DACF-4FEB-98D3-B01AF1CE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E64-C4A1-4175-B786-ACA8C9EA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908-E191-41E6-A288-9DEEF405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E0F-0293-43E2-B3AD-25818A10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201A-5DEB-4FF4-BB31-219C6B72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2DC-89BF-4689-8298-8DB7FAF1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67E-580C-43D7-A0A8-CEA5D9E1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00C-6BED-462E-BFEE-D96FB244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B8C-3650-4CCB-9CB7-42904B93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67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E090-28D9-48FE-9049-CD2CEEE88E1E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Documents and Settings\Admin\Рабочий стол\соц сеть\129_nabor_13_foni\nabor_№13_foni\3-13.jpg"/>
          <p:cNvPicPr/>
          <p:nvPr/>
        </p:nvPicPr>
        <p:blipFill>
          <a:blip r:embed="rId1"/>
          <a:stretch/>
        </p:blipFill>
        <p:spPr>
          <a:xfrm>
            <a:off x="-276120" y="-228600"/>
            <a:ext cx="96962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Системы счисл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C:\Documents and Settings\Admin\Рабочий стол\соц сеть\129_nabor_13_foni\nabor_№13_foni\3-13.jpg"/>
          <p:cNvPicPr/>
          <p:nvPr/>
        </p:nvPicPr>
        <p:blipFill>
          <a:blip r:embed="rId1"/>
          <a:stretch/>
        </p:blipFill>
        <p:spPr>
          <a:xfrm>
            <a:off x="-276120" y="-228600"/>
            <a:ext cx="96962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3"/>
          <p:cNvSpPr/>
          <p:nvPr/>
        </p:nvSpPr>
        <p:spPr>
          <a:xfrm>
            <a:off x="68770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Опред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55680" y="851040"/>
            <a:ext cx="814068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стема счисл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способ запис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омощью специальных знаков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ф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3, 45678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0011, CX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ифры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 1, 2, …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V, X, 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лфави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або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ф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 1, 2, 3, 4, 5, 6, 7, 8, 9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ипы систем сч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зиционны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значение цифры не зависит от ее мест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позици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записи чи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ицион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виси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C:\Documents and Settings\Admin\Рабочий стол\соц сеть\129_nabor_13_foni\nabor_№13_foni\3-13.jpg"/>
          <p:cNvPicPr/>
          <p:nvPr/>
        </p:nvPicPr>
        <p:blipFill>
          <a:blip r:embed="rId1"/>
          <a:stretch/>
        </p:blipFill>
        <p:spPr>
          <a:xfrm>
            <a:off x="-276120" y="-228600"/>
            <a:ext cx="96962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Номер слайда 3"/>
          <p:cNvSpPr/>
          <p:nvPr/>
        </p:nvSpPr>
        <p:spPr>
          <a:xfrm>
            <a:off x="68770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F1FC-CBDB-4AE8-BD0D-93E0FF502C3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Не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55680" y="851040"/>
            <a:ext cx="86090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нар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а цифра обозначает единицу (1 день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камень, 1 баран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имская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(палец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скрытая ладонь, 5 пальцев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ве ладони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0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nt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0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mimil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000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395280" y="1952640"/>
            <a:ext cx="193356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2556000" y="1881360"/>
            <a:ext cx="1834920" cy="2065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zarub"/>
          <p:cNvPicPr/>
          <p:nvPr/>
        </p:nvPicPr>
        <p:blipFill>
          <a:blip r:embed="rId4"/>
          <a:stretch/>
        </p:blipFill>
        <p:spPr>
          <a:xfrm>
            <a:off x="4427640" y="2421000"/>
            <a:ext cx="431784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3" descr="C:\Documents and Settings\Admin\Рабочий стол\соц сеть\129_nabor_13_foni\nabor_№13_foni\3-13.jpg"/>
          <p:cNvPicPr/>
          <p:nvPr/>
        </p:nvPicPr>
        <p:blipFill>
          <a:blip r:embed="rId1"/>
          <a:stretch/>
        </p:blipFill>
        <p:spPr>
          <a:xfrm>
            <a:off x="-276120" y="-228600"/>
            <a:ext cx="969624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3"/>
          <p:cNvSpPr/>
          <p:nvPr/>
        </p:nvSpPr>
        <p:spPr>
          <a:xfrm>
            <a:off x="68770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430D-0648-448D-856C-75AEA7716D2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3"/>
          <p:cNvGrpSpPr/>
          <p:nvPr/>
        </p:nvGrpSpPr>
        <p:grpSpPr>
          <a:xfrm>
            <a:off x="2052720" y="4760640"/>
            <a:ext cx="1008000" cy="936720"/>
            <a:chOff x="2052720" y="4760640"/>
            <a:chExt cx="1008000" cy="936720"/>
          </a:xfrm>
        </p:grpSpPr>
        <p:sp>
          <p:nvSpPr>
            <p:cNvPr id="67" name="Oval 20"/>
            <p:cNvSpPr/>
            <p:nvPr/>
          </p:nvSpPr>
          <p:spPr>
            <a:xfrm>
              <a:off x="2052720" y="512136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V="1">
              <a:off x="2557440" y="476064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Римская система 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58920" y="907920"/>
            <a:ext cx="8640720" cy="34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5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бычно) не ставят больш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динаковых циф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5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ладш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ифра (тольк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) стои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старшей, она вычитается из су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астич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позиционная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ы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2703240" y="3860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3494160" y="38606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4357800" y="38606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223240" y="3860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5870520" y="38606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6589800" y="38606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7094160" y="386064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1107720" y="440064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89 = 2000   +   300   +    80    +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1186920" y="591336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89 = M M C C C L X X X I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2169000" y="51814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25"/>
          <p:cNvGrpSpPr/>
          <p:nvPr/>
        </p:nvGrpSpPr>
        <p:grpSpPr>
          <a:xfrm>
            <a:off x="3340080" y="4760640"/>
            <a:ext cx="1008000" cy="936720"/>
            <a:chOff x="3340080" y="4760640"/>
            <a:chExt cx="1008000" cy="936720"/>
          </a:xfrm>
        </p:grpSpPr>
        <p:sp>
          <p:nvSpPr>
            <p:cNvPr id="83" name="Oval 26"/>
            <p:cNvSpPr/>
            <p:nvPr/>
          </p:nvSpPr>
          <p:spPr>
            <a:xfrm>
              <a:off x="3340080" y="512136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7"/>
            <p:cNvSpPr/>
            <p:nvPr/>
          </p:nvSpPr>
          <p:spPr>
            <a:xfrm flipV="1">
              <a:off x="3844800" y="476064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24"/>
          <p:cNvSpPr/>
          <p:nvPr/>
        </p:nvSpPr>
        <p:spPr>
          <a:xfrm>
            <a:off x="3424320" y="519264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28"/>
          <p:cNvGrpSpPr/>
          <p:nvPr/>
        </p:nvGrpSpPr>
        <p:grpSpPr>
          <a:xfrm>
            <a:off x="4589640" y="4760640"/>
            <a:ext cx="1008000" cy="936720"/>
            <a:chOff x="4589640" y="4760640"/>
            <a:chExt cx="1008000" cy="936720"/>
          </a:xfrm>
        </p:grpSpPr>
        <p:sp>
          <p:nvSpPr>
            <p:cNvPr id="87" name="Oval 29"/>
            <p:cNvSpPr/>
            <p:nvPr/>
          </p:nvSpPr>
          <p:spPr>
            <a:xfrm>
              <a:off x="4589640" y="512136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0"/>
            <p:cNvSpPr/>
            <p:nvPr/>
          </p:nvSpPr>
          <p:spPr>
            <a:xfrm flipV="1">
              <a:off x="5094360" y="476064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31"/>
          <p:cNvSpPr/>
          <p:nvPr/>
        </p:nvSpPr>
        <p:spPr>
          <a:xfrm>
            <a:off x="4607640" y="51926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2"/>
          <p:cNvGrpSpPr/>
          <p:nvPr/>
        </p:nvGrpSpPr>
        <p:grpSpPr>
          <a:xfrm>
            <a:off x="5637240" y="4760640"/>
            <a:ext cx="1008000" cy="936720"/>
            <a:chOff x="5637240" y="4760640"/>
            <a:chExt cx="1008000" cy="936720"/>
          </a:xfrm>
        </p:grpSpPr>
        <p:sp>
          <p:nvSpPr>
            <p:cNvPr id="91" name="Oval 33"/>
            <p:cNvSpPr/>
            <p:nvPr/>
          </p:nvSpPr>
          <p:spPr>
            <a:xfrm>
              <a:off x="5637240" y="512136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4"/>
            <p:cNvSpPr/>
            <p:nvPr/>
          </p:nvSpPr>
          <p:spPr>
            <a:xfrm flipV="1">
              <a:off x="6141960" y="476064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35"/>
          <p:cNvSpPr/>
          <p:nvPr/>
        </p:nvSpPr>
        <p:spPr>
          <a:xfrm>
            <a:off x="5906880" y="51926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6"/>
          <p:cNvSpPr/>
          <p:nvPr/>
        </p:nvSpPr>
        <p:spPr>
          <a:xfrm>
            <a:off x="7671240" y="38606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C:\Documents and Settings\Admin\Рабочий стол\соц сеть\129_nabor_13_foni\nabor_№13_foni\3-13.jpg"/>
          <p:cNvPicPr/>
          <p:nvPr/>
        </p:nvPicPr>
        <p:blipFill>
          <a:blip r:embed="rId1"/>
          <a:stretch/>
        </p:blipFill>
        <p:spPr>
          <a:xfrm>
            <a:off x="-276120" y="-228600"/>
            <a:ext cx="969624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Римская система 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95280" y="907920"/>
            <a:ext cx="835344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достатки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ис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х чисе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3999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 вводить новые знаки-цифры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записать дробные чис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полнять арифметические действи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CCLIX + CLXXIV =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де используется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а глав в книг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веков: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раты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ерблат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chapter"/>
          <p:cNvPicPr/>
          <p:nvPr/>
        </p:nvPicPr>
        <p:blipFill>
          <a:blip r:embed="rId2"/>
          <a:srcRect l="0" t="0" r="798" b="16722"/>
          <a:stretch/>
        </p:blipFill>
        <p:spPr>
          <a:xfrm>
            <a:off x="4608360" y="3500280"/>
            <a:ext cx="4141800" cy="1044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loclRoman"/>
          <p:cNvPicPr/>
          <p:nvPr/>
        </p:nvPicPr>
        <p:blipFill>
          <a:blip r:embed="rId3"/>
          <a:srcRect l="0" t="15904" r="102" b="16804"/>
          <a:stretch/>
        </p:blipFill>
        <p:spPr>
          <a:xfrm>
            <a:off x="4140360" y="5084640"/>
            <a:ext cx="14968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8" descr="C:\Documents and Settings\Admin\Рабочий стол\соц сеть\129_nabor_13_foni\nabor_№13_foni\3-13.jpg"/>
          <p:cNvPicPr/>
          <p:nvPr/>
        </p:nvPicPr>
        <p:blipFill>
          <a:blip r:embed="rId1"/>
          <a:stretch/>
        </p:blipFill>
        <p:spPr>
          <a:xfrm>
            <a:off x="-276120" y="-228600"/>
            <a:ext cx="969624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3"/>
          <p:cNvSpPr/>
          <p:nvPr/>
        </p:nvSpPr>
        <p:spPr>
          <a:xfrm>
            <a:off x="68770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авянская система 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21920" y="944640"/>
            <a:ext cx="64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ная система счисления (непозицион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езимени-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11280" y="1341360"/>
            <a:ext cx="799308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4" descr="C:\Documents and Settings\Admin\Рабочий стол\соц сеть\129_nabor_13_foni\nabor_№13_foni\3-13.jpg"/>
          <p:cNvPicPr/>
          <p:nvPr/>
        </p:nvPicPr>
        <p:blipFill>
          <a:blip r:embed="rId1"/>
          <a:stretch/>
        </p:blipFill>
        <p:spPr>
          <a:xfrm>
            <a:off x="-276120" y="-228600"/>
            <a:ext cx="9696240" cy="7315200"/>
          </a:xfrm>
          <a:prstGeom prst="rect">
            <a:avLst/>
          </a:prstGeom>
          <a:ln w="0">
            <a:noFill/>
          </a:ln>
        </p:spPr>
      </p:pic>
      <p:sp>
        <p:nvSpPr>
          <p:cNvPr id="10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95280" y="907920"/>
            <a:ext cx="84247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зиционная систем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цифры определяется ее позицией в записи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сятичная система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ьно – счет на пальца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ена в Индии, заимствована арабами, завезена в Евро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 1, 2, 3, 4, 5, 6, 7, 8, 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количество цифр)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700720" y="40784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7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700360" y="37893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2    1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2629080" y="3718080"/>
            <a:ext cx="1079280" cy="431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3853800" y="371808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6"/>
          <p:cNvGrpSpPr/>
          <p:nvPr/>
        </p:nvGrpSpPr>
        <p:grpSpPr>
          <a:xfrm>
            <a:off x="1767240" y="3357720"/>
            <a:ext cx="3144960" cy="504720"/>
            <a:chOff x="1767240" y="3357720"/>
            <a:chExt cx="3144960" cy="504720"/>
          </a:xfrm>
        </p:grpSpPr>
        <p:sp>
          <p:nvSpPr>
            <p:cNvPr id="116" name="Rectangle 11"/>
            <p:cNvSpPr/>
            <p:nvPr/>
          </p:nvSpPr>
          <p:spPr>
            <a:xfrm>
              <a:off x="1767240" y="3357720"/>
              <a:ext cx="31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тни   десятки   един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2"/>
            <p:cNvSpPr/>
            <p:nvPr/>
          </p:nvSpPr>
          <p:spPr>
            <a:xfrm>
              <a:off x="2412720" y="3646800"/>
              <a:ext cx="3589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3"/>
            <p:cNvSpPr/>
            <p:nvPr/>
          </p:nvSpPr>
          <p:spPr>
            <a:xfrm flipH="1">
              <a:off x="3563280" y="3646800"/>
              <a:ext cx="3589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>
              <a:off x="3205080" y="36468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17"/>
          <p:cNvSpPr/>
          <p:nvPr/>
        </p:nvSpPr>
        <p:spPr>
          <a:xfrm>
            <a:off x="3710160" y="465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2989800" y="4654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2199600" y="4654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3205080" y="4438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3637080" y="443880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2"/>
          <p:cNvSpPr/>
          <p:nvPr/>
        </p:nvSpPr>
        <p:spPr>
          <a:xfrm flipH="1">
            <a:off x="2628720" y="443880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3852720" y="407844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 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395280" y="5013360"/>
            <a:ext cx="856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ругие позиционные сист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оич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осьмерична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стнадцатерич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нформа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надцатеричная (1 фут = 12 дюймов, 1 шиллинг = 12 пенс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адцатеричная (1 франк = 20 с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стидесятеричная (1 минута = 60 секунд, 1 час = 60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20:19:36Z</dcterms:created>
  <dc:creator>kp</dc:creator>
  <dc:description/>
  <dc:language>en-US</dc:language>
  <cp:lastModifiedBy>Admin</cp:lastModifiedBy>
  <dcterms:modified xsi:type="dcterms:W3CDTF">2012-03-04T12:12:37Z</dcterms:modified>
  <cp:revision>249</cp:revision>
  <dc:subject/>
  <dc:title>Слайд 1</dc:title>
</cp:coreProperties>
</file>