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gif" ContentType="image/gif"/>
  <Override PartName="/ppt/media/image15.png" ContentType="image/png"/>
  <Override PartName="/ppt/media/image11.gif" ContentType="image/gif"/>
  <Override PartName="/ppt/media/image10.jpeg" ContentType="image/jpeg"/>
  <Override PartName="/ppt/media/image8.jpeg" ContentType="image/jpeg"/>
  <Override PartName="/ppt/media/image9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6.gif" ContentType="image/gif"/>
  <Override PartName="/ppt/media/image5.gif" ContentType="image/gif"/>
  <Override PartName="/ppt/media/image28.gif" ContentType="image/gif"/>
  <Override PartName="/ppt/media/image25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gif" ContentType="image/gif"/>
  <Override PartName="/ppt/media/image22.jpeg" ContentType="image/jpeg"/>
  <Override PartName="/ppt/media/image27.gif" ContentType="image/gif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  <p:custShowLst>
    <p:custShow name="Произвольный показ 2" id="0">
      <p:sldLst>
        <p:sld r:id="rId3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58AD-D2E7-4F94-A646-80FDBD270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2DAE-CB14-44C2-8CE7-C581E02B13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должны найти правильную запись десятичной дроби и выписать соответствующую ей бук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получившееся слово и ответить, что оно означ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знают,  смотрим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BC91-BCAC-420B-8D2B-3845C9CF2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89B-D8BA-4930-8629-87F97780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57B-E158-48FB-8991-F8D13B66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FE0FD-DEF0-45E7-9D3F-32B7D0CE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309F6-8B85-4D05-BE6A-BDE952F3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B5485-1B09-43C7-A074-A62B490B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E206D-81B0-46F1-8FA8-41465563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CBC7F-F585-414E-A1BE-E200A70F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67C6D-B62E-45A0-9224-075D974C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0C1C6-BC48-4467-AAC7-CB67B5E8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2151D-2354-42EC-8B65-2C7C87B2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2A5F2-C6EB-4F83-B33B-0882671D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78246-CFCD-4E90-B1E6-1DC7765F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898-5339-4158-BCDE-46687E45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2B907-7850-40BF-AB6B-0A334A00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E23D6-9BD1-47B3-9047-DC8D5199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9E285-666B-499E-B64E-BCE07AA0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8C7CE-68FC-4FC7-9EBD-4D5C1690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945C8-894A-41DB-BF26-62BC355D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CD8D5-95C7-41F3-9BA2-39089CF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4CEE7-540F-4EAD-958B-54062029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BC076-7DBF-4AB7-B294-7C6EBA1F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5CD53-B8DC-4425-A6A7-0C724D54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125DE-682A-4B9C-B8B2-24AE2EAF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E68-9AB3-4637-A44A-E7EFECED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2CD0A-6CDC-4123-9F6C-44DD4D6E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57A8E-F053-4931-808D-77A841A2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250E9-07D6-443F-8E62-3E612238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82BB0-C84E-4F42-BCCF-334F9DD2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7922B-7335-4944-8D02-0FADBF87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3CFF8-80FC-42D1-AE75-6995C2E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FFF80-C9F2-4C9B-9543-4E9F2D3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A4103-733A-4D59-B201-72EE2EF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D2124-D4AC-4F4D-A5DC-64109E7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1213E-9287-4792-B9AC-547E76B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FD8D-AFA9-43EF-B2A0-61C6AE3E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F39FA-5B60-40E9-B8BE-EC75C3C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34A55-F175-4D1A-841B-1882F19B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BD703-D076-416B-908A-F0437F4B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7DE45-2F4B-49F7-BADF-DF4A2385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D1CF0-DDB0-47E7-9D62-C957D760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FF0B3-C9DC-4E54-B972-FD6537BF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C249C-ACD1-4551-B643-8C7B5864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0F9B6-BB91-4059-83AF-592B45F0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9A5DC-9029-4308-B9B7-DF538B9F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898C3-EC37-4903-9A6F-E93865A7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6A75-FAA5-4E5A-AABC-EE39AEC8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4E175-9716-47FC-B7CA-4326453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236DE-20BF-4AE9-8453-52A32A54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A7918-CA11-4649-86D1-71AD9EB9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83002-A8C5-48D7-A78D-891D6CDC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9AC75-4531-469F-9398-0B4D0860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A0783-5B92-4447-9CC4-6B24660E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A70C2-1E1E-450A-A8F0-9F35E4A7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A9755-6400-4F55-9772-0778FE6F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B36AC-BEA3-4933-8CD4-EE40E468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CD37D-9D57-4FD3-848F-0B91480E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7170-D8A7-479C-93B0-283F6EB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7ABB5-8CFB-4151-82A5-86F5FEA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D0C1D-556D-492E-A32D-E0EC26E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72532-41D7-4613-AEB0-22B7F46E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88BBE-E8E2-4D0F-9113-17F4B405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94639-02B5-4508-A523-9523D87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836FB-1EB2-4978-A487-6E6C9701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27727-2E92-4140-A0AA-7595A336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D4FB-E9B2-4566-95D5-A895EED2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4342-E0B1-4C68-9175-B3D9DAAD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2D34-A7E3-4CA7-87F8-6300CBAD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0339-6C77-474C-BCC4-A4725D3A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B4D-24CB-4CC4-B107-C7AF30D3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AB39-7895-447A-A851-8BDD348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E371-66B5-4F0A-9131-7ECE251D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1119-FB17-4FC2-987D-4FD1E17B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8BD8-FA4A-4398-89EF-18510E42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8084-5BDB-4BDC-806D-6BBE16EC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B275-043F-4E06-86C5-220C55F4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B107-BA9D-462F-8CCC-9CEAC96F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515E-600F-4240-A67E-8072F5BA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2247-9E6F-4361-BDD9-0F75469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82C1-0907-4955-9CE9-B98776E8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546-62CF-4054-8E26-A9C1C8FF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E5063-FF98-4576-BB7A-11B31B4C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7851-B73F-4E4B-A27D-0075083D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50EF-0153-4E94-A1D6-482EDBD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70F5-0DEE-41FE-B9A2-5F286C50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EC2E-DDE2-48F9-A9D7-D9E12565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7ECC-6230-46C2-A5DD-353B03B3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FA24-FFB2-4E7C-814B-1FE0BE62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57808-2683-4D0B-852E-8E49ED08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DEAD-6526-4DAB-ADB6-37A0008A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4C39-44CE-4B54-B9DF-1BD34F4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9FD-33F7-4E3D-B8B6-B1FCB15A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05A20-BDA1-4744-BAE5-A8C8E27F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B561-D0EF-4981-86A3-60BA6241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DD74-DA3C-451D-BAF3-4BF08AF2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3FF4C-C100-4A3F-AF16-1908C82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F2E8-9D3A-4F4E-9E95-D1B36C1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022E-BF93-4853-95E5-89C9AE32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5929-C6FB-4B92-9418-2254ED9F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F121-2F51-4E56-A799-E114096E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AF6A-318E-485C-83B1-1325D6BE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0787-05CE-44C0-9EB8-EB650F0F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25D-0C0A-4077-86A6-F36B5E03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9ACF-70EC-4963-92E8-9B69728B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3089D-25CB-4B6C-B2E0-75DD7E86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8B6E3-3C49-4D72-8DB6-956A0517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0668-E3DC-4F47-AD0C-0FE26FA8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B0ABC-7766-4CE7-9F50-49A1537E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C32E1-9415-410C-BE84-1BE69B50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F93B5-893B-47E5-8304-FDC70647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89742-5A6B-4B11-A455-88A6009A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8AA6-5107-4B1C-9BF1-14BBC1BD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842F1-DA66-4A2A-A38E-CB0BAFE1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019-6DD3-4FD8-AE7D-3AEC5011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C48C7-BF13-4A89-9BF3-0A872E20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245AB-1E1B-4A55-95A6-7EF6A009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BBDA8-60B6-4CC0-B6DE-058AE96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485B0-56D9-44D4-8EDF-D611A8D2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CBD52-DE84-4522-9513-C4E0F581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B3DE-4293-42A9-97E3-6FFB2B03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B935-45CD-4692-8333-54AA96A1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A141-2111-44DA-81CB-E9C09843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789A4-E08E-4B21-8A7F-44DB7047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987A6-BB09-4DC8-8070-12611C31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361-F995-41E3-B207-5EEFB7C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9DFE8-796E-41F7-81B1-AB4C33A3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FB2BC-4387-4140-917D-8B748ED6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399C-4C9A-444A-BA57-C7BFD788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F0B8A-5A77-4F19-97A4-2B2AD110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0165B-D189-4ED1-A742-62484430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15F3A-F509-45BD-B327-8E77C8C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0A655-701A-48D2-BC3D-6AB1B959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E99A-F7CE-496F-A676-3E8DB1C8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3AEB1-FCE0-425A-83BF-A83B837E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626C1-8D86-402C-B6D9-A2CF9917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9AF-8DF8-4563-AF3A-18DF103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D00C1-998F-4471-8DB7-72DE6708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44D13-925F-4DE5-9FB9-44B4C906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3307-E508-4140-95C7-12C3C881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77213-10D4-4A34-912B-74BAFB1C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A3427-D2E6-4486-B2DF-852FB756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7E53B-EDD2-4C3C-AE10-8F4F4172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D358D-F8FC-4CA8-922A-E8DFB880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264B8-4355-4533-BF78-1845767E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4FC32-0D2B-4895-B294-797C47DA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C51E3-82EC-44B2-A2B6-F5D09144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68A-8E29-473A-A89D-7751B38B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AD5E0-A7B8-41E0-9A3F-197320B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97D42-1DD8-4094-BE63-6C2A159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0D8D2-569C-4EA4-97FA-F9777309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4C148-2537-430F-BBB4-0D73359D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3DD2-82F8-4770-8536-9FA37AC4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C198A-EE5A-4135-9B76-6EE4261B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C6016-CE76-469D-8A71-C3006442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321FB-D907-4CBC-A224-9EAA81F6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0B49A-A6AF-4A0C-9E80-B5E3E983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33276-AB29-440A-BB4A-6AA87A5F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15A8-7C10-4A5E-A036-37CA711607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28B-BC75-4FAE-BE27-E5E0178138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E2EF-99AD-4541-90E8-B7C9C3DA29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B52D-6A86-4F8D-94F9-7A008D35C8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444E-BBB0-497C-B36D-3C6DE55D70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6290-9544-4100-8626-3868DF6C5DD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923-3DE1-4037-B891-53243A51EA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80A6-4625-412C-A6BD-6A2F225468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0C77-97B2-44CF-9D8C-AB76D928AD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2879-3267-47D9-AA81-A9126ADE50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5B9C-C08F-41D8-804B-3F34A32B6B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7F4D-A0ED-4957-B2B7-65406A795F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6608-F897-4100-8458-EAD170BF87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2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echfresh.net/wp-content/uploads/2007/04/genex-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bk-n.ru/news/my_img/1205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 flipH="1">
            <a:off x="223200" y="24829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3492360" y="4149720"/>
            <a:ext cx="223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1000080" y="4500720"/>
            <a:ext cx="70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mic Sans MS"/>
              </a:rPr>
              <a:t>Знания имей отличные по теме дроби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mic Sans MS"/>
              </a:rPr>
              <a:t>ДЕСЯТИЧНЫЕ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11" descr="raznoe11"/>
          <p:cNvPicPr/>
          <p:nvPr/>
        </p:nvPicPr>
        <p:blipFill>
          <a:blip r:embed="rId1"/>
          <a:stretch/>
        </p:blipFill>
        <p:spPr>
          <a:xfrm>
            <a:off x="214200" y="214200"/>
            <a:ext cx="1285920" cy="1470240"/>
          </a:xfrm>
          <a:prstGeom prst="rect">
            <a:avLst/>
          </a:prstGeom>
          <a:ln w="0">
            <a:noFill/>
          </a:ln>
        </p:spPr>
      </p:pic>
      <p:pic>
        <p:nvPicPr>
          <p:cNvPr id="610" name="Rectangle 13" descr=""/>
          <p:cNvPicPr/>
          <p:nvPr/>
        </p:nvPicPr>
        <p:blipFill>
          <a:blip r:embed="rId2"/>
          <a:stretch/>
        </p:blipFill>
        <p:spPr>
          <a:xfrm>
            <a:off x="281160" y="298440"/>
            <a:ext cx="8697600" cy="36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3"/>
          <p:cNvSpPr/>
          <p:nvPr/>
        </p:nvSpPr>
        <p:spPr>
          <a:xfrm>
            <a:off x="500040" y="0"/>
            <a:ext cx="8077320" cy="61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ДЕСЯТИЧНЫХ ДРОБ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же несколько тысячелетий человечество пользуется дробными числами, а вот записывать их удобными десятичными знаками оно додумалось  значительно позже. В Древнем мир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WordArt 5"/>
          <p:cNvSpPr txBox="1"/>
          <p:nvPr/>
        </p:nvSpPr>
        <p:spPr>
          <a:xfrm>
            <a:off x="1643040" y="214200"/>
            <a:ext cx="605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3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99">
                        <a:alpha val="73333"/>
                      </a:srgbClr>
                    </a:gs>
                    <a:gs pos="100000">
                      <a:srgbClr val="5e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 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99">
                      <a:alpha val="73333"/>
                    </a:srgbClr>
                  </a:gs>
                  <a:gs pos="100000">
                    <a:srgbClr val="5e1847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6" name="AutoShape 6"/>
          <p:cNvSpPr/>
          <p:nvPr/>
        </p:nvSpPr>
        <p:spPr>
          <a:xfrm>
            <a:off x="928800" y="3643200"/>
            <a:ext cx="7812000" cy="2810160"/>
          </a:xfrm>
          <a:prstGeom prst="cloudCallout">
            <a:avLst>
              <a:gd name="adj1" fmla="val -45388"/>
              <a:gd name="adj2" fmla="val -19606"/>
            </a:avLst>
          </a:prstGeom>
          <a:gradFill rotWithShape="0">
            <a:gsLst>
              <a:gs pos="0">
                <a:srgbClr val="cccc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робь вида 2,135436 выглядела так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2 чи,  1 цунь,  3 доли,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5 порядковых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4 шерстинки, 3 тончайших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6 паутино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7" name="Picture 7" descr="Хотабыч"/>
          <p:cNvPicPr/>
          <p:nvPr/>
        </p:nvPicPr>
        <p:blipFill>
          <a:blip r:embed="rId1"/>
          <a:stretch/>
        </p:blipFill>
        <p:spPr>
          <a:xfrm>
            <a:off x="-324000" y="3284640"/>
            <a:ext cx="161928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4" descr=""/>
          <p:cNvPicPr/>
          <p:nvPr/>
        </p:nvPicPr>
        <p:blipFill>
          <a:blip r:embed="rId1"/>
          <a:stretch/>
        </p:blipFill>
        <p:spPr>
          <a:xfrm>
            <a:off x="420840" y="30240"/>
            <a:ext cx="8162640" cy="12920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428760" y="150012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Comic Sans MS"/>
              </a:rPr>
              <a:t>Пять целых  семь  десяты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mic Sans MS"/>
              </a:rPr>
              <a:t>Сорок  две  целых  пятьдесят  две  соты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Comic Sans MS"/>
              </a:rPr>
              <a:t>Четыре целых  триста  восемьдесят  две  тысячны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642920" y="1500120"/>
            <a:ext cx="4038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Comic Sans MS"/>
              </a:rPr>
              <a:t>Одна  целая  три  соты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Восемь  целых  одна  тысячн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Comic Sans MS"/>
              </a:rPr>
              <a:t>Семь  целых  тридцать                                     четыре  десятитысячны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721" name="Picture 11" descr="line41"/>
          <p:cNvPicPr/>
          <p:nvPr/>
        </p:nvPicPr>
        <p:blipFill>
          <a:blip r:embed="rId2"/>
          <a:stretch/>
        </p:blipFill>
        <p:spPr>
          <a:xfrm rot="5400000">
            <a:off x="2475360" y="3651840"/>
            <a:ext cx="4479840" cy="1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Rectangle 2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521560" cy="13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3" name="Object 3"/>
              <p:cNvSpPr txBox="1"/>
              <p:nvPr/>
            </p:nvSpPr>
            <p:spPr>
              <a:xfrm>
                <a:off x="608040" y="1197000"/>
                <a:ext cx="10159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5"/>
              <p:cNvSpPr txBox="1"/>
              <p:nvPr/>
            </p:nvSpPr>
            <p:spPr>
              <a:xfrm>
                <a:off x="6143760" y="1285920"/>
                <a:ext cx="1104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4"/>
              <p:cNvSpPr txBox="1"/>
              <p:nvPr/>
            </p:nvSpPr>
            <p:spPr>
              <a:xfrm>
                <a:off x="428760" y="2928960"/>
                <a:ext cx="14428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6"/>
              <p:cNvSpPr txBox="1"/>
              <p:nvPr/>
            </p:nvSpPr>
            <p:spPr>
              <a:xfrm>
                <a:off x="500040" y="4500720"/>
                <a:ext cx="16304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7"/>
              <p:cNvSpPr txBox="1"/>
              <p:nvPr/>
            </p:nvSpPr>
            <p:spPr>
              <a:xfrm>
                <a:off x="6072120" y="2786040"/>
                <a:ext cx="158436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8"/>
              <p:cNvSpPr txBox="1"/>
              <p:nvPr/>
            </p:nvSpPr>
            <p:spPr>
              <a:xfrm>
                <a:off x="6143760" y="4572000"/>
                <a:ext cx="158436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9" name="Rectangle 10"/>
          <p:cNvSpPr/>
          <p:nvPr/>
        </p:nvSpPr>
        <p:spPr>
          <a:xfrm>
            <a:off x="6227640" y="2133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214200" y="592920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omic Sans MS"/>
              </a:rPr>
              <a:t>Чем  «похожи» эти  числ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Rectangle 2" descr=""/>
          <p:cNvPicPr/>
          <p:nvPr/>
        </p:nvPicPr>
        <p:blipFill>
          <a:blip r:embed="rId1"/>
          <a:stretch/>
        </p:blipFill>
        <p:spPr>
          <a:xfrm>
            <a:off x="420840" y="73080"/>
            <a:ext cx="8242200" cy="169524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213840" y="1356840"/>
            <a:ext cx="8572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1.Записываем целую часть числ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Comic Sans MS"/>
              </a:rPr>
              <a:t>(она может быть равна нулю)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и ставим запятую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6"/>
              <p:cNvSpPr txBox="1"/>
              <p:nvPr/>
            </p:nvSpPr>
            <p:spPr>
              <a:xfrm>
                <a:off x="2214720" y="3143160"/>
                <a:ext cx="4011480" cy="22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Rectangle 2" descr=""/>
          <p:cNvPicPr/>
          <p:nvPr/>
        </p:nvPicPr>
        <p:blipFill>
          <a:blip r:embed="rId1"/>
          <a:stretch/>
        </p:blipFill>
        <p:spPr>
          <a:xfrm>
            <a:off x="420840" y="73080"/>
            <a:ext cx="8242200" cy="169524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42960" y="142884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2.После запятой поставим столько точек, сколько нулей в знаменателе дробной части</a:t>
            </a:r>
            <a:r>
              <a:rPr b="1" lang="ru-RU" sz="3600" spc="-1" strike="noStrike">
                <a:solidFill>
                  <a:srgbClr val="4e3b3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6"/>
              <p:cNvSpPr txBox="1"/>
              <p:nvPr/>
            </p:nvSpPr>
            <p:spPr>
              <a:xfrm>
                <a:off x="2286000" y="3500280"/>
                <a:ext cx="3997440" cy="19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Rectangle 2" descr=""/>
          <p:cNvPicPr/>
          <p:nvPr/>
        </p:nvPicPr>
        <p:blipFill>
          <a:blip r:embed="rId1"/>
          <a:stretch/>
        </p:blipFill>
        <p:spPr>
          <a:xfrm>
            <a:off x="493560" y="73080"/>
            <a:ext cx="8242560" cy="16952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3.С последней точки записываем числитель, начиная с последнего зна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6"/>
              <p:cNvSpPr txBox="1"/>
              <p:nvPr/>
            </p:nvSpPr>
            <p:spPr>
              <a:xfrm>
                <a:off x="1743120" y="2795760"/>
                <a:ext cx="5586480" cy="24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Rectangle 2" descr=""/>
          <p:cNvPicPr/>
          <p:nvPr/>
        </p:nvPicPr>
        <p:blipFill>
          <a:blip r:embed="rId1"/>
          <a:stretch/>
        </p:blipFill>
        <p:spPr>
          <a:xfrm>
            <a:off x="420840" y="-139680"/>
            <a:ext cx="8242200" cy="16938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56760" y="1371240"/>
            <a:ext cx="8358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4.В пустые места записываем нул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19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5119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511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1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26"/>
                </a:solidFill>
                <a:latin typeface="Comic Sans MS"/>
              </a:rPr>
              <a:t>Так как эти числа равны, то десятичную дробь читают аналогично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Object 4"/>
              <p:cNvSpPr txBox="1"/>
              <p:nvPr/>
            </p:nvSpPr>
            <p:spPr>
              <a:xfrm>
                <a:off x="2441520" y="2408400"/>
                <a:ext cx="4259160" cy="18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Rectangle 2" descr=""/>
          <p:cNvPicPr/>
          <p:nvPr/>
        </p:nvPicPr>
        <p:blipFill>
          <a:blip r:embed="rId1"/>
          <a:stretch/>
        </p:blipFill>
        <p:spPr>
          <a:xfrm>
            <a:off x="-139680" y="49320"/>
            <a:ext cx="9290160" cy="129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4" name="Object 3"/>
              <p:cNvSpPr txBox="1"/>
              <p:nvPr/>
            </p:nvSpPr>
            <p:spPr>
              <a:xfrm>
                <a:off x="571680" y="1071720"/>
                <a:ext cx="939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4"/>
              <p:cNvSpPr txBox="1"/>
              <p:nvPr/>
            </p:nvSpPr>
            <p:spPr>
              <a:xfrm>
                <a:off x="500040" y="5429160"/>
                <a:ext cx="12412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8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5"/>
              <p:cNvSpPr txBox="1"/>
              <p:nvPr/>
            </p:nvSpPr>
            <p:spPr>
              <a:xfrm>
                <a:off x="5572080" y="2571840"/>
                <a:ext cx="801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6"/>
              <p:cNvSpPr txBox="1"/>
              <p:nvPr/>
            </p:nvSpPr>
            <p:spPr>
              <a:xfrm>
                <a:off x="357120" y="3929040"/>
                <a:ext cx="12715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7"/>
              <p:cNvSpPr txBox="1"/>
              <p:nvPr/>
            </p:nvSpPr>
            <p:spPr>
              <a:xfrm>
                <a:off x="5357880" y="3929040"/>
                <a:ext cx="15555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9" name="Rectangle 8"/>
          <p:cNvSpPr/>
          <p:nvPr/>
        </p:nvSpPr>
        <p:spPr>
          <a:xfrm>
            <a:off x="428760" y="200016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11"/>
              <p:cNvSpPr txBox="1"/>
              <p:nvPr/>
            </p:nvSpPr>
            <p:spPr>
              <a:xfrm>
                <a:off x="5286240" y="1214280"/>
                <a:ext cx="14907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12"/>
              <p:cNvSpPr txBox="1"/>
              <p:nvPr/>
            </p:nvSpPr>
            <p:spPr>
              <a:xfrm>
                <a:off x="285840" y="2357280"/>
                <a:ext cx="12762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14"/>
              <p:cNvSpPr txBox="1"/>
              <p:nvPr/>
            </p:nvSpPr>
            <p:spPr>
              <a:xfrm>
                <a:off x="5429160" y="5286240"/>
                <a:ext cx="150012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Rectangle 2" descr=""/>
          <p:cNvPicPr/>
          <p:nvPr/>
        </p:nvPicPr>
        <p:blipFill>
          <a:blip r:embed="rId1"/>
          <a:stretch/>
        </p:blipFill>
        <p:spPr>
          <a:xfrm>
            <a:off x="208080" y="353880"/>
            <a:ext cx="8697960" cy="112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4" name=""/>
          <p:cNvGraphicFramePr/>
          <p:nvPr/>
        </p:nvGraphicFramePr>
        <p:xfrm>
          <a:off x="642960" y="1143000"/>
          <a:ext cx="7696080" cy="4846680"/>
        </p:xfrm>
        <a:graphic>
          <a:graphicData uri="http://schemas.openxmlformats.org/drawingml/2006/table">
            <a:tbl>
              <a:tblPr/>
              <a:tblGrid>
                <a:gridCol w="4032360"/>
                <a:gridCol w="1220760"/>
                <a:gridCol w="1222200"/>
                <a:gridCol w="12207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ять целых две десят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ль целых восемь тыся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и целых двадцать пять тыся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естнадцать целых пять сот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,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семнадцать целых восемь сот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идцать четыре целых сто пять тыся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,0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,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2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Выноска-облако 8"/>
          <p:cNvSpPr/>
          <p:nvPr/>
        </p:nvSpPr>
        <p:spPr>
          <a:xfrm>
            <a:off x="1071720" y="3929040"/>
            <a:ext cx="5715000" cy="2071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f7f7f"/>
          </a:solidFill>
          <a:ln w="25560">
            <a:solidFill>
              <a:srgbClr val="d3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6" name="Picture 4" descr="Кеплер"/>
          <p:cNvPicPr/>
          <p:nvPr/>
        </p:nvPicPr>
        <p:blipFill>
          <a:blip r:embed="rId1"/>
          <a:stretch/>
        </p:blipFill>
        <p:spPr>
          <a:xfrm>
            <a:off x="428760" y="1143000"/>
            <a:ext cx="2143080" cy="2286000"/>
          </a:xfrm>
          <a:prstGeom prst="rect">
            <a:avLst/>
          </a:prstGeom>
          <a:ln w="0">
            <a:noFill/>
          </a:ln>
        </p:spPr>
      </p:pic>
      <p:sp>
        <p:nvSpPr>
          <p:cNvPr id="757" name="Прямоугольник 2"/>
          <p:cNvSpPr/>
          <p:nvPr/>
        </p:nvSpPr>
        <p:spPr>
          <a:xfrm>
            <a:off x="2357280" y="1000080"/>
            <a:ext cx="657252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571 г. – 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Иоганн Кеплер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едложил современную запис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десятичных дробей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8" name="Picture 5" descr="Ломоносов"/>
          <p:cNvPicPr/>
          <p:nvPr/>
        </p:nvPicPr>
        <p:blipFill>
          <a:blip r:embed="rId2"/>
          <a:stretch/>
        </p:blipFill>
        <p:spPr>
          <a:xfrm>
            <a:off x="6858000" y="4214880"/>
            <a:ext cx="1959120" cy="2286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Хотабыч"/>
          <p:cNvPicPr/>
          <p:nvPr/>
        </p:nvPicPr>
        <p:blipFill>
          <a:blip r:embed="rId3"/>
          <a:stretch/>
        </p:blipFill>
        <p:spPr>
          <a:xfrm>
            <a:off x="-285840" y="4952880"/>
            <a:ext cx="2210040" cy="1905120"/>
          </a:xfrm>
          <a:prstGeom prst="rect">
            <a:avLst/>
          </a:prstGeom>
          <a:ln w="0">
            <a:noFill/>
          </a:ln>
        </p:spPr>
      </p:pic>
      <p:sp>
        <p:nvSpPr>
          <p:cNvPr id="760" name="Прямоугольник 7"/>
          <p:cNvSpPr/>
          <p:nvPr/>
        </p:nvSpPr>
        <p:spPr>
          <a:xfrm>
            <a:off x="1785960" y="42148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703 год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- В России учение о десятичных дробя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.В.Ломонос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1" name="Прямоугольник 10" descr=""/>
          <p:cNvPicPr/>
          <p:nvPr/>
        </p:nvPicPr>
        <p:blipFill>
          <a:blip r:embed="rId4"/>
          <a:stretch/>
        </p:blipFill>
        <p:spPr>
          <a:xfrm>
            <a:off x="208080" y="-171360"/>
            <a:ext cx="54799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i-main-pic" descr="Картинка 11 из 1561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04640"/>
            <a:ext cx="1106640" cy="16686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2" descr="Картинка 13 из 4923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04640"/>
            <a:ext cx="2232000" cy="174024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3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24080"/>
                <a:tab algn="l" pos="1495440"/>
                <a:tab algn="l" pos="4597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Прямоугольник 30"/>
          <p:cNvSpPr/>
          <p:nvPr/>
        </p:nvSpPr>
        <p:spPr>
          <a:xfrm>
            <a:off x="2916360" y="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"/>
                <a:ea typeface="Times New Roman"/>
              </a:rPr>
              <a:t>,,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Прямоугольник 31"/>
          <p:cNvSpPr/>
          <p:nvPr/>
        </p:nvSpPr>
        <p:spPr>
          <a:xfrm>
            <a:off x="5081760" y="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"/>
                <a:ea typeface="Times New Roman"/>
              </a:rPr>
              <a:t>,,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Прямоугольник 32"/>
          <p:cNvSpPr/>
          <p:nvPr/>
        </p:nvSpPr>
        <p:spPr>
          <a:xfrm>
            <a:off x="6378120" y="765000"/>
            <a:ext cx="86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"/>
              </a:rPr>
              <a:t>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611280" y="2276640"/>
            <a:ext cx="8064360" cy="424800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дание №1.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r>
              <a:rPr b="1" lang="ru-RU" sz="3600" spc="-1" strike="noStrike">
                <a:solidFill>
                  <a:srgbClr val="cc0099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cc0099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Franklin Gothic Book"/>
              </a:rPr>
              <a:t>       </a:t>
            </a:r>
            <a:r>
              <a:rPr b="1" lang="ru-RU" sz="3000" spc="-1" strike="noStrike">
                <a:solidFill>
                  <a:srgbClr val="9933ff"/>
                </a:solidFill>
                <a:latin typeface="Franklin Gothic Book"/>
              </a:rPr>
              <a:t>               </a:t>
            </a: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37"/>
              <p:cNvSpPr txBox="1"/>
              <p:nvPr/>
            </p:nvSpPr>
            <p:spPr>
              <a:xfrm>
                <a:off x="6659640" y="3789360"/>
                <a:ext cx="52524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39"/>
              <p:cNvSpPr txBox="1"/>
              <p:nvPr/>
            </p:nvSpPr>
            <p:spPr>
              <a:xfrm>
                <a:off x="4859280" y="4797360"/>
                <a:ext cx="1185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40"/>
              <p:cNvSpPr txBox="1"/>
              <p:nvPr/>
            </p:nvSpPr>
            <p:spPr>
              <a:xfrm>
                <a:off x="2314440" y="4292640"/>
                <a:ext cx="75276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41"/>
              <p:cNvSpPr txBox="1"/>
              <p:nvPr/>
            </p:nvSpPr>
            <p:spPr>
              <a:xfrm>
                <a:off x="1619280" y="2349360"/>
                <a:ext cx="628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3" name="Прямоугольник 39"/>
          <p:cNvSpPr/>
          <p:nvPr/>
        </p:nvSpPr>
        <p:spPr>
          <a:xfrm>
            <a:off x="5435640" y="3213000"/>
            <a:ext cx="78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entury Gothic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Прямоугольник 40"/>
          <p:cNvSpPr/>
          <p:nvPr/>
        </p:nvSpPr>
        <p:spPr>
          <a:xfrm>
            <a:off x="1120320" y="566100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cc0099"/>
                </a:solidFill>
                <a:latin typeface="Franklin Gothic Book"/>
              </a:rPr>
              <a:t>14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Прямоугольник 41"/>
          <p:cNvSpPr/>
          <p:nvPr/>
        </p:nvSpPr>
        <p:spPr>
          <a:xfrm>
            <a:off x="7596360" y="28526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Franklin Gothic Book"/>
              </a:rPr>
              <a:t>5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Прямоугольник 42"/>
          <p:cNvSpPr/>
          <p:nvPr/>
        </p:nvSpPr>
        <p:spPr>
          <a:xfrm>
            <a:off x="7401240" y="494172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6"/>
              <p:cNvSpPr txBox="1"/>
              <p:nvPr/>
            </p:nvSpPr>
            <p:spPr>
              <a:xfrm>
                <a:off x="3429000" y="3000240"/>
                <a:ext cx="78732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Прямоугольник 44"/>
          <p:cNvSpPr/>
          <p:nvPr/>
        </p:nvSpPr>
        <p:spPr>
          <a:xfrm>
            <a:off x="964080" y="40053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Franklin Gothic Book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оугольник 1"/>
          <p:cNvSpPr/>
          <p:nvPr/>
        </p:nvSpPr>
        <p:spPr>
          <a:xfrm>
            <a:off x="190440" y="214200"/>
            <a:ext cx="842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Запиши десятичные дроб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3" name="Picture 9" descr="pencil-764322"/>
          <p:cNvPicPr/>
          <p:nvPr/>
        </p:nvPicPr>
        <p:blipFill>
          <a:blip r:embed="rId1"/>
          <a:stretch/>
        </p:blipFill>
        <p:spPr>
          <a:xfrm>
            <a:off x="928800" y="5000760"/>
            <a:ext cx="1479600" cy="78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4" name="Object 6"/>
              <p:cNvSpPr txBox="1"/>
              <p:nvPr/>
            </p:nvSpPr>
            <p:spPr>
              <a:xfrm>
                <a:off x="782640" y="1344600"/>
                <a:ext cx="9921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2"/>
              <p:cNvSpPr txBox="1"/>
              <p:nvPr/>
            </p:nvSpPr>
            <p:spPr>
              <a:xfrm>
                <a:off x="2754360" y="1415880"/>
                <a:ext cx="7635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3"/>
              <p:cNvSpPr txBox="1"/>
              <p:nvPr/>
            </p:nvSpPr>
            <p:spPr>
              <a:xfrm>
                <a:off x="3040200" y="3630600"/>
                <a:ext cx="7635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4"/>
              <p:cNvSpPr txBox="1"/>
              <p:nvPr/>
            </p:nvSpPr>
            <p:spPr>
              <a:xfrm>
                <a:off x="5030640" y="3701880"/>
                <a:ext cx="10684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5"/>
              <p:cNvSpPr txBox="1"/>
              <p:nvPr/>
            </p:nvSpPr>
            <p:spPr>
              <a:xfrm>
                <a:off x="7199280" y="3701880"/>
                <a:ext cx="1017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7"/>
              <p:cNvSpPr txBox="1"/>
              <p:nvPr/>
            </p:nvSpPr>
            <p:spPr>
              <a:xfrm>
                <a:off x="7369200" y="1558800"/>
                <a:ext cx="5349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Object 8"/>
              <p:cNvSpPr txBox="1"/>
              <p:nvPr/>
            </p:nvSpPr>
            <p:spPr>
              <a:xfrm>
                <a:off x="5083200" y="1487520"/>
                <a:ext cx="5349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Object 9"/>
              <p:cNvSpPr txBox="1"/>
              <p:nvPr/>
            </p:nvSpPr>
            <p:spPr>
              <a:xfrm>
                <a:off x="912960" y="3630600"/>
                <a:ext cx="10173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2" name="Прямоугольник 12"/>
          <p:cNvSpPr/>
          <p:nvPr/>
        </p:nvSpPr>
        <p:spPr>
          <a:xfrm>
            <a:off x="428760" y="4786200"/>
            <a:ext cx="814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mic Sans MS"/>
              </a:rPr>
              <a:t>3,07 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262626"/>
                </a:solidFill>
                <a:latin typeface="Comic Sans MS"/>
              </a:rPr>
              <a:t>0,6       9,04     5,1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Rectangle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 txBox="1"/>
          <p:nvPr/>
        </p:nvSpPr>
        <p:spPr>
          <a:xfrm>
            <a:off x="0" y="128556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4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262626"/>
                </a:solidFill>
                <a:uFillTx/>
                <a:latin typeface="Comic Sans MS"/>
              </a:rPr>
              <a:t>С.180 читать, №1166(а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4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4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4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Comic Sans MS"/>
              </a:rPr>
              <a:t>По желанию составить кроссворд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4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Comic Sans MS"/>
              </a:rPr>
              <a:t>из 5 – 7 слов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4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Comic Sans MS"/>
              </a:rPr>
              <a:t>по теме «Дроби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775" name="Picture 8" descr="BS00554_"/>
          <p:cNvPicPr/>
          <p:nvPr/>
        </p:nvPicPr>
        <p:blipFill>
          <a:blip r:embed="rId2"/>
          <a:stretch/>
        </p:blipFill>
        <p:spPr>
          <a:xfrm>
            <a:off x="642960" y="4786200"/>
            <a:ext cx="1720800" cy="1500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0" descr="office22"/>
          <p:cNvPicPr/>
          <p:nvPr/>
        </p:nvPicPr>
        <p:blipFill>
          <a:blip r:embed="rId3"/>
          <a:stretch/>
        </p:blipFill>
        <p:spPr>
          <a:xfrm>
            <a:off x="7072200" y="2071800"/>
            <a:ext cx="1722600" cy="126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AutoShape 7"/>
          <p:cNvSpPr/>
          <p:nvPr/>
        </p:nvSpPr>
        <p:spPr>
          <a:xfrm>
            <a:off x="428760" y="1500120"/>
            <a:ext cx="8059680" cy="2630520"/>
          </a:xfrm>
          <a:custGeom>
            <a:avLst/>
            <a:gdLst>
              <a:gd name="textAreaLeft" fmla="*/ 1446120 w 8059680"/>
              <a:gd name="textAreaRight" fmla="*/ 6613560 w 8059680"/>
              <a:gd name="textAreaTop" fmla="*/ 129240 h 2630520"/>
              <a:gd name="textAreaBottom" fmla="*/ 1724760 h 2630520"/>
            </a:gdLst>
            <a:ahLst/>
            <a:rect l="textAreaLeft" t="textAreaTop" r="textAreaRight" b="textAreaBottom"/>
            <a:pathLst>
              <a:path w="21600" h="21600">
                <a:moveTo>
                  <a:pt x="0" y="7438"/>
                </a:moveTo>
                <a:arcTo wR="21600" hR="20153" stAng="-7304956" swAng="708783"/>
                <a:lnTo>
                  <a:pt x="3876" y="1063"/>
                </a:lnTo>
                <a:arcTo wR="21600" hR="20153" stAng="-6596174" swAng="2392347"/>
                <a:lnTo>
                  <a:pt x="17724" y="5801"/>
                </a:lnTo>
                <a:arcTo wR="21600" hR="20153" stAng="-4203826" swAng="708783"/>
                <a:lnTo>
                  <a:pt x="18900" y="13290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181124"/>
                <a:lnTo>
                  <a:pt x="15024" y="14551"/>
                </a:lnTo>
                <a:arcTo wR="21600" hR="20153" stAng="-4676168" swAng="-1447664"/>
                <a:lnTo>
                  <a:pt x="6576" y="19289"/>
                </a:lnTo>
                <a:arcTo wR="21600" hR="20153" stAng="-6123832" swAng="-1181124"/>
                <a:lnTo>
                  <a:pt x="2700" y="13290"/>
                </a:lnTo>
                <a:close/>
              </a:path>
              <a:path fill="none" w="21600" h="21600">
                <a:moveTo>
                  <a:pt x="6576" y="14551"/>
                </a:moveTo>
                <a:arcTo wR="21600" hR="20153" stAng="-6123832" swAng="-472342"/>
                <a:lnTo>
                  <a:pt x="6576" y="19289"/>
                </a:lnTo>
              </a:path>
              <a:path fill="none" w="21600" h="21600">
                <a:moveTo>
                  <a:pt x="15024" y="14551"/>
                </a:moveTo>
                <a:arcTo wR="21600" hR="20153" stAng="-4676168" swAng="472342"/>
                <a:lnTo>
                  <a:pt x="15024" y="19289"/>
                </a:lnTo>
              </a:path>
              <a:path fill="none" w="21600" h="21600">
                <a:moveTo>
                  <a:pt x="3876" y="5801"/>
                </a:moveTo>
                <a:lnTo>
                  <a:pt x="3876" y="15225"/>
                </a:lnTo>
              </a:path>
              <a:path fill="none" w="21600" h="21600">
                <a:moveTo>
                  <a:pt x="17724" y="5801"/>
                </a:moveTo>
                <a:lnTo>
                  <a:pt x="17724" y="15225"/>
                </a:lnTo>
              </a:path>
            </a:pathLst>
          </a:custGeom>
          <a:solidFill>
            <a:srgbClr val="cca192">
              <a:alpha val="59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99"/>
                </a:solidFill>
                <a:latin typeface="Comic Sans MS"/>
              </a:rPr>
              <a:t>Спасибо за работу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99"/>
                </a:solidFill>
                <a:latin typeface="Comic Sans MS"/>
              </a:rPr>
              <a:t>на урок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Picture 22" descr="85"/>
          <p:cNvPicPr/>
          <p:nvPr/>
        </p:nvPicPr>
        <p:blipFill>
          <a:blip r:embed="rId1"/>
          <a:stretch/>
        </p:blipFill>
        <p:spPr>
          <a:xfrm>
            <a:off x="7786800" y="0"/>
            <a:ext cx="1214280" cy="11523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2" descr="3"/>
          <p:cNvPicPr/>
          <p:nvPr/>
        </p:nvPicPr>
        <p:blipFill>
          <a:blip r:embed="rId2"/>
          <a:stretch/>
        </p:blipFill>
        <p:spPr>
          <a:xfrm>
            <a:off x="571680" y="4429080"/>
            <a:ext cx="3447720" cy="2030400"/>
          </a:xfrm>
          <a:prstGeom prst="rect">
            <a:avLst/>
          </a:prstGeom>
          <a:ln w="0">
            <a:noFill/>
          </a:ln>
        </p:spPr>
      </p:pic>
      <p:sp>
        <p:nvSpPr>
          <p:cNvPr id="780" name="Прямоугольник 4"/>
          <p:cNvSpPr/>
          <p:nvPr/>
        </p:nvSpPr>
        <p:spPr>
          <a:xfrm>
            <a:off x="0" y="2142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Знания имей отличные по теме дроби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ДЕСЯТИЧНЫЕ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6"/>
          <p:cNvSpPr/>
          <p:nvPr/>
        </p:nvSpPr>
        <p:spPr>
          <a:xfrm>
            <a:off x="3132000" y="376200"/>
            <a:ext cx="316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дание №2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7"/>
          <p:cNvSpPr/>
          <p:nvPr/>
        </p:nvSpPr>
        <p:spPr>
          <a:xfrm flipV="1" rot="10800000">
            <a:off x="243000" y="1051920"/>
            <a:ext cx="86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Назовите правильные дроб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8"/>
              <p:cNvSpPr txBox="1"/>
              <p:nvPr/>
            </p:nvSpPr>
            <p:spPr>
              <a:xfrm>
                <a:off x="755640" y="3213000"/>
                <a:ext cx="763272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2" name="Line 9"/>
          <p:cNvSpPr/>
          <p:nvPr/>
        </p:nvSpPr>
        <p:spPr>
          <a:xfrm>
            <a:off x="826920" y="537372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Line 11"/>
          <p:cNvSpPr/>
          <p:nvPr/>
        </p:nvSpPr>
        <p:spPr>
          <a:xfrm>
            <a:off x="7164360" y="5300640"/>
            <a:ext cx="107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5" name="Group 12"/>
          <p:cNvGrpSpPr/>
          <p:nvPr/>
        </p:nvGrpSpPr>
        <p:grpSpPr>
          <a:xfrm>
            <a:off x="3419640" y="5300640"/>
            <a:ext cx="1152000" cy="73080"/>
            <a:chOff x="3419640" y="5300640"/>
            <a:chExt cx="1152000" cy="73080"/>
          </a:xfrm>
        </p:grpSpPr>
        <p:sp>
          <p:nvSpPr>
            <p:cNvPr id="636" name="Line 13"/>
            <p:cNvSpPr/>
            <p:nvPr/>
          </p:nvSpPr>
          <p:spPr>
            <a:xfrm>
              <a:off x="3419640" y="5300640"/>
              <a:ext cx="1152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3419640" y="5373720"/>
              <a:ext cx="1152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8" name="Group 15"/>
          <p:cNvGrpSpPr/>
          <p:nvPr/>
        </p:nvGrpSpPr>
        <p:grpSpPr>
          <a:xfrm>
            <a:off x="4716360" y="5300640"/>
            <a:ext cx="1008000" cy="73080"/>
            <a:chOff x="4716360" y="5300640"/>
            <a:chExt cx="1008000" cy="73080"/>
          </a:xfrm>
        </p:grpSpPr>
        <p:sp>
          <p:nvSpPr>
            <p:cNvPr id="639" name="Line 16"/>
            <p:cNvSpPr/>
            <p:nvPr/>
          </p:nvSpPr>
          <p:spPr>
            <a:xfrm>
              <a:off x="4716360" y="5300640"/>
              <a:ext cx="1008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>
              <a:off x="4716360" y="5373720"/>
              <a:ext cx="1008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1" name="Group 18"/>
          <p:cNvGrpSpPr/>
          <p:nvPr/>
        </p:nvGrpSpPr>
        <p:grpSpPr>
          <a:xfrm>
            <a:off x="5867280" y="5300640"/>
            <a:ext cx="1008360" cy="73080"/>
            <a:chOff x="5867280" y="5300640"/>
            <a:chExt cx="1008360" cy="73080"/>
          </a:xfrm>
        </p:grpSpPr>
        <p:sp>
          <p:nvSpPr>
            <p:cNvPr id="642" name="Line 19"/>
            <p:cNvSpPr/>
            <p:nvPr/>
          </p:nvSpPr>
          <p:spPr>
            <a:xfrm>
              <a:off x="5867280" y="5300640"/>
              <a:ext cx="100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20"/>
            <p:cNvSpPr/>
            <p:nvPr/>
          </p:nvSpPr>
          <p:spPr>
            <a:xfrm>
              <a:off x="5867280" y="5373720"/>
              <a:ext cx="100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4" name="Rectangle 30"/>
          <p:cNvSpPr/>
          <p:nvPr/>
        </p:nvSpPr>
        <p:spPr>
          <a:xfrm>
            <a:off x="900000" y="184464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и неправильные дроб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2987640" y="1159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дание №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900000" y="76500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Определите координаты точек на данном координатном луче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4"/>
          <p:cNvSpPr/>
          <p:nvPr/>
        </p:nvSpPr>
        <p:spPr>
          <a:xfrm>
            <a:off x="900000" y="292428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5"/>
          <p:cNvSpPr/>
          <p:nvPr/>
        </p:nvSpPr>
        <p:spPr>
          <a:xfrm>
            <a:off x="900000" y="292428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6"/>
          <p:cNvSpPr/>
          <p:nvPr/>
        </p:nvSpPr>
        <p:spPr>
          <a:xfrm>
            <a:off x="1692360" y="2924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7"/>
          <p:cNvSpPr/>
          <p:nvPr/>
        </p:nvSpPr>
        <p:spPr>
          <a:xfrm>
            <a:off x="2484360" y="292428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8"/>
          <p:cNvSpPr/>
          <p:nvPr/>
        </p:nvSpPr>
        <p:spPr>
          <a:xfrm>
            <a:off x="3276720" y="2924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9"/>
          <p:cNvSpPr/>
          <p:nvPr/>
        </p:nvSpPr>
        <p:spPr>
          <a:xfrm>
            <a:off x="4067280" y="2924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10"/>
          <p:cNvSpPr/>
          <p:nvPr/>
        </p:nvSpPr>
        <p:spPr>
          <a:xfrm>
            <a:off x="4859280" y="292428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11"/>
          <p:cNvSpPr/>
          <p:nvPr/>
        </p:nvSpPr>
        <p:spPr>
          <a:xfrm>
            <a:off x="5651640" y="2924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2"/>
          <p:cNvSpPr/>
          <p:nvPr/>
        </p:nvSpPr>
        <p:spPr>
          <a:xfrm>
            <a:off x="6443640" y="292428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611280" y="220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a5644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2987640" y="220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a5644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3780000" y="220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a5644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5364000" y="2205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a5644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7"/>
          <p:cNvSpPr/>
          <p:nvPr/>
        </p:nvSpPr>
        <p:spPr>
          <a:xfrm>
            <a:off x="6948360" y="2205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a5644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46836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9"/>
          <p:cNvSpPr/>
          <p:nvPr/>
        </p:nvSpPr>
        <p:spPr>
          <a:xfrm>
            <a:off x="594036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20"/>
              <p:cNvSpPr txBox="1"/>
              <p:nvPr/>
            </p:nvSpPr>
            <p:spPr>
              <a:xfrm>
                <a:off x="3059280" y="2997360"/>
                <a:ext cx="504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21"/>
              <p:cNvSpPr txBox="1"/>
              <p:nvPr/>
            </p:nvSpPr>
            <p:spPr>
              <a:xfrm>
                <a:off x="3924360" y="3068640"/>
                <a:ext cx="334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22"/>
              <p:cNvSpPr txBox="1"/>
              <p:nvPr/>
            </p:nvSpPr>
            <p:spPr>
              <a:xfrm>
                <a:off x="5508720" y="3068640"/>
                <a:ext cx="326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3"/>
              <p:cNvSpPr txBox="1"/>
              <p:nvPr/>
            </p:nvSpPr>
            <p:spPr>
              <a:xfrm>
                <a:off x="7093080" y="3068640"/>
                <a:ext cx="326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67" name="Picture 24" descr="dog13"/>
          <p:cNvPicPr/>
          <p:nvPr/>
        </p:nvPicPr>
        <p:blipFill>
          <a:blip r:embed="rId1"/>
          <a:stretch/>
        </p:blipFill>
        <p:spPr>
          <a:xfrm>
            <a:off x="611280" y="4724280"/>
            <a:ext cx="7777080" cy="13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Прямоугольник 1"/>
          <p:cNvSpPr/>
          <p:nvPr/>
        </p:nvSpPr>
        <p:spPr>
          <a:xfrm>
            <a:off x="2649600" y="428760"/>
            <a:ext cx="30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дание №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Прямоугольник 2"/>
          <p:cNvSpPr/>
          <p:nvPr/>
        </p:nvSpPr>
        <p:spPr>
          <a:xfrm>
            <a:off x="243360" y="1428840"/>
            <a:ext cx="857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ыделите из неправильной дроб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целую часть          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Прямоугольник 3"/>
          <p:cNvSpPr/>
          <p:nvPr/>
        </p:nvSpPr>
        <p:spPr>
          <a:xfrm>
            <a:off x="558360" y="3929040"/>
            <a:ext cx="790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mic Sans MS"/>
              </a:rPr>
              <a:t>Представьте смешанное числ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mic Sans MS"/>
              </a:rPr>
              <a:t>в виде неправильной дроби    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5072040" y="2286000"/>
                <a:ext cx="5367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3"/>
              <p:cNvSpPr txBox="1"/>
              <p:nvPr/>
            </p:nvSpPr>
            <p:spPr>
              <a:xfrm>
                <a:off x="7400880" y="4857840"/>
                <a:ext cx="5652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Прямоугольник 1"/>
          <p:cNvSpPr/>
          <p:nvPr/>
        </p:nvSpPr>
        <p:spPr>
          <a:xfrm>
            <a:off x="2182680" y="142920"/>
            <a:ext cx="416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стный счё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TextBox 3"/>
          <p:cNvSpPr/>
          <p:nvPr/>
        </p:nvSpPr>
        <p:spPr>
          <a:xfrm>
            <a:off x="629280" y="126828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1.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1"/>
              <p:cNvSpPr txBox="1"/>
              <p:nvPr/>
            </p:nvSpPr>
            <p:spPr>
              <a:xfrm>
                <a:off x="1116000" y="1052640"/>
                <a:ext cx="5652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Прямоугольник 5"/>
          <p:cNvSpPr/>
          <p:nvPr/>
        </p:nvSpPr>
        <p:spPr>
          <a:xfrm>
            <a:off x="428760" y="24289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omic Sans MS"/>
              </a:rPr>
              <a:t>2.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258920" y="2205000"/>
                <a:ext cx="506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8" name="Прямоугольник 7"/>
          <p:cNvSpPr/>
          <p:nvPr/>
        </p:nvSpPr>
        <p:spPr>
          <a:xfrm>
            <a:off x="428760" y="3643200"/>
            <a:ext cx="46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3.       увеличить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3"/>
              <p:cNvSpPr txBox="1"/>
              <p:nvPr/>
            </p:nvSpPr>
            <p:spPr>
              <a:xfrm>
                <a:off x="1071720" y="3429000"/>
                <a:ext cx="564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4786200" y="3429000"/>
                <a:ext cx="5652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1" name="Прямоугольник 11"/>
          <p:cNvSpPr/>
          <p:nvPr/>
        </p:nvSpPr>
        <p:spPr>
          <a:xfrm>
            <a:off x="591120" y="4786200"/>
            <a:ext cx="45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omic Sans MS"/>
              </a:rPr>
              <a:t>4.  разность чисел      и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6"/>
              <p:cNvSpPr txBox="1"/>
              <p:nvPr/>
            </p:nvSpPr>
            <p:spPr>
              <a:xfrm>
                <a:off x="3924360" y="4508640"/>
                <a:ext cx="5652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7"/>
              <p:cNvSpPr txBox="1"/>
              <p:nvPr/>
            </p:nvSpPr>
            <p:spPr>
              <a:xfrm>
                <a:off x="5148360" y="4581360"/>
                <a:ext cx="476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4" name="Прямоугольник 14"/>
          <p:cNvSpPr/>
          <p:nvPr/>
        </p:nvSpPr>
        <p:spPr>
          <a:xfrm>
            <a:off x="798840" y="5786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5.     часа    ? мину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8"/>
              <p:cNvSpPr txBox="1"/>
              <p:nvPr/>
            </p:nvSpPr>
            <p:spPr>
              <a:xfrm>
                <a:off x="1187280" y="5516640"/>
                <a:ext cx="3574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Прямоугольник 1"/>
          <p:cNvSpPr/>
          <p:nvPr/>
        </p:nvSpPr>
        <p:spPr>
          <a:xfrm>
            <a:off x="2182680" y="142920"/>
            <a:ext cx="416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стный счё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Box 3"/>
          <p:cNvSpPr/>
          <p:nvPr/>
        </p:nvSpPr>
        <p:spPr>
          <a:xfrm>
            <a:off x="416880" y="1214280"/>
            <a:ext cx="80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6.В классе 17 человек. 9 чел. участвовал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в соревнованиях.         ? ча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Прямоугольник 5"/>
          <p:cNvSpPr/>
          <p:nvPr/>
        </p:nvSpPr>
        <p:spPr>
          <a:xfrm>
            <a:off x="428760" y="242892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omic Sans MS"/>
              </a:rPr>
              <a:t>7.  5 конфет- это    всех конфет. Всего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3"/>
              <p:cNvSpPr txBox="1"/>
              <p:nvPr/>
            </p:nvSpPr>
            <p:spPr>
              <a:xfrm>
                <a:off x="3857760" y="2143080"/>
                <a:ext cx="3283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0" name="Прямоугольник 7"/>
          <p:cNvSpPr/>
          <p:nvPr/>
        </p:nvSpPr>
        <p:spPr>
          <a:xfrm>
            <a:off x="428760" y="364320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8. В книге 140 страниц. Рассказ -     ?стр.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5"/>
              <p:cNvSpPr txBox="1"/>
              <p:nvPr/>
            </p:nvSpPr>
            <p:spPr>
              <a:xfrm>
                <a:off x="6675480" y="3286080"/>
                <a:ext cx="3571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Прямоугольник 11"/>
          <p:cNvSpPr/>
          <p:nvPr/>
        </p:nvSpPr>
        <p:spPr>
          <a:xfrm>
            <a:off x="754920" y="4786200"/>
            <a:ext cx="75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omic Sans MS"/>
              </a:rPr>
              <a:t>9. Площадь поля 15 га. Вспахали       ? 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7"/>
              <p:cNvSpPr txBox="1"/>
              <p:nvPr/>
            </p:nvSpPr>
            <p:spPr>
              <a:xfrm>
                <a:off x="6988320" y="4572000"/>
                <a:ext cx="3571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4" name="Прямоугольник 14"/>
          <p:cNvSpPr/>
          <p:nvPr/>
        </p:nvSpPr>
        <p:spPr>
          <a:xfrm>
            <a:off x="1419480" y="5643720"/>
            <a:ext cx="670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10. Прочитали 40 стр. или    книг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Всего страниц?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9"/>
              <p:cNvSpPr txBox="1"/>
              <p:nvPr/>
            </p:nvSpPr>
            <p:spPr>
              <a:xfrm>
                <a:off x="5572080" y="5429160"/>
                <a:ext cx="3571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WordArt 4"/>
          <p:cNvSpPr txBox="1"/>
          <p:nvPr/>
        </p:nvSpPr>
        <p:spPr>
          <a:xfrm>
            <a:off x="3059280" y="5445000"/>
            <a:ext cx="2752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Comic Sans MS"/>
              </a:rPr>
              <a:t> 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97" name="Прямоугольник 6"/>
          <p:cNvSpPr/>
          <p:nvPr/>
        </p:nvSpPr>
        <p:spPr>
          <a:xfrm>
            <a:off x="879840" y="285840"/>
            <a:ext cx="723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Проверь и оцени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71680" y="2357280"/>
          <a:ext cx="7786440" cy="2214720"/>
        </p:xfrm>
        <a:graphic>
          <a:graphicData uri="http://schemas.openxmlformats.org/drawingml/2006/table">
            <a:tbl>
              <a:tblPr/>
              <a:tblGrid>
                <a:gridCol w="779400"/>
                <a:gridCol w="777600"/>
                <a:gridCol w="779760"/>
                <a:gridCol w="777600"/>
                <a:gridCol w="779760"/>
                <a:gridCol w="777600"/>
                <a:gridCol w="779400"/>
                <a:gridCol w="777960"/>
                <a:gridCol w="779400"/>
                <a:gridCol w="777960"/>
              </a:tblGrid>
              <a:tr h="10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5к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 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 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0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7bfa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9" name="Object 1"/>
              <p:cNvSpPr txBox="1"/>
              <p:nvPr/>
            </p:nvSpPr>
            <p:spPr>
              <a:xfrm>
                <a:off x="1370160" y="3357720"/>
                <a:ext cx="6840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8"/>
              <p:cNvSpPr txBox="1"/>
              <p:nvPr/>
            </p:nvSpPr>
            <p:spPr>
              <a:xfrm>
                <a:off x="714240" y="3429000"/>
                <a:ext cx="5349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9"/>
              <p:cNvSpPr txBox="1"/>
              <p:nvPr/>
            </p:nvSpPr>
            <p:spPr>
              <a:xfrm>
                <a:off x="2214720" y="3429000"/>
                <a:ext cx="564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0"/>
              <p:cNvSpPr txBox="1"/>
              <p:nvPr/>
            </p:nvSpPr>
            <p:spPr>
              <a:xfrm>
                <a:off x="3014640" y="3429000"/>
                <a:ext cx="5349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6"/>
              <p:cNvSpPr txBox="1"/>
              <p:nvPr/>
            </p:nvSpPr>
            <p:spPr>
              <a:xfrm>
                <a:off x="4602240" y="3429000"/>
                <a:ext cx="5047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4" name="Picture 9" descr="pencil-764322"/>
          <p:cNvPicPr/>
          <p:nvPr/>
        </p:nvPicPr>
        <p:blipFill>
          <a:blip r:embed="rId1"/>
          <a:stretch/>
        </p:blipFill>
        <p:spPr>
          <a:xfrm>
            <a:off x="6516720" y="5445000"/>
            <a:ext cx="2004840" cy="10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82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Franklin Gothic Book"/>
              </a:rPr>
              <a:t>          </a:t>
            </a:r>
            <a:r>
              <a:rPr b="1" i="1" lang="ru-RU" sz="3200" spc="-1" strike="noStrike">
                <a:solidFill>
                  <a:srgbClr val="3333ff"/>
                </a:solidFill>
                <a:latin typeface="Franklin Gothic Book"/>
              </a:rPr>
              <a:t>Классная  работа</a:t>
            </a:r>
            <a:r>
              <a:rPr b="0" i="1" lang="ru-RU" sz="3200" spc="-1" strike="noStrike">
                <a:solidFill>
                  <a:srgbClr val="3333ff"/>
                </a:solidFill>
                <a:latin typeface="Franklin Gothic Book"/>
              </a:rPr>
              <a:t>        </a:t>
            </a:r>
            <a:r>
              <a:rPr b="1" i="1" lang="ru-RU" sz="3200" spc="-1" strike="noStrike">
                <a:solidFill>
                  <a:srgbClr val="3333ff"/>
                </a:solidFill>
                <a:latin typeface="Franklin Gothic Book"/>
              </a:rPr>
              <a:t>01.02.12г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ff"/>
                </a:solidFill>
                <a:latin typeface="Franklin Gothic Book"/>
              </a:rPr>
              <a:t>                 </a:t>
            </a:r>
            <a:r>
              <a:rPr b="0" i="1" lang="ru-RU" sz="2000" spc="-1" strike="noStrike">
                <a:solidFill>
                  <a:srgbClr val="3333ff"/>
                </a:solidFill>
                <a:latin typeface="Franklin Gothic Book"/>
              </a:rPr>
              <a:t> </a:t>
            </a:r>
            <a:r>
              <a:rPr b="0" i="1" lang="ru-RU" sz="3200" spc="-1" strike="noStrike">
                <a:solidFill>
                  <a:srgbClr val="cc0000"/>
                </a:solidFill>
                <a:latin typeface="Comic Sans MS"/>
              </a:rPr>
              <a:t>Десятичная запись дробных  чисе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Oval 4"/>
          <p:cNvSpPr/>
          <p:nvPr/>
        </p:nvSpPr>
        <p:spPr>
          <a:xfrm>
            <a:off x="3286080" y="4500720"/>
            <a:ext cx="2819520" cy="1752480"/>
          </a:xfrm>
          <a:prstGeom prst="ellipse">
            <a:avLst/>
          </a:prstGeom>
          <a:gradFill rotWithShape="0">
            <a:gsLst>
              <a:gs pos="0">
                <a:srgbClr val="f0a22e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есятич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роб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val 6"/>
          <p:cNvSpPr/>
          <p:nvPr/>
        </p:nvSpPr>
        <p:spPr>
          <a:xfrm>
            <a:off x="6286680" y="3286080"/>
            <a:ext cx="2685960" cy="151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КА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ЗАПИСЫВАЮ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Oval 8"/>
          <p:cNvSpPr/>
          <p:nvPr/>
        </p:nvSpPr>
        <p:spPr>
          <a:xfrm>
            <a:off x="214200" y="3286080"/>
            <a:ext cx="2766960" cy="1300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ИСТОРИЯ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ВОЗНИКНОВ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Oval 9"/>
          <p:cNvSpPr/>
          <p:nvPr/>
        </p:nvSpPr>
        <p:spPr>
          <a:xfrm>
            <a:off x="3286080" y="2143080"/>
            <a:ext cx="2651040" cy="1461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КАК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ЧИТАЮ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Line 10"/>
          <p:cNvSpPr/>
          <p:nvPr/>
        </p:nvSpPr>
        <p:spPr>
          <a:xfrm>
            <a:off x="2714760" y="4357800"/>
            <a:ext cx="785520" cy="57132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Line 12"/>
          <p:cNvSpPr/>
          <p:nvPr/>
        </p:nvSpPr>
        <p:spPr>
          <a:xfrm>
            <a:off x="4572000" y="3643200"/>
            <a:ext cx="46080" cy="78588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Line 13"/>
          <p:cNvSpPr/>
          <p:nvPr/>
        </p:nvSpPr>
        <p:spPr>
          <a:xfrm flipV="1">
            <a:off x="6000840" y="4572000"/>
            <a:ext cx="714240" cy="37152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3" name="Picture 16" descr="ученик"/>
          <p:cNvPicPr/>
          <p:nvPr/>
        </p:nvPicPr>
        <p:blipFill>
          <a:blip r:embed="rId1"/>
          <a:stretch/>
        </p:blipFill>
        <p:spPr>
          <a:xfrm>
            <a:off x="214200" y="214200"/>
            <a:ext cx="161460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9:09:29Z</dcterms:created>
  <dc:creator>Администратор</dc:creator>
  <dc:description/>
  <dc:language>en-US</dc:language>
  <cp:lastModifiedBy>Елена</cp:lastModifiedBy>
  <dcterms:modified xsi:type="dcterms:W3CDTF">2012-01-30T10:28:35Z</dcterms:modified>
  <cp:revision>147</cp:revision>
  <dc:subject/>
  <dc:title>Слайд 1</dc:title>
</cp:coreProperties>
</file>