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47B8-D3F5-4AC5-9FA2-FB6BC922736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D573-92E5-4178-90ED-0392FB25D99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1162-B6AC-46E1-AE67-988818D2FB0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9396-8026-45C7-ACBA-4B3F4EFB6F4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9636-9F32-407F-969C-9F57C8637C8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58E9-22A2-4D22-A11D-7F48969B51C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34AA-1830-417D-BAE6-77241AB16DB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DEFB-ECFF-42AA-A025-E4C0C95A1F3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6972-6D47-4711-9AF3-9E61FE74F69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8805-9E73-44D0-9EFF-150679D6F66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D8CE-0D17-4627-8FB8-93DAF69981C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1CF1-1D43-49F3-886C-075F9E787D0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DF46-21E7-4792-B409-2D305A7DF58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21C8-6C0A-4396-A76C-14765550E13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8EEC-E62C-42A9-9BC5-EF7913B06D2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0240-C586-48AF-95FF-8677E624171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CD8A-70E0-4CEB-BE31-B605918590D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87E5-2A17-4364-A9F8-D986A888DE2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77BB-FBB4-4A55-BC30-2B763402C7E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3FD6-AA35-45DF-9E28-2D3FD9919FA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7694-BDC6-42F3-BD79-1D31FF38854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846-E025-499F-83EA-3ACFB55A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AA23-866D-441C-8B5B-BAFF79A3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755E-DD3F-4AEE-9587-36533ACE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DA5D-3F89-4F90-8D0A-807AB9EE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E2A4-4812-4506-918C-C5FF2C64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3DF1-D921-4172-AE25-CC22DDDB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094D-FA89-40B6-882D-22DED7E8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BDE9-4B22-495E-9590-4616D918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783A-8D06-419F-A6FD-61C981A3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5542-3309-460D-9DC6-19A089D1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F899-C5A6-40D3-A030-A13C0EAD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BB6-1ABF-4A08-9C6B-55E8F2E7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1FD4-1F64-47AB-A0B1-AB63F31C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F187-01C6-4F5C-AF71-1AC134A9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86BA-4C50-4808-B76D-1C893613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CE7A-3C3C-4153-958B-A4A2BAFB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8581-5FA0-427D-B787-3BD34F75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E660-758D-4897-9C34-2F77BF76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C9B-E727-4E63-9CE2-6B8E72F7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882-F5BA-44EE-8C72-C502090F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CC6F-6486-411F-8C0E-F9F86FE3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B0BB-E638-4FD8-8918-CBEF4605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374D-3895-407D-AF77-2BE7D7B8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B6DE-DA5F-4061-819C-17C17CD9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E9F1-A266-444A-8C84-46214440216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1D5E-F8A6-4A71-BB40-8DA1A146AE7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ffff"/>
                </a:solidFill>
                <a:latin typeface="Times New Roman"/>
              </a:rPr>
              <a:t>Прямоугольный параллелепипед</a:t>
            </a:r>
            <a:endParaRPr b="0" lang="en-US" sz="88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93236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5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5"/>
          <p:cNvSpPr/>
          <p:nvPr/>
        </p:nvSpPr>
        <p:spPr>
          <a:xfrm>
            <a:off x="2556000" y="5300640"/>
            <a:ext cx="3960720" cy="865080"/>
          </a:xfrm>
          <a:prstGeom prst="pie">
            <a:avLst/>
          </a:prstGeom>
          <a:solidFill>
            <a:srgbClr val="00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380880"/>
            <a:ext cx="8640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Поверхность прямоугольного параллелепипеда состоит из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граней</a:t>
            </a:r>
            <a:endParaRPr b="0" lang="en-US" sz="3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324000" y="4581360"/>
            <a:ext cx="2340000" cy="505080"/>
          </a:xfrm>
          <a:prstGeom prst="wedgeRoundRectCallout">
            <a:avLst>
              <a:gd name="adj1" fmla="val 77407"/>
              <a:gd name="adj2" fmla="val 221699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ижня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Freeform 14"/>
          <p:cNvSpPr/>
          <p:nvPr/>
        </p:nvSpPr>
        <p:spPr>
          <a:xfrm>
            <a:off x="2556000" y="2708280"/>
            <a:ext cx="3960720" cy="865080"/>
          </a:xfrm>
          <a:prstGeom prst="pie">
            <a:avLst/>
          </a:prstGeom>
          <a:solidFill>
            <a:srgbClr val="00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6227640" y="1700280"/>
            <a:ext cx="2449800" cy="504720"/>
          </a:xfrm>
          <a:prstGeom prst="wedgeRoundRectCallout">
            <a:avLst>
              <a:gd name="adj1" fmla="val -92319"/>
              <a:gd name="adj2" fmla="val 192453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рхня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Поверхность прямоугольного параллелепипеда состоит из</a:t>
            </a:r>
            <a:r>
              <a:rPr b="0" i="1" lang="en-US" sz="36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6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граней</a:t>
            </a:r>
            <a:endParaRPr b="0" lang="en-US" sz="3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99" name="Freeform 9"/>
          <p:cNvSpPr/>
          <p:nvPr/>
        </p:nvSpPr>
        <p:spPr>
          <a:xfrm>
            <a:off x="5651640" y="2708280"/>
            <a:ext cx="865080" cy="3457440"/>
          </a:xfrm>
          <a:prstGeom prst="pie">
            <a:avLst/>
          </a:prstGeom>
          <a:solidFill>
            <a:srgbClr val="fba3e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Freeform 10"/>
          <p:cNvSpPr/>
          <p:nvPr/>
        </p:nvSpPr>
        <p:spPr>
          <a:xfrm>
            <a:off x="2556000" y="2708280"/>
            <a:ext cx="865080" cy="3457440"/>
          </a:xfrm>
          <a:prstGeom prst="pie">
            <a:avLst/>
          </a:prstGeom>
          <a:solidFill>
            <a:srgbClr val="fba3e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6804000" y="2852640"/>
            <a:ext cx="2016000" cy="505080"/>
          </a:xfrm>
          <a:prstGeom prst="wedgeRoundRectCallout">
            <a:avLst>
              <a:gd name="adj1" fmla="val -83305"/>
              <a:gd name="adj2" fmla="val 156287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кова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3492360" y="1557360"/>
            <a:ext cx="2340000" cy="504720"/>
          </a:xfrm>
          <a:prstGeom prst="wedgeRoundRectCallout">
            <a:avLst>
              <a:gd name="adj1" fmla="val -64245"/>
              <a:gd name="adj2" fmla="val 302828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кова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Стороны граней называются</a:t>
            </a:r>
            <a:r>
              <a:rPr b="0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ребрами</a:t>
            </a:r>
            <a:r>
              <a:rPr b="1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параллелепипеда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40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45"/>
          <p:cNvSpPr/>
          <p:nvPr/>
        </p:nvSpPr>
        <p:spPr>
          <a:xfrm flipV="1">
            <a:off x="5651640" y="530028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8" name="Group 54"/>
          <p:cNvGrpSpPr/>
          <p:nvPr/>
        </p:nvGrpSpPr>
        <p:grpSpPr>
          <a:xfrm>
            <a:off x="2556000" y="2707920"/>
            <a:ext cx="3959280" cy="3457800"/>
            <a:chOff x="2556000" y="2707920"/>
            <a:chExt cx="3959280" cy="3457800"/>
          </a:xfrm>
        </p:grpSpPr>
        <p:sp>
          <p:nvSpPr>
            <p:cNvPr id="209" name="Rectangle 48"/>
            <p:cNvSpPr/>
            <p:nvPr/>
          </p:nvSpPr>
          <p:spPr>
            <a:xfrm>
              <a:off x="2556000" y="3573360"/>
              <a:ext cx="3097080" cy="259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49"/>
            <p:cNvSpPr/>
            <p:nvPr/>
          </p:nvSpPr>
          <p:spPr>
            <a:xfrm>
              <a:off x="2556000" y="3573360"/>
              <a:ext cx="3095640" cy="259236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Rectangle 50"/>
            <p:cNvSpPr/>
            <p:nvPr/>
          </p:nvSpPr>
          <p:spPr>
            <a:xfrm>
              <a:off x="3419640" y="2708280"/>
              <a:ext cx="3095640" cy="259236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Line 51"/>
            <p:cNvSpPr/>
            <p:nvPr/>
          </p:nvSpPr>
          <p:spPr>
            <a:xfrm flipV="1">
              <a:off x="2556000" y="2707920"/>
              <a:ext cx="86364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Line 52"/>
            <p:cNvSpPr/>
            <p:nvPr/>
          </p:nvSpPr>
          <p:spPr>
            <a:xfrm flipV="1">
              <a:off x="5651640" y="2707920"/>
              <a:ext cx="86364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Line 53"/>
            <p:cNvSpPr/>
            <p:nvPr/>
          </p:nvSpPr>
          <p:spPr>
            <a:xfrm flipV="1">
              <a:off x="2556000" y="5300280"/>
              <a:ext cx="86364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Параллелепипед</a:t>
            </a:r>
            <a:r>
              <a:rPr b="0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имеет 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по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4 равных</a:t>
            </a:r>
            <a:r>
              <a:rPr b="0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ребра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2556000" y="357336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419640" y="270828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6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7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 flipV="1">
            <a:off x="565164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Line 9"/>
          <p:cNvSpPr/>
          <p:nvPr/>
        </p:nvSpPr>
        <p:spPr>
          <a:xfrm flipV="1">
            <a:off x="5651640" y="530028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 flipV="1">
            <a:off x="2556000" y="530028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556000" y="3573360"/>
            <a:ext cx="3095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2556000" y="3573360"/>
            <a:ext cx="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6" name="Group 67"/>
          <p:cNvGrpSpPr/>
          <p:nvPr/>
        </p:nvGrpSpPr>
        <p:grpSpPr>
          <a:xfrm>
            <a:off x="2556000" y="2708280"/>
            <a:ext cx="3960720" cy="3457440"/>
            <a:chOff x="2556000" y="2708280"/>
            <a:chExt cx="3960720" cy="3457440"/>
          </a:xfrm>
        </p:grpSpPr>
        <p:sp>
          <p:nvSpPr>
            <p:cNvPr id="227" name="Line 68"/>
            <p:cNvSpPr/>
            <p:nvPr/>
          </p:nvSpPr>
          <p:spPr>
            <a:xfrm>
              <a:off x="2556000" y="3573360"/>
              <a:ext cx="0" cy="2592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Line 69"/>
            <p:cNvSpPr/>
            <p:nvPr/>
          </p:nvSpPr>
          <p:spPr>
            <a:xfrm>
              <a:off x="5651640" y="3573360"/>
              <a:ext cx="0" cy="2592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Line 70"/>
            <p:cNvSpPr/>
            <p:nvPr/>
          </p:nvSpPr>
          <p:spPr>
            <a:xfrm>
              <a:off x="6516720" y="2708280"/>
              <a:ext cx="0" cy="2592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Line 71"/>
            <p:cNvSpPr/>
            <p:nvPr/>
          </p:nvSpPr>
          <p:spPr>
            <a:xfrm>
              <a:off x="3419640" y="2708280"/>
              <a:ext cx="0" cy="2592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1" name="Group 72"/>
          <p:cNvGrpSpPr/>
          <p:nvPr/>
        </p:nvGrpSpPr>
        <p:grpSpPr>
          <a:xfrm>
            <a:off x="2556000" y="2707920"/>
            <a:ext cx="3959280" cy="3457440"/>
            <a:chOff x="2556000" y="2707920"/>
            <a:chExt cx="3959280" cy="3457440"/>
          </a:xfrm>
        </p:grpSpPr>
        <p:sp>
          <p:nvSpPr>
            <p:cNvPr id="232" name="Line 73"/>
            <p:cNvSpPr/>
            <p:nvPr/>
          </p:nvSpPr>
          <p:spPr>
            <a:xfrm flipV="1">
              <a:off x="2556000" y="2707920"/>
              <a:ext cx="863640" cy="865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Line 74"/>
            <p:cNvSpPr/>
            <p:nvPr/>
          </p:nvSpPr>
          <p:spPr>
            <a:xfrm flipV="1">
              <a:off x="5651640" y="2707920"/>
              <a:ext cx="863640" cy="865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Line 75"/>
            <p:cNvSpPr/>
            <p:nvPr/>
          </p:nvSpPr>
          <p:spPr>
            <a:xfrm flipV="1">
              <a:off x="5651640" y="5300280"/>
              <a:ext cx="863640" cy="865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Line 76"/>
            <p:cNvSpPr/>
            <p:nvPr/>
          </p:nvSpPr>
          <p:spPr>
            <a:xfrm flipV="1">
              <a:off x="2556000" y="5300280"/>
              <a:ext cx="863640" cy="865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6" name="Line 87"/>
          <p:cNvSpPr/>
          <p:nvPr/>
        </p:nvSpPr>
        <p:spPr>
          <a:xfrm>
            <a:off x="2571840" y="3571920"/>
            <a:ext cx="3095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Вершины граней называются</a:t>
            </a:r>
            <a:r>
              <a:rPr b="0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вершинами</a:t>
            </a:r>
            <a:r>
              <a:rPr b="1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параллелепипеда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556000" y="357336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3419640" y="270828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Line 6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Line 7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Line 8"/>
          <p:cNvSpPr/>
          <p:nvPr/>
        </p:nvSpPr>
        <p:spPr>
          <a:xfrm flipV="1">
            <a:off x="565164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Line 9"/>
          <p:cNvSpPr/>
          <p:nvPr/>
        </p:nvSpPr>
        <p:spPr>
          <a:xfrm flipV="1">
            <a:off x="5651640" y="5300280"/>
            <a:ext cx="863640" cy="86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Line 10"/>
          <p:cNvSpPr/>
          <p:nvPr/>
        </p:nvSpPr>
        <p:spPr>
          <a:xfrm flipV="1">
            <a:off x="2627280" y="522900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2556000" y="357336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3419640" y="270828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Line 13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Line 14"/>
          <p:cNvSpPr/>
          <p:nvPr/>
        </p:nvSpPr>
        <p:spPr>
          <a:xfrm flipV="1">
            <a:off x="2627280" y="522900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2556000" y="357336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3419640" y="270828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Line 17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Line 18"/>
          <p:cNvSpPr/>
          <p:nvPr/>
        </p:nvSpPr>
        <p:spPr>
          <a:xfrm flipV="1">
            <a:off x="2627280" y="522900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Line 19"/>
          <p:cNvSpPr/>
          <p:nvPr/>
        </p:nvSpPr>
        <p:spPr>
          <a:xfrm flipV="1">
            <a:off x="5651640" y="2707920"/>
            <a:ext cx="863640" cy="86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2556000" y="3573360"/>
            <a:ext cx="3095640" cy="2592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3419640" y="2708280"/>
            <a:ext cx="3095640" cy="2592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Line 22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Line 23"/>
          <p:cNvSpPr/>
          <p:nvPr/>
        </p:nvSpPr>
        <p:spPr>
          <a:xfrm flipV="1">
            <a:off x="2556000" y="5300280"/>
            <a:ext cx="863640" cy="86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Oval 24"/>
          <p:cNvSpPr/>
          <p:nvPr/>
        </p:nvSpPr>
        <p:spPr>
          <a:xfrm>
            <a:off x="2411280" y="3429000"/>
            <a:ext cx="28908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Oval 26"/>
          <p:cNvSpPr/>
          <p:nvPr/>
        </p:nvSpPr>
        <p:spPr>
          <a:xfrm>
            <a:off x="3276720" y="5157720"/>
            <a:ext cx="28872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Oval 27"/>
          <p:cNvSpPr/>
          <p:nvPr/>
        </p:nvSpPr>
        <p:spPr>
          <a:xfrm>
            <a:off x="2411280" y="6021360"/>
            <a:ext cx="28908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Oval 28"/>
          <p:cNvSpPr/>
          <p:nvPr/>
        </p:nvSpPr>
        <p:spPr>
          <a:xfrm>
            <a:off x="6300720" y="5157720"/>
            <a:ext cx="28908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Oval 29"/>
          <p:cNvSpPr/>
          <p:nvPr/>
        </p:nvSpPr>
        <p:spPr>
          <a:xfrm>
            <a:off x="5508720" y="5950080"/>
            <a:ext cx="28872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Oval 30"/>
          <p:cNvSpPr/>
          <p:nvPr/>
        </p:nvSpPr>
        <p:spPr>
          <a:xfrm>
            <a:off x="6300720" y="2565360"/>
            <a:ext cx="28908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Oval 31"/>
          <p:cNvSpPr/>
          <p:nvPr/>
        </p:nvSpPr>
        <p:spPr>
          <a:xfrm>
            <a:off x="3276720" y="2565360"/>
            <a:ext cx="28872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Oval 48"/>
          <p:cNvSpPr/>
          <p:nvPr/>
        </p:nvSpPr>
        <p:spPr>
          <a:xfrm>
            <a:off x="5508720" y="3429000"/>
            <a:ext cx="28872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рения прямоугольного параллелепипеда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28760" y="2000160"/>
            <a:ext cx="8286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а – дл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ffff"/>
                </a:solidFill>
                <a:latin typeface="Tahoma"/>
              </a:rPr>
              <a:t>в – ши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с – высота        с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                             </a:t>
            </a:r>
            <a:r>
              <a:rPr b="0" lang="en-US" sz="3200" spc="-1" strike="noStrike">
                <a:solidFill>
                  <a:srgbClr val="29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929040" y="357192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3929040" y="3571920"/>
            <a:ext cx="0" cy="2573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3929040" y="6143760"/>
            <a:ext cx="307188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Прямая соединительная линия 12"/>
          <p:cNvSpPr/>
          <p:nvPr/>
        </p:nvSpPr>
        <p:spPr>
          <a:xfrm flipV="1">
            <a:off x="4000680" y="5285880"/>
            <a:ext cx="785520" cy="785880"/>
          </a:xfrm>
          <a:prstGeom prst="line">
            <a:avLst/>
          </a:prstGeom>
          <a:ln w="76320">
            <a:solidFill>
              <a:srgbClr val="29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оугольный параллелепипед, у которого всё ребра равны называется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У Б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грани куба – равные квадраты</a:t>
            </a:r>
            <a:r>
              <a:rPr b="0" i="1" lang="en-US" sz="36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74" name="Rectangle 48"/>
          <p:cNvSpPr/>
          <p:nvPr/>
        </p:nvSpPr>
        <p:spPr>
          <a:xfrm>
            <a:off x="2700360" y="3789360"/>
            <a:ext cx="2268360" cy="216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2700360" y="3789360"/>
            <a:ext cx="0" cy="216072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5950080"/>
            <a:ext cx="21589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2700360" y="3789360"/>
            <a:ext cx="22320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4932360" y="3789360"/>
            <a:ext cx="71280" cy="216072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859280" y="5950080"/>
            <a:ext cx="14436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2771640" y="5950080"/>
            <a:ext cx="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Инструкция по изучению </a:t>
            </a:r>
            <a:br>
              <a:rPr sz="4400"/>
            </a:b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ощади поверхности</a:t>
            </a:r>
            <a:br>
              <a:rPr sz="4400"/>
            </a:b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прямоугольного параллелепипеда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285840" y="2071800"/>
            <a:ext cx="85723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Измерь длину, ширину и высоту модели и запиши 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Вычисли площадь каждой грани (помни, что противоположные грани равн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Вычисли  площадь всей поверхности вашего прямоугольного параллелепипеда по форму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ерхности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2(ав +ас +вс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9182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Инструкция по изучению </a:t>
            </a:r>
            <a:br>
              <a:rPr sz="4400"/>
            </a:b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уммы длин всех рёбер </a:t>
            </a: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ямоугольного параллелепипеда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Покажите на модели равные рёб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По сколько равных рёбер имеет параллелепипед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Как определить сумму длин всех рёбер? Сделайте выв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Вычисли длину всех рёбер по форму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=4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+ 4в + 4с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 ы в о д ы :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оугольный параллелепипед  имеет:</a:t>
            </a:r>
            <a:br>
              <a:rPr sz="4400"/>
            </a:b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57120" y="2142720"/>
            <a:ext cx="87868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ней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12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ёбер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8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ш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ни: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оугольники, квадра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Прямоугольник 3"/>
          <p:cNvSpPr/>
          <p:nvPr/>
        </p:nvSpPr>
        <p:spPr>
          <a:xfrm>
            <a:off x="571680" y="4000680"/>
            <a:ext cx="7858080" cy="703440"/>
          </a:xfrm>
          <a:prstGeom prst="rect">
            <a:avLst/>
          </a:prstGeom>
          <a:noFill/>
          <a:ln w="9360">
            <a:solidFill>
              <a:srgbClr val="a2a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ерхности = 2(ав +ас +вс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Прямоугольник 4"/>
          <p:cNvSpPr/>
          <p:nvPr/>
        </p:nvSpPr>
        <p:spPr>
          <a:xfrm>
            <a:off x="2143080" y="5072040"/>
            <a:ext cx="473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=4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+ 4в + 4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-познакомиться с прямоугольным параллелепипедом, кубом, их элементами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-научиться чертить эти фигуры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- находить длину ребёр и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поверх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900000" y="5157720"/>
            <a:ext cx="2881440" cy="914400"/>
          </a:xfrm>
          <a:prstGeom prst="rect">
            <a:avLst/>
          </a:prstGeom>
          <a:solidFill>
            <a:srgbClr val="fba3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372360" y="5084640"/>
            <a:ext cx="1214280" cy="1214640"/>
          </a:xfrm>
          <a:prstGeom prst="cube">
            <a:avLst>
              <a:gd name="adj" fmla="val 25000"/>
            </a:avLst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7240" y="317160"/>
            <a:ext cx="77695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 задание: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716040" y="1626840"/>
            <a:ext cx="79279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Начертить в тетради прямоугольный параллелепипед, уметь показывать на модели грани, рёбра, верши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№ 79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79280" y="3429000"/>
            <a:ext cx="71056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работу на уроке, ребята!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252720" y="380880"/>
            <a:ext cx="9396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27f4c"/>
                </a:solidFill>
                <a:latin typeface="Arial"/>
              </a:rPr>
              <a:t>Устный счёт</a:t>
            </a:r>
            <a:endParaRPr b="0" lang="en-US" sz="3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 flipV="1">
            <a:off x="539640" y="4723920"/>
            <a:ext cx="0" cy="7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12"/>
          <p:cNvSpPr/>
          <p:nvPr/>
        </p:nvSpPr>
        <p:spPr>
          <a:xfrm>
            <a:off x="2484360" y="2276640"/>
            <a:ext cx="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519120" y="26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50920" y="2205000"/>
          <a:ext cx="8712000" cy="2325600"/>
        </p:xfrm>
        <a:graphic>
          <a:graphicData uri="http://schemas.openxmlformats.org/drawingml/2006/table">
            <a:tbl>
              <a:tblPr/>
              <a:tblGrid>
                <a:gridCol w="869760"/>
                <a:gridCol w="873360"/>
                <a:gridCol w="869760"/>
                <a:gridCol w="700200"/>
                <a:gridCol w="1044360"/>
                <a:gridCol w="870120"/>
                <a:gridCol w="873000"/>
                <a:gridCol w="868320"/>
                <a:gridCol w="873360"/>
                <a:gridCol w="8697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=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·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Что лишнее?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0040" y="164268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-треугольник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-квадра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-площад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-круг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-прямоугольни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560" y="274320"/>
            <a:ext cx="77788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Что лишнее?</a:t>
            </a:r>
            <a:endParaRPr b="0" lang="en-US" sz="6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9680" y="15717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треугольник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квадра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кру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ш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прямоугольн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Что лишнее?</a:t>
            </a:r>
            <a:endParaRPr b="0" lang="en-US" sz="6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13840" y="1643040"/>
            <a:ext cx="85726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треугольник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квадра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короб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кру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прямоугольн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Прямоугольный параллелепипед в нашей жизни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pic>
        <p:nvPicPr>
          <p:cNvPr id="176" name="Picture 5" descr="J0205462"/>
          <p:cNvPicPr/>
          <p:nvPr/>
        </p:nvPicPr>
        <p:blipFill>
          <a:blip r:embed="rId1"/>
          <a:stretch/>
        </p:blipFill>
        <p:spPr>
          <a:xfrm>
            <a:off x="2143080" y="185724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177" name="tower"/>
          <p:cNvSpPr/>
          <p:nvPr/>
        </p:nvSpPr>
        <p:spPr>
          <a:xfrm>
            <a:off x="6588000" y="2060640"/>
            <a:ext cx="1265400" cy="2233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214200" y="4286160"/>
            <a:ext cx="89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чечный коробок, кирпич, шкаф, чемодан, здания, системный блок компьютера дают представление о 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ямоугольном параллелепипед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13" descr="j0192475[1]"/>
          <p:cNvPicPr/>
          <p:nvPr/>
        </p:nvPicPr>
        <p:blipFill>
          <a:blip r:embed="rId2"/>
          <a:stretch/>
        </p:blipFill>
        <p:spPr>
          <a:xfrm>
            <a:off x="250920" y="1989000"/>
            <a:ext cx="1585800" cy="1978200"/>
          </a:xfrm>
          <a:prstGeom prst="rect">
            <a:avLst/>
          </a:prstGeom>
          <a:ln w="0">
            <a:noFill/>
          </a:ln>
        </p:spPr>
      </p:pic>
      <p:sp>
        <p:nvSpPr>
          <p:cNvPr id="180" name="Firewall"/>
          <p:cNvSpPr/>
          <p:nvPr/>
        </p:nvSpPr>
        <p:spPr>
          <a:xfrm>
            <a:off x="4286160" y="2428920"/>
            <a:ext cx="1809720" cy="88092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fffff"/>
                </a:solidFill>
                <a:latin typeface="Times New Roman"/>
              </a:rPr>
              <a:t>Поверхность прямоугольного параллелепипеда состоит из </a:t>
            </a:r>
            <a:r>
              <a:rPr b="0" i="1" lang="en-US" sz="3100" spc="-1" strike="noStrike">
                <a:solidFill>
                  <a:srgbClr val="ff3300"/>
                </a:solidFill>
                <a:latin typeface="Times New Roman"/>
              </a:rPr>
              <a:t>прямоугольников</a:t>
            </a:r>
            <a:endParaRPr b="0" lang="en-US" sz="31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143080" y="2071800"/>
            <a:ext cx="1800360" cy="13665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5364000" y="5013360"/>
            <a:ext cx="1727280" cy="12970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1332000" y="4869000"/>
            <a:ext cx="1800000" cy="129528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6012000" y="2205000"/>
            <a:ext cx="1944720" cy="1511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fffff"/>
                </a:solidFill>
                <a:latin typeface="Times New Roman"/>
              </a:rPr>
              <a:t>Поверхность прямоугольного параллелепипеда состоит из </a:t>
            </a:r>
            <a:r>
              <a:rPr b="0" i="1" lang="en-US" sz="3100" spc="-1" strike="noStrike">
                <a:solidFill>
                  <a:srgbClr val="ff3300"/>
                </a:solidFill>
                <a:latin typeface="Times New Roman"/>
              </a:rPr>
              <a:t>6 </a:t>
            </a:r>
            <a:r>
              <a:rPr b="0" i="1" lang="en-US" sz="3100" spc="-1" strike="noStrike">
                <a:solidFill>
                  <a:srgbClr val="ffffff"/>
                </a:solidFill>
                <a:latin typeface="Times New Roman"/>
              </a:rPr>
              <a:t>прямоугольников - </a:t>
            </a:r>
            <a:r>
              <a:rPr b="0" i="1" lang="en-US" sz="3100" spc="-1" strike="noStrike">
                <a:solidFill>
                  <a:srgbClr val="ff3300"/>
                </a:solidFill>
                <a:latin typeface="Times New Roman"/>
              </a:rPr>
              <a:t>граней</a:t>
            </a:r>
            <a:endParaRPr b="0" lang="en-US" sz="31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419640" y="2637000"/>
            <a:ext cx="3168360" cy="26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6443640" y="1773360"/>
            <a:ext cx="2449440" cy="504720"/>
          </a:xfrm>
          <a:prstGeom prst="wedgeRoundRectCallout">
            <a:avLst>
              <a:gd name="adj1" fmla="val -92319"/>
              <a:gd name="adj2" fmla="val 192453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ня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0" y="3860640"/>
            <a:ext cx="2340000" cy="505080"/>
          </a:xfrm>
          <a:prstGeom prst="wedgeRoundRectCallout">
            <a:avLst>
              <a:gd name="adj1" fmla="val 77407"/>
              <a:gd name="adj2" fmla="val 221699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дня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8:26:07Z</dcterms:created>
  <dc:creator>Valentina</dc:creator>
  <dc:description/>
  <dc:language>en-US</dc:language>
  <cp:lastModifiedBy>user</cp:lastModifiedBy>
  <dcterms:modified xsi:type="dcterms:W3CDTF">2009-12-09T14:07:16Z</dcterms:modified>
  <cp:revision>27</cp:revision>
  <dc:subject/>
  <dc:title>Прямоугольный параллелепидед</dc:title>
</cp:coreProperties>
</file>