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907-86EB-40E1-8383-E83F9A17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2F9-6087-4D06-8E3D-B47BB3C4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A5C-5E6B-4F35-95EB-A516E404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C5B-8140-435F-BF09-B8A1D02F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6848B-CE20-42C2-93FD-4EE8544C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7FDE4-AE17-4FFD-A968-F3FAA95B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12AA0-5348-4491-A9BF-423CBC5B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02D70-E448-4A0A-96F9-0491616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EFA84-6EAA-4B96-B4D6-6F73922B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B63A6-B674-4F62-85F0-18F37C8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8CE7F-B148-4722-BE0B-3ED2AD0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045-8234-4DAA-ABFC-3BE5F62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5CF55-EF9D-4B47-9C1E-27C5535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189DB-9FAF-415D-A5F9-B3FD691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6FAB-39B1-4A17-9EED-39AD17A8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043AD-D240-4E5C-A6DC-E6AEBA61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2065-5B3F-48BD-B1A7-55A88366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FAA-4AFF-4F5F-8CF2-7489BD9A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F3B-71CB-4D7F-BDE7-D3DF764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1D4-6320-4F2D-98DD-C7790B68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747-B197-4632-B43C-61E58D5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FAA-0AF8-44E2-B85E-C358CE6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C6F-63D2-4317-9852-2D63C1C2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AE1-AB42-4FDA-ACC6-241B965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D1D-E8EC-4AC3-A411-B02F00F37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C4E-26D8-42E3-82A5-7EACD6E86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инозав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40360" y="148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406404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вые обитатели зем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о слово «динозавры» означает «ужасные ящеры». Так их назвал английский зоолог Ричард Оуэн. Эти животные относятся к классу рептилий. Ученые выделяют четыре отряда архозавров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щеротазовые динозав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тицетазовые динозав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ающие яще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гда появились динозав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озавры появились на Земле около 200 миллионов лет назад и жили на ней почти 140 миллионов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и среди них охотник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ровожадные животные и растительнояд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21589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4552920"/>
            <a:ext cx="3238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ножение динозав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озавры не рожали живых детеныше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думали очень долгое время подря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амом деле они откладывали яйц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е имели очень прочную скорлуп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инство динозавров строили гнезда для высиживания потомств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92760" y="1905120"/>
            <a:ext cx="355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гда вымерли динозав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ло 65 миллионов лет назад динозавры вымерл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стоящее время можно увидеть скелет динозавров в музе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40388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5715000" cy="343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5:27:34Z</dcterms:created>
  <dc:creator>Anna</dc:creator>
  <dc:description/>
  <dc:language>en-US</dc:language>
  <cp:lastModifiedBy>Anna</cp:lastModifiedBy>
  <dcterms:modified xsi:type="dcterms:W3CDTF">2012-02-12T13:13:21Z</dcterms:modified>
  <cp:revision>3</cp:revision>
  <dc:subject/>
  <dc:title>динозавры</dc:title>
</cp:coreProperties>
</file>