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gif" ContentType="image/gif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165-E595-436F-AEDF-8AB914B3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6BF-3EF4-47CB-8A47-80568A3B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CE2-439C-4460-AA62-8BBF7CF3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735-E0BD-4C53-89BE-6AE005AB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D344-18CA-4125-BA10-70866284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3711-D4CA-43C9-BE80-E53C96D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C4F5-BCC4-4BAA-A58C-2635B3DF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CC88-7423-4387-8189-A0CC7C50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B6DB-1C7B-43A6-B6F7-858788E9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7940-D141-41ED-82AD-AEE8242D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BD06-490A-451E-A0D2-7F5D56E4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0E2-1829-482B-80A0-B489E425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3951-A359-46CE-A7BB-E008B2B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38EF-43B8-439A-857A-7513CC88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6D6F-ADC8-42C8-AE1C-560FF762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BE83-0513-425E-8E1B-9883F287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5C3B-0130-48BB-B2B4-56504B41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1EA-93B5-4D85-AEEB-2A25E1AB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C76-BCEC-4A39-BEEE-DDFCE661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7FA-1EF3-4305-AC2C-8847276C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2F1-AAED-443E-9EF7-CADD9F53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154-21F7-46AF-A389-BA9BFED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C6E-E3E3-4102-A563-AC001440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25B-34F5-43E3-8604-7D2E96DB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0CA4-923A-426C-9B2B-D1A4AC4DC4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8985-AF03-4C55-80BA-3AF31A2EE6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357120" y="121428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роектно-исследовательская работ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143680" y="4714920"/>
            <a:ext cx="371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У СОШ №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ревянченк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талья Александ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Прямоугольник 5" descr=""/>
          <p:cNvPicPr/>
          <p:nvPr/>
        </p:nvPicPr>
        <p:blipFill>
          <a:blip r:embed="rId1"/>
          <a:stretch/>
        </p:blipFill>
        <p:spPr>
          <a:xfrm>
            <a:off x="1262160" y="2670120"/>
            <a:ext cx="688176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7892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бабочка из семейства медведиц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ит в состав  группы разноусы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бочек. Распространена она 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й и Южной  Европе, 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вказе и в Закавказье, а также 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ции, Иране, Сирии. Медведиц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у можно встретить на прогреты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цем южных опушках, 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ослях кустарников, на полянах в широколиственных лесах, на обильных травами склонах. Гусеница питается на различных травах –яснотке, кипрее, крапиве, а также на кустарниках – жимолости, лещине, малине и ежевике. В своем развитии гусеница проходит стадию зимовки. Бабочка названа в честь древнегреческой богини семейного очага Геры. Редкий, локально распространенный вид, требующий строгой охраны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сенный в Красную книг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743280" cy="31100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МЕДВЕДИЦА  Г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780000" y="1599840"/>
            <a:ext cx="518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численный род голубянок, куда относится этот вид, принадлежит к дневным бабочкам семейства голубянок. Голубянка красивая распространена по Центральной и Южной  Европе, в Крыму и на Кавказе, а также в Турции и  Иране. Она предпочитает разнотравные степи, южные опушки и поляны широколиственных  лесов. Гусеница  питается на различных бобовых растениях – подковнике, вязеле, дроке, лядвенце и других. В своем развитии гусеница проходит стадию зимовки. Заслуживает охраны как вид, украшающий нашу приро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1133640"/>
            <a:ext cx="3743280" cy="5724360"/>
          </a:xfrm>
          <a:prstGeom prst="rect">
            <a:avLst/>
          </a:prstGeom>
          <a:ln w="0">
            <a:noFill/>
          </a:ln>
        </p:spPr>
      </p:pic>
      <p:sp>
        <p:nvSpPr>
          <p:cNvPr id="156" name="WordArt 5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ОЛУБЯН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КРАСИВ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extBox 1" descr=""/>
          <p:cNvPicPr/>
          <p:nvPr/>
        </p:nvPicPr>
        <p:blipFill>
          <a:blip r:embed="rId1"/>
          <a:stretch/>
        </p:blipFill>
        <p:spPr>
          <a:xfrm>
            <a:off x="755640" y="231840"/>
            <a:ext cx="7894800" cy="1365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2735280" cy="4429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3143160" y="1571760"/>
            <a:ext cx="2951280" cy="435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4"/>
          <a:stretch/>
        </p:blipFill>
        <p:spPr>
          <a:xfrm>
            <a:off x="6319800" y="2571840"/>
            <a:ext cx="2824200" cy="4286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5"/>
          <a:stretch/>
        </p:blipFill>
        <p:spPr>
          <a:xfrm>
            <a:off x="214200" y="928800"/>
            <a:ext cx="2714760" cy="4143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6"/>
          <a:stretch/>
        </p:blipFill>
        <p:spPr>
          <a:xfrm>
            <a:off x="6286680" y="857160"/>
            <a:ext cx="28573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бабочки"/>
          <p:cNvPicPr/>
          <p:nvPr/>
        </p:nvPicPr>
        <p:blipFill>
          <a:blip r:embed="rId1"/>
          <a:stretch/>
        </p:blipFill>
        <p:spPr>
          <a:xfrm>
            <a:off x="0" y="-214200"/>
            <a:ext cx="4673520" cy="727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бабочки1"/>
          <p:cNvPicPr/>
          <p:nvPr/>
        </p:nvPicPr>
        <p:blipFill>
          <a:blip r:embed="rId2"/>
          <a:stretch/>
        </p:blipFill>
        <p:spPr>
          <a:xfrm>
            <a:off x="4643280" y="-243000"/>
            <a:ext cx="4697640" cy="73454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1571760" y="857160"/>
            <a:ext cx="6143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Прямоугольник 8" descr=""/>
          <p:cNvPicPr/>
          <p:nvPr/>
        </p:nvPicPr>
        <p:blipFill>
          <a:blip r:embed="rId3"/>
          <a:stretch/>
        </p:blipFill>
        <p:spPr>
          <a:xfrm>
            <a:off x="890640" y="92160"/>
            <a:ext cx="6607080" cy="18763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"/>
          <p:cNvSpPr/>
          <p:nvPr/>
        </p:nvSpPr>
        <p:spPr>
          <a:xfrm>
            <a:off x="2500200" y="2428920"/>
            <a:ext cx="5786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Прямоугольник 10" descr=""/>
          <p:cNvPicPr/>
          <p:nvPr/>
        </p:nvPicPr>
        <p:blipFill>
          <a:blip r:embed="rId4"/>
          <a:stretch/>
        </p:blipFill>
        <p:spPr>
          <a:xfrm>
            <a:off x="1901880" y="2000160"/>
            <a:ext cx="754704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1" descr=""/>
          <p:cNvPicPr/>
          <p:nvPr/>
        </p:nvPicPr>
        <p:blipFill>
          <a:blip r:embed="rId1"/>
          <a:stretch/>
        </p:blipFill>
        <p:spPr>
          <a:xfrm>
            <a:off x="-103320" y="384120"/>
            <a:ext cx="2486160" cy="14572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" descr=""/>
          <p:cNvPicPr/>
          <p:nvPr/>
        </p:nvPicPr>
        <p:blipFill>
          <a:blip r:embed="rId2"/>
          <a:stretch/>
        </p:blipFill>
        <p:spPr>
          <a:xfrm>
            <a:off x="-281160" y="2505240"/>
            <a:ext cx="3421080" cy="15969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2928960" y="357120"/>
            <a:ext cx="578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чь внимание к одному из видов насеком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ть красоту бабочек , их пользу для прир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зать необходимость охраны некоторых видов бабоч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2857680" y="2786040"/>
            <a:ext cx="657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ь учащихся формировать группы по интересам, работать в груп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 пользоваться дополнительной литературой и осуществлять отбор необходим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исследовательские умения (проводить наблюдения, анализировать результаты, обобщать, делать вывод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ть чувство любви к родной природе и всему живому на зем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195120"/>
            <a:ext cx="7944120" cy="11034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1000080" y="1000080"/>
            <a:ext cx="7429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сти учащихся в курс работы по реализации проекта, оговорить весь объем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ожить разделить работу между групп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чь детям сформировать группы и разделить задания между каждой из груп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отношение учащихся к данному методу работы и к данной те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лечь к работе родительский коллекти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ть детский журнал о бабочк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7"/>
          <p:cNvPicPr/>
          <p:nvPr/>
        </p:nvPicPr>
        <p:blipFill>
          <a:blip r:embed="rId1"/>
          <a:stretch/>
        </p:blipFill>
        <p:spPr>
          <a:xfrm>
            <a:off x="2916360" y="1557360"/>
            <a:ext cx="2881080" cy="251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36-1"/>
          <p:cNvPicPr/>
          <p:nvPr/>
        </p:nvPicPr>
        <p:blipFill>
          <a:blip r:embed="rId2"/>
          <a:stretch/>
        </p:blipFill>
        <p:spPr>
          <a:xfrm>
            <a:off x="5950080" y="1628640"/>
            <a:ext cx="1890720" cy="2160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36-1"/>
          <p:cNvPicPr/>
          <p:nvPr/>
        </p:nvPicPr>
        <p:blipFill>
          <a:blip r:embed="rId3"/>
          <a:stretch/>
        </p:blipFill>
        <p:spPr>
          <a:xfrm flipH="1">
            <a:off x="1438200" y="76500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36-1"/>
          <p:cNvPicPr/>
          <p:nvPr/>
        </p:nvPicPr>
        <p:blipFill>
          <a:blip r:embed="rId4"/>
          <a:stretch/>
        </p:blipFill>
        <p:spPr>
          <a:xfrm>
            <a:off x="4572000" y="836640"/>
            <a:ext cx="1073160" cy="1225440"/>
          </a:xfrm>
          <a:prstGeom prst="rect">
            <a:avLst/>
          </a:prstGeom>
          <a:ln w="0">
            <a:noFill/>
          </a:ln>
        </p:spPr>
      </p:pic>
      <p:sp>
        <p:nvSpPr>
          <p:cNvPr id="139" name="WordArt 8"/>
          <p:cNvSpPr txBox="1"/>
          <p:nvPr/>
        </p:nvSpPr>
        <p:spPr>
          <a:xfrm>
            <a:off x="900000" y="4005360"/>
            <a:ext cx="7559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ПЕСТР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МИ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БАБОЧ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2" descr=""/>
          <p:cNvPicPr/>
          <p:nvPr/>
        </p:nvPicPr>
        <p:blipFill>
          <a:blip r:embed="rId1"/>
          <a:stretch/>
        </p:blipFill>
        <p:spPr>
          <a:xfrm>
            <a:off x="853920" y="171360"/>
            <a:ext cx="3151440" cy="1852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3786120" y="500040"/>
            <a:ext cx="478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чь внимание к одному из видов насеком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ть красоту бабочек , их пользу для прир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зать необходимость охраны некоторых видов бабоч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Прямоугольник 5" descr=""/>
          <p:cNvPicPr/>
          <p:nvPr/>
        </p:nvPicPr>
        <p:blipFill>
          <a:blip r:embed="rId2"/>
          <a:stretch/>
        </p:blipFill>
        <p:spPr>
          <a:xfrm>
            <a:off x="407880" y="2779560"/>
            <a:ext cx="3889440" cy="18529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4071960" y="3071880"/>
            <a:ext cx="5072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ить учащихся формировать группы по интересам, работать в групп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ь пользоваться дополнительной литературой и осуществлять отбор необходимой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исследовательские умения (проводить наблюдения, анализировать результаты, обобщать, делать вывод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ывать чувство любви к родной природе и всему живому на зем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8582040" cy="12430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1214280" y="1357200"/>
            <a:ext cx="7643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сти учащихся в курс работы по реализации проекта, оговорить весь объем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ожить разделить работу между групп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чь детям сформировать группы и разделить задания между каждой из груп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отношение учащихся к данному методу работы и к данной те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лечь к работе родительский коллекти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ть детский журнал о бабочк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мотрев на эти рисунки, ты сможешь сказать, чем отличается бабочка от моли. Рассмотри их усики-антенны. У бабочек на конце усика всегда имеется головка. Усики же молей таких головок не имеют и по форме напоминают птичье перо или волос. Другое отличие состоит в том, что бабочки, отдыхая, складывают свои крылья над телом вертикально, плотно прижимая их друг к другу. Большинство же молей складывают крылья над телом горизонтально наподобие тента или так, что каждое крыло немного заходит на другую сторону тел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059280" y="277920"/>
            <a:ext cx="2087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рритории края известны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 популяции поликсены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иксену можно встретить 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врополе и его окрестностя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ктически каждый  год вдол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сского леса и до кладбищ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ование бабочки в огромной степи зависит от наличия ее кормового растения – кирказона. Кроме того, ежегодные пожары убивают куколок поликсены. Бабочки ведут оседлый образ жизни. Они не склонны к дальним миграциям. Все это вызывает большую обеспокоенность за существование этого вида на Ставрополь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384720" cy="21682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ПОЛИКСЕ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44:07Z</dcterms:created>
  <dc:creator>Морозова</dc:creator>
  <dc:description/>
  <dc:language>en-US</dc:language>
  <cp:lastModifiedBy>Пользователь</cp:lastModifiedBy>
  <dcterms:modified xsi:type="dcterms:W3CDTF">2012-03-03T10:14:26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