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jpeg" ContentType="image/jpeg"/>
  <Override PartName="/ppt/media/image1.png" ContentType="image/png"/>
  <Override PartName="/ppt/media/image13.jpeg" ContentType="image/jpeg"/>
  <Override PartName="/ppt/media/coin.wav" ContentType="audio/x-wav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D7B-935D-4521-8BDE-BAAEF02C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C35-05F8-4133-BE87-3B1D421E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E2F-B4A0-4260-97F6-63AB2881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27A-0BEE-46FA-924E-99C845DF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6517-670C-486B-AB5F-D479ED93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6F6B-4BD2-4CB1-93FA-DCCD63A8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465D-DAD1-4F18-AC89-FBA03224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689E-819F-480F-AC89-1DC8C07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55D7-E2BA-4061-96DE-3BF8D823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2090-2F20-4C5D-9163-282C9F7C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C071-1609-4B28-9DEE-09599A68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693-BF0F-4246-B74C-FFFF1E84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5E0F-F950-404B-8BAF-142C2ACF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414-22C9-49DE-A6BE-3A60471C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02CA-B728-47D4-BED6-CA10053E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83F7-24AD-499A-A6E0-A7CC8A14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C288-1D1C-422F-9809-37541B06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269-952F-47EF-AA3F-A38EA163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6FE-E7FD-4084-9A38-19C9B9F8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382-3BEF-4216-91FE-2F8387EC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836-28B3-40DD-81C5-522BD328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36E-BDCE-4F0D-9BB1-36CE2F9E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4F1-5A84-481E-9FC3-89E5103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28B-0A80-42D6-B683-D8F6289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5D5-2E63-4730-B584-6EA622386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0000-C6AB-427A-9C14-826A2D941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6551640" cy="4319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ИДАКТИЧЕСКАЯ ИГРА, КАК СРЕДСТВО ПОВЫШЕНИЯ </a:t>
            </a:r>
            <a:r>
              <a:rPr b="1" lang="ru-RU" sz="4400" spc="-1" strike="noStrike">
                <a:solidFill>
                  <a:srgbClr val="99ff99"/>
                </a:solidFill>
                <a:latin typeface="Arial"/>
              </a:rPr>
              <a:t>ПОЗНАВАТЕЛЬНОЙ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АКТИВНОСТИ УЧАЩИХСЯ»</a:t>
            </a:r>
            <a:br>
              <a:rPr sz="16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788000" y="5732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ОУ СОШ № 3  г. Кызы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овищева С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20160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Анаграммы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02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гко дыша в моей тен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ня ты летом часто хвалиш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буквы переставь мо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целый лес ты мною свали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липа-пил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9"/>
          <p:cNvPicPr/>
          <p:nvPr/>
        </p:nvPicPr>
        <p:blipFill>
          <a:blip r:embed="rId1"/>
          <a:stretch/>
        </p:blipFill>
        <p:spPr>
          <a:xfrm>
            <a:off x="5364000" y="3645000"/>
            <a:ext cx="288000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oi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ЖИВАЯ МАТЕМАТИК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учащихся на груди таблички с цифрами от 0 до 9. Учитель читает примеры. Встаёт ученик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оторого есть цифра-ответ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 1 2 3 4 5 6 7 8 9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oi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ссели жильцов”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ьцами математического дома являются цифры и зна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ужно вставить в окошки недостающие знак или цифр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219640" y="1197000"/>
          <a:ext cx="3384720" cy="4541760"/>
        </p:xfrm>
        <a:graphic>
          <a:graphicData uri="http://schemas.openxmlformats.org/drawingml/2006/table">
            <a:tbl>
              <a:tblPr/>
              <a:tblGrid>
                <a:gridCol w="1128600"/>
                <a:gridCol w="1127160"/>
                <a:gridCol w="1128960"/>
              </a:tblGrid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4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7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1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&lt;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8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=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&gt;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4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0" lang="en-US" sz="36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&gt; 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ce4ff"/>
                    </a:solidFill>
                  </a:tcPr>
                </a:tc>
              </a:tr>
            </a:tbl>
          </a:graphicData>
        </a:graphic>
      </p:graphicFrame>
      <p:sp>
        <p:nvSpPr>
          <p:cNvPr id="250" name="AutoShape 13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0" y="0"/>
            <a:ext cx="16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oi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так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гр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 просто любимое занятие детей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а способствует повышению эффективности учебного процесса, активизирует познавательную деятельность детей,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является основой прочного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осмысленного усвоения программного матер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ключении детей в ситуацию дидактической игры интерес к учебной деятельности резко возрастает, изучаемый материал становится для них более доступным, работоспособность значительно повыш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868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Выбери три слов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9 карточках записаны девять сл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-й набор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рыбка, вьюга, чулок, дубки, варенье, чучело, ручьи, чум, гри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-й набор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подъезд, склад, ворона, град, съемка, клад, ворота, подъем, вороб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ое берут по очереди карточки, выигрывает тот, у кого первого окажутся три слова , имеющую одинаковую орфограмм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50920" y="3789360"/>
          <a:ext cx="8377200" cy="2735280"/>
        </p:xfrm>
        <a:graphic>
          <a:graphicData uri="http://schemas.openxmlformats.org/drawingml/2006/table">
            <a:tbl>
              <a:tblPr/>
              <a:tblGrid>
                <a:gridCol w="598320"/>
                <a:gridCol w="1032120"/>
                <a:gridCol w="1217520"/>
                <a:gridCol w="1216080"/>
                <a:gridCol w="725400"/>
                <a:gridCol w="1406520"/>
                <a:gridCol w="965160"/>
                <a:gridCol w="1216080"/>
              </a:tblGrid>
              <a:tr h="911160"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рыб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вьюг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чулок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I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подъез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скла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воро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дубк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варень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чучел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съем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гра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воро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</a:tr>
              <a:tr h="91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гри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ручь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чу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подъе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кла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вороб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c7e8ff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  <p:sndAc>
      <p:stSnd>
        <p:snd r:embed="rId1" name="co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7920"/>
            <a:ext cx="75708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Игра « Почтальон»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2781360"/>
          <a:ext cx="8388360" cy="3382920"/>
        </p:xfrm>
        <a:graphic>
          <a:graphicData uri="http://schemas.openxmlformats.org/drawingml/2006/table">
            <a:tbl>
              <a:tblPr/>
              <a:tblGrid>
                <a:gridCol w="1398600"/>
                <a:gridCol w="1397160"/>
                <a:gridCol w="1398600"/>
                <a:gridCol w="1398240"/>
                <a:gridCol w="1397160"/>
                <a:gridCol w="139860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оро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к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ловая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опарк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ffff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я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ро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-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ни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е-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е-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и-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ре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ла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ло-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ро-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рты-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и-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тра-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и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-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ко-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ро-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ока-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у-ц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ше-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01"/>
          <p:cNvSpPr/>
          <p:nvPr/>
        </p:nvSpPr>
        <p:spPr>
          <a:xfrm>
            <a:off x="250920" y="105264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чтальон раздает группе детей (по 4-5 чел.) приглаш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ети определяют, куда их пригласил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14680" y="338148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менить словосочетания одним словом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межуток времени в 60 мин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военнослужащий, стоящий на пост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ебенок, любящий слад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чень смешной филь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C:\Documents and Settings\OEM\Local Settings\Temporary Internet Files\Content.IE5\TR2T3DHL\MC900431533[1].png"/>
          <p:cNvPicPr/>
          <p:nvPr/>
        </p:nvPicPr>
        <p:blipFill>
          <a:blip r:embed="rId1"/>
          <a:stretch/>
        </p:blipFill>
        <p:spPr>
          <a:xfrm rot="830400">
            <a:off x="6156360" y="2852640"/>
            <a:ext cx="2306520" cy="3322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кончи предложения: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Ромы и Жоры есть …………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жды они пошли …………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друг из кустов…………….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ом ребята долго вспоминали как……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C:\Documents and Settings\OEM\Local Settings\Temporary Internet Files\Content.IE5\81O21KTV\MC900343395[1].wmf"/>
          <p:cNvPicPr/>
          <p:nvPr/>
        </p:nvPicPr>
        <p:blipFill>
          <a:blip r:embed="rId1"/>
          <a:stretch/>
        </p:blipFill>
        <p:spPr>
          <a:xfrm>
            <a:off x="6372360" y="3633840"/>
            <a:ext cx="230184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Времена 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indent="353880" algn="just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борудование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боры больших картинок с изображением времён года и 4 набора маленьких картинок с изображением предметов, которыми пользуются люди в то или иное время года (одежда, орудия труда, игровой инвентар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7" descr="C:\Documents and Settings\OEM\Мои документы\Мои рисунки\Коллекция картинок (Microsoft)\00250852.wmf"/>
          <p:cNvPicPr/>
          <p:nvPr/>
        </p:nvPicPr>
        <p:blipFill>
          <a:blip r:embed="rId1"/>
          <a:stretch/>
        </p:blipFill>
        <p:spPr>
          <a:xfrm>
            <a:off x="324000" y="3645000"/>
            <a:ext cx="223200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C:\Documents and Settings\OEM\Local Settings\Temporary Internet Files\Content.IE5\N5JMPU4U\MC900228933[1].wmf"/>
          <p:cNvPicPr/>
          <p:nvPr/>
        </p:nvPicPr>
        <p:blipFill>
          <a:blip r:embed="rId2"/>
          <a:stretch/>
        </p:blipFill>
        <p:spPr>
          <a:xfrm>
            <a:off x="6948360" y="4581360"/>
            <a:ext cx="1957680" cy="185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C:\Documents and Settings\OEM\Local Settings\Temporary Internet Files\Content.IE5\Q2T1RH0P\MC900239413[1].wmf"/>
          <p:cNvPicPr/>
          <p:nvPr/>
        </p:nvPicPr>
        <p:blipFill>
          <a:blip r:embed="rId3"/>
          <a:stretch/>
        </p:blipFill>
        <p:spPr>
          <a:xfrm>
            <a:off x="7548480" y="0"/>
            <a:ext cx="1595520" cy="1763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C:\Documents and Settings\OEM\Local Settings\Temporary Internet Files\Content.IE5\HXNTI061\MC900231348[1].wmf"/>
          <p:cNvPicPr/>
          <p:nvPr/>
        </p:nvPicPr>
        <p:blipFill>
          <a:blip r:embed="rId4"/>
          <a:stretch/>
        </p:blipFill>
        <p:spPr>
          <a:xfrm>
            <a:off x="4500720" y="3645000"/>
            <a:ext cx="2374920" cy="1658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C:\Documents and Settings\OEM\Local Settings\Temporary Internet Files\Content.IE5\N5JMPU4U\MC900297871[1].wmf"/>
          <p:cNvPicPr/>
          <p:nvPr/>
        </p:nvPicPr>
        <p:blipFill>
          <a:blip r:embed="rId5"/>
          <a:stretch/>
        </p:blipFill>
        <p:spPr>
          <a:xfrm>
            <a:off x="2484360" y="4869000"/>
            <a:ext cx="1803600" cy="180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6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Шарады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о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рик птиц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о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огласная бук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о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ыб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(кар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ый слог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осклиц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ой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остоин пориц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в целом о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евере далеком обита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жителей тех м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греет и питает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олень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7" descr="C:\Documents and Settings\OEM\Мои документы\Мои рисунки\Коллекция картинок (Microsoft)\00238280.wmf"/>
          <p:cNvPicPr/>
          <p:nvPr/>
        </p:nvPicPr>
        <p:blipFill>
          <a:blip r:embed="rId1"/>
          <a:stretch/>
        </p:blipFill>
        <p:spPr>
          <a:xfrm>
            <a:off x="6227640" y="1197000"/>
            <a:ext cx="2195640" cy="1741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Documents and Settings\OEM\Local Settings\Temporary Internet Files\Content.IE5\Q2T1RH0P\MC900196240[1].wmf"/>
          <p:cNvPicPr/>
          <p:nvPr/>
        </p:nvPicPr>
        <p:blipFill>
          <a:blip r:embed="rId2"/>
          <a:stretch/>
        </p:blipFill>
        <p:spPr>
          <a:xfrm>
            <a:off x="7020000" y="3068640"/>
            <a:ext cx="200484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3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Метаграмм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«Ч» я над водой лета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«Г» навинченной бываю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чайка-гайк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«Ё» колючий, С «У» ползучи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(ёж-уж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C:\Documents and Settings\OEM\Local Settings\Temporary Internet Files\Content.IE5\TR2T3DHL\MP900201345[1].jpg"/>
          <p:cNvPicPr/>
          <p:nvPr/>
        </p:nvPicPr>
        <p:blipFill>
          <a:blip r:embed="rId1"/>
          <a:srcRect l="0" t="34252" r="0" b="0"/>
          <a:stretch/>
        </p:blipFill>
        <p:spPr>
          <a:xfrm>
            <a:off x="6372360" y="4005360"/>
            <a:ext cx="2016000" cy="201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o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40:30Z</dcterms:created>
  <dc:creator>Анюта Вековещева</dc:creator>
  <dc:description/>
  <dc:language>en-US</dc:language>
  <cp:lastModifiedBy>home</cp:lastModifiedBy>
  <dcterms:modified xsi:type="dcterms:W3CDTF">2012-01-23T12:09:11Z</dcterms:modified>
  <cp:revision>11</cp:revision>
  <dc:subject/>
  <dc:title>«ДИДАКТИЧЕСКАЯ ИГРА, КАК СРЕДСТВО ПОВЫШЕНИЯ ПОЗНАВАТЕЛЬНОЙ  АКТИВНОСТИ УЧАЩИХСЯ»</dc:title>
</cp:coreProperties>
</file>