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3C582-9060-498B-BCE3-70FC7DE46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E9BA7-1167-4E67-8E34-AEBC6CDB7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966B10-E4F2-49C6-9B8F-551FCC1E5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D47172-6274-4D83-A9FF-1392C8B33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ABB2C5-3676-48F1-8AB6-9ABE16D46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EE30B9-E2F1-40A1-B3CE-F407D8E27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57F75F-DC77-4770-86F3-7D83DE07E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A09B78-ACAE-49A7-8D84-08EC73730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6C52E9-3E72-45E1-852A-66C7A38B8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74A9F4-9E8F-449C-8DA4-3B448581A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381E4B-0715-4FA7-9FAD-4C93F663E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046827-1488-4BFF-8E9C-30113C551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8E9DF-F35C-4AB1-B7DB-FD98CBC50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1BC8B6-6971-43ED-8912-23CBC9C5A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D08FC4-B55B-4CFC-982E-972F9EEC9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4D3AA3-12B3-495A-B762-C0AA49622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7B1512-66B3-4062-BE7A-B8551D778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8C71DE-1CE7-4F50-A1FC-EB8976DA8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0EF4C4-9757-4A8B-AE90-DA1A71EB0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421A01-1DC5-4839-B79D-E0B091BFD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29CC48-73BC-4A7A-8A1C-5CD34849C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8ED783-05FE-4B08-A273-E3CB2D7A3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7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B24BC2-592A-4E79-B6F5-2819A2B6D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0D13B-738B-4471-92D3-6E7B1F7C5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2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4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6DF267-A525-450F-8D80-CE899C961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1DED2-5028-4B2F-BD33-290BF782E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544F8-A68F-4C93-A313-4892437A3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A29FA-0C76-4060-B4E2-914417BF3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76912-E12B-420A-B962-3EC11B465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2F733-D899-45F7-A3C3-D2CD375DC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820A9-AD8E-450E-93B0-764D368CD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D27AB-98EF-4C4A-B6EB-86BED6B66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2C156-247D-4ABA-A481-C45B41B02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AEEE8-7067-4A80-A627-331C2CD26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3A3C9-817F-4C7E-8C0E-9E0EF899D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9F0BE-15E6-4F1B-A8E5-5C974BD29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EE518-5C00-491B-89A0-CE108EAF3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C36FD-9890-4DF5-B453-77324E71E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243252-2517-4445-A02F-40C4F8329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3A9D85-99AB-4F37-9E43-D188BC6FF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2E9606-832B-4F88-BEE7-B67559A93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3B3FE4-4441-4B8A-B7E2-92EE576D8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D811E6-7840-4E8B-A89C-1CD494537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BC99E-6EBA-4538-A7D1-D4A995338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783C43-7A20-4402-BB0B-8A4A06655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34428D-3756-4322-A8F6-C45719ED4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074485-DA62-4E0C-8E23-7E59A9186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72E9C9-C600-41E5-AFED-C5F283501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67EE81-CE17-4046-B438-ADBCF4DDC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FD99E2-4CF1-4024-BBB5-5AC0B99C9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106311-BFE4-4A31-8420-3A194D384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F5C2D4-8412-4254-8371-B38936E64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CD9803-8393-45A8-8F37-C63A9A42F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485A4A-8458-4E58-A6B0-9BF41F8E9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14FF9-4456-404C-8CF5-85BAE8160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3A11DE-3972-4034-8FE4-F3D5E72FE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914194-3788-4B84-9CE3-F8A3FD91C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93F0B2-D66A-4D40-B962-F861637D9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107C26-0D2C-47C3-8114-81D99F3FB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F926B2-1BBC-4D66-B96C-3E459C7BB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0A536C-A6CE-45E2-998C-83054ECBF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BCCD3B-B0BC-453C-8920-771483375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903203-37CD-457F-8510-33DB8C732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5DCA1A-659F-4AC9-9873-B7C3476C2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C61BB2-C5EA-444D-A7B7-3518932F4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1BE41-168B-489F-ACFA-378576CE7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37FD93-8A33-4112-A4F0-66B5B5DA4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9BD217-C576-4B71-A9A8-D37FF01D6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524300-2B68-443F-A26F-DE272D0FD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EBAB65-300C-4D20-8510-0AC560BC2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0DD7EF-E06D-4ED9-8D6C-EC4C7DB94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F6A697-0932-47C3-9BC3-30A6D8B52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1DC21D-89DA-4FDB-A870-9DA045424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E3CC7A-9823-4D1A-9897-06A54B963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CE3CBC-A287-49A1-A1F6-E4D37786B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71A6D0-E07E-4719-9719-54EE08D02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CD5A3-073E-45E3-A4D5-AD02FF41B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41D595-9EFC-41FC-9D6F-5458EE63F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B568DC-51AF-43FB-A011-9C0835D96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499B60-6481-4A8B-AF2B-3A57621D7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13C110-9EBF-4959-9E4D-91F22B939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C74243-76E9-4D0D-9322-2DEA9A565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857CC0-1864-4C85-9777-056AF7213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6FAC51-638B-4468-B082-D41CEDB52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D86A15-456B-420C-A0CB-97EC31C29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5EFACD-F85E-4242-A2DF-0FD12F9A1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531619-DCDA-4D51-B942-028C12553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80643-4BBE-48DF-86B4-07B7BD10F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8C21A0-D31D-434C-845A-218AF116C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601D44-3318-48AF-9A15-D50B52A39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3B7A43-6F9D-49EB-A34B-698F7757C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D2E2D9D-EFDB-4454-AB41-B1755BF3C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9348D29-1CEC-420D-B3F5-8C3AFBD4A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6050B99-48BF-4325-AE12-F3B1A34E0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43A1579-65BC-49DF-89D2-0E0FA10F0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F2F7E8E-4637-4ED8-B20D-87D53B69D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050E390-EAEE-4F7E-A961-8904DD665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3B3C2F7-B03D-45E9-9D1C-E0E95C4AE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E88C1-768E-4AD3-A613-9A1941DA4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5043999-E12B-4911-8124-362B5CE8F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3EF4C66-4454-4505-AA13-0BC5F3308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92A7F66-91F2-425A-86C7-FFC5D9D4D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85309E7-3325-4E99-8D62-B6E86A3A9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3A10A9D-D758-4E93-8731-D2E3FF186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45583E-312B-4A47-BB45-E74565492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EBC733-97B3-4488-B244-986365D02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9E9E84-0CC6-4F30-BF25-C35CFEEE3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0C4CA0-0FB3-4771-A405-6D2697D09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F597D4-CCFE-49CB-9CAA-38301738D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94B6E-047F-499E-9994-D088A7391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6D489A-5FAF-4DD7-84B5-848150C26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5B2995-9681-478C-850B-BE649FD97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5042E4-CD1F-4AA1-830A-9A26F4D22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91BFE5-2886-40B6-9352-5A1AD8CEE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B24B27-40EC-4416-A625-4097D5743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9E57AA-0C36-4312-9128-151B454AB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58505E-C6E3-439E-95C1-2B787CCCB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D28257-D793-495C-B469-60CED0558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6D82DD-52D0-477E-A8A1-5C34F1E23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97700A-36F6-4EB6-8FDA-097AAE88A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73.xml"/><Relationship Id="rId8" Type="http://schemas.openxmlformats.org/officeDocument/2006/relationships/slideLayout" Target="../slideLayouts/slideLayout74.xml"/><Relationship Id="rId9" Type="http://schemas.openxmlformats.org/officeDocument/2006/relationships/slideLayout" Target="../slideLayouts/slideLayout75.xml"/><Relationship Id="rId10" Type="http://schemas.openxmlformats.org/officeDocument/2006/relationships/slideLayout" Target="../slideLayouts/slideLayout76.xml"/><Relationship Id="rId11" Type="http://schemas.openxmlformats.org/officeDocument/2006/relationships/slideLayout" Target="../slideLayouts/slideLayout77.xml"/><Relationship Id="rId12" Type="http://schemas.openxmlformats.org/officeDocument/2006/relationships/slideLayout" Target="../slideLayouts/slideLayout78.xml"/><Relationship Id="rId13" Type="http://schemas.openxmlformats.org/officeDocument/2006/relationships/slideLayout" Target="../slideLayouts/slideLayout79.xml"/><Relationship Id="rId14" Type="http://schemas.openxmlformats.org/officeDocument/2006/relationships/slideLayout" Target="../slideLayouts/slideLayout80.xml"/><Relationship Id="rId15" Type="http://schemas.openxmlformats.org/officeDocument/2006/relationships/slideLayout" Target="../slideLayouts/slideLayout81.xml"/><Relationship Id="rId16" Type="http://schemas.openxmlformats.org/officeDocument/2006/relationships/slideLayout" Target="../slideLayouts/slideLayout82.xml"/><Relationship Id="rId17" Type="http://schemas.openxmlformats.org/officeDocument/2006/relationships/slideLayout" Target="../slideLayouts/slideLayout83.xml"/><Relationship Id="rId18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E066A-C6EE-4465-9080-04B565FBFF1C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8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899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 type="dt" idx="28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 type="ftr" idx="29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 type="sldNum" idx="30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3BDDA-5FD5-4C34-AFCA-4EB16EF4292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69878-8236-41C6-8B80-A07200B18DB9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57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0CEDF-91DB-408A-AFEF-DAF03BC61E1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206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2B5FE-A98D-470A-B877-8A015A81FB1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dt" idx="13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F7EA3-1BEB-40AB-8328-19E64B594A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dt" idx="16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sldNum" idx="18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FB5CD-F77B-4435-AC64-0F43BAFA41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5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336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51" name="PlaceHolder 1"/>
          <p:cNvSpPr>
            <a:spLocks noGrp="1"/>
          </p:cNvSpPr>
          <p:nvPr>
            <p:ph type="sldNum" idx="1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8855F-DC9B-4308-9390-6449162A3A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dt" idx="2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ftr" idx="21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7"/>
    <p:sldLayoutId id="2147483728" r:id="rId8"/>
    <p:sldLayoutId id="2147483729" r:id="rId9"/>
    <p:sldLayoutId id="2147483730" r:id="rId10"/>
    <p:sldLayoutId id="2147483731" r:id="rId11"/>
    <p:sldLayoutId id="2147483732" r:id="rId12"/>
    <p:sldLayoutId id="2147483733" r:id="rId13"/>
    <p:sldLayoutId id="2147483734" r:id="rId14"/>
    <p:sldLayoutId id="2147483735" r:id="rId15"/>
    <p:sldLayoutId id="2147483736" r:id="rId16"/>
    <p:sldLayoutId id="2147483737" r:id="rId17"/>
    <p:sldLayoutId id="2147483738" r:id="rId18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2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593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 type="dt" idx="2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06D6F-B2B2-4C8C-B094-C6A6B0EAF2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8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849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7" name="PlaceHolder 1"/>
          <p:cNvSpPr>
            <a:spLocks noGrp="1"/>
          </p:cNvSpPr>
          <p:nvPr>
            <p:ph type="dt" idx="25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 type="ftr" idx="26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 type="sldNum" idx="27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C69DF-34B0-4277-8791-292031188DE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1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Times New Roman"/>
              </a:rPr>
              <a:t>Групповая работа </a:t>
            </a:r>
            <a:br>
              <a:rPr sz="3200"/>
            </a:br>
            <a:r>
              <a:rPr b="0" lang="en-US" sz="3200" spc="-1" strike="noStrike">
                <a:solidFill>
                  <a:srgbClr val="ff0066"/>
                </a:solidFill>
                <a:latin typeface="Times New Roman"/>
              </a:rPr>
              <a:t>как способ приобретения знаний</a:t>
            </a: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 type="subTitle"/>
          </p:nvPr>
        </p:nvSpPr>
        <p:spPr>
          <a:xfrm>
            <a:off x="0" y="129492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Даже самый скучный материал будет интересен учащимся, когда они сами добывают знания, из пассивных слушателей превращаются в активных участников урока.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Я применяю на практике учебные ситуации (технология коллективно-индивидуальной мыследеятельности). В основе всех учебных ситуаций лежат проблемы, которые учащиеся решают самостоятельно на уроке с помощью различных средств, в результате чего они приходят к определенным выводам. Каждая учебная ситуация состоит из трех этапов, функционально взаимосвязанных между собой.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1" i="1" lang="en-US" sz="1600" spc="-1" strike="noStrike">
                <a:solidFill>
                  <a:srgbClr val="ff0000"/>
                </a:solidFill>
                <a:latin typeface="Times New Roman"/>
              </a:rPr>
              <a:t>Первый этап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– организация целевого пространства: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Создание творческих микрогрупп;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Ввод в ситуацию, постановка проблемы;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Выбор средств, позволяющих реабилитировать цели.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           </a:t>
            </a:r>
            <a:r>
              <a:rPr b="1" i="1" lang="en-US" sz="1600" spc="-1" strike="noStrike">
                <a:solidFill>
                  <a:srgbClr val="ff0000"/>
                </a:solidFill>
                <a:latin typeface="Times New Roman"/>
              </a:rPr>
              <a:t>Второй этап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– организация поискового пространства: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Определение способов совместной деятельности: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Реализация программы общей деятельности: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Обсуждение результатов решения проблемы в микрогруппах: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Вывод нового научного знания. 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0000"/>
                </a:solidFill>
                <a:latin typeface="Times New Roman"/>
              </a:rPr>
              <a:t>           </a:t>
            </a:r>
            <a:r>
              <a:rPr b="1" i="1" lang="en-US" sz="1600" spc="-1" strike="noStrike">
                <a:solidFill>
                  <a:srgbClr val="ff0000"/>
                </a:solidFill>
                <a:latin typeface="Times New Roman"/>
              </a:rPr>
              <a:t>Третий этап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– организация рефлексивного пространства: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Осознание метода деятельности: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Осознание затруднений, ошибок: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Постановка новой проблемы.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9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9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9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9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9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9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9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9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9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9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9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9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9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9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9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9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9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9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9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9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9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9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9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9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9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9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9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9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9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9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9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9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9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9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9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9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9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9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9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9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9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9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9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9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9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9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9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9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9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9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9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9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9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9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94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94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94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94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94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4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4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94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94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94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94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94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4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94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"/>
          <p:cNvSpPr/>
          <p:nvPr/>
        </p:nvSpPr>
        <p:spPr>
          <a:xfrm>
            <a:off x="0" y="0"/>
            <a:ext cx="9144000" cy="708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В качестве примера рассмотрим урок по теме </a:t>
            </a: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«Кристаллические решетки»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IX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 класс)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0000"/>
                </a:solidFill>
                <a:latin typeface="Times New Roman"/>
              </a:rPr>
              <a:t>Цели урока: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 ознакомить учащихся с понятием «кристаллическая решетка»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                      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изучить типы кристаллических решеток и показать зависимость физических свойств веществ от типа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                      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кристаллической решетки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0000"/>
                </a:solidFill>
                <a:latin typeface="Times New Roman"/>
              </a:rPr>
              <a:t>Оборудование: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 магнитофон, модели кристаллических решеток, колба с кислородом, вода, иод, оксиды, соли,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                           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кислоты; на столах учащихся – лупа, кварц, сера, флюорит, поваренная соль, графит, медная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                           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проволока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0000"/>
                </a:solidFill>
                <a:latin typeface="Times New Roman"/>
              </a:rPr>
              <a:t>Эпиграф к уроку: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 «Познать сущее нельзя извне, можно только изнутри (Н. Бердяев, русский философ)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Организация целевого пространств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Times New Roman"/>
              </a:rPr>
              <a:t>Звучит музык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Times New Roman"/>
              </a:rPr>
              <a:t>Учитель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 (демонстрируя различные вещества). Как разнообразен мир музыки, так разнообразен и мир веществ. Рано или поздно каждый человек задает себе вопросы: почему воздух и зимой, и летом газообразный? Почему вода в чайнике закипает и превращается в пар, а железо при тех же условиях остается твердым? Почему молекулы газов свободно перемещаются в пространстве? Почему жидкости текут и льются?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Verdana"/>
              <a:buChar char="?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На Земле есть одно вещество, которое может одновременно находиться сразу в трех агрегатных состоянии. Какое это вещество?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Verdana"/>
              <a:buChar char="?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Вспомните материал, который вы изучили на уроках физики, и обсудите в группах, от чего зависит агрегатное состояние воды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Обсуждение в группах. </a:t>
            </a:r>
            <a:r>
              <a:rPr b="0" i="1" lang="ru-RU" sz="1400" spc="-1" strike="noStrike">
                <a:solidFill>
                  <a:srgbClr val="ffffff"/>
                </a:solidFill>
                <a:latin typeface="Times New Roman"/>
              </a:rPr>
              <a:t>Вывод: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 агрегатное состояние воды и других веществ зависит от того, из каких частиц состоит вещество, и от того, как они расположены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Verdana"/>
              <a:buChar char="?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В каких веществах частицы расположены более упорядоченно друг отрицательно друга? (В твердых веществах.)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Times New Roman"/>
              </a:rPr>
              <a:t>Учитель составляет схему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948" name=""/>
          <p:cNvCxnSpPr>
            <a:stCxn id="947" idx="2"/>
            <a:endCxn id="947" idx="2"/>
          </p:cNvCxnSpPr>
          <p:nvPr/>
        </p:nvCxnSpPr>
        <p:spPr>
          <a:xfrm>
            <a:off x="4571640" y="6641640"/>
            <a:ext cx="108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949" name=""/>
          <p:cNvSpPr/>
          <p:nvPr/>
        </p:nvSpPr>
        <p:spPr>
          <a:xfrm>
            <a:off x="2514600" y="5715000"/>
            <a:ext cx="0" cy="38088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0" name=""/>
          <p:cNvSpPr/>
          <p:nvPr/>
        </p:nvSpPr>
        <p:spPr>
          <a:xfrm>
            <a:off x="6629400" y="5715000"/>
            <a:ext cx="0" cy="38088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>
            <a:off x="2514600" y="5638680"/>
            <a:ext cx="4114800" cy="0"/>
          </a:xfrm>
          <a:prstGeom prst="line">
            <a:avLst/>
          </a:prstGeom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>
            <a:off x="4572000" y="5334120"/>
            <a:ext cx="0" cy="304560"/>
          </a:xfrm>
          <a:prstGeom prst="line">
            <a:avLst/>
          </a:prstGeom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>
            <a:off x="3124080" y="4876920"/>
            <a:ext cx="17686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>
            <a:off x="3124080" y="502920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Твердые веществ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>
            <a:off x="914400" y="6095880"/>
            <a:ext cx="313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Аморфные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(стекло, резина и др.)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>
            <a:off x="4952880" y="6095880"/>
            <a:ext cx="3368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Кристаллические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(лед, кварц, железо и др.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mb dir="horz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770"/>
                                        <p:tgtEl>
                                          <p:spTgt spid="9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2" dur="770" fill="hold"/>
                                        <p:tgtEl>
                                          <p:spTgt spid="9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4" dur="770" fill="hold"/>
                                        <p:tgtEl>
                                          <p:spTgt spid="9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6" dur="770" fill="hold"/>
                                        <p:tgtEl>
                                          <p:spTgt spid="9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9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9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4" dur="1000"/>
                                        <p:tgtEl>
                                          <p:spTgt spid="9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9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9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1" dur="1000"/>
                                        <p:tgtEl>
                                          <p:spTgt spid="9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9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9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8" dur="1000"/>
                                        <p:tgtEl>
                                          <p:spTgt spid="9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9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9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9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9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9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9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9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9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9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9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9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9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9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9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9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9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5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9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9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9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1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9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2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9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3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9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4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9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5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9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6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9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7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9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8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9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9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9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9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9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9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42" dur="500"/>
                                        <p:tgtEl>
                                          <p:spTgt spid="9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45" dur="500"/>
                                        <p:tgtEl>
                                          <p:spTgt spid="94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48" dur="500"/>
                                        <p:tgtEl>
                                          <p:spTgt spid="94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51" dur="500"/>
                                        <p:tgtEl>
                                          <p:spTgt spid="94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54" dur="500"/>
                                        <p:tgtEl>
                                          <p:spTgt spid="94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57" dur="500"/>
                                        <p:tgtEl>
                                          <p:spTgt spid="947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9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9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9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9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92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1" dur="192" fill="hold"/>
                                        <p:tgtEl>
                                          <p:spTgt spid="95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72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73" dur="192" fill="hold"/>
                                        <p:tgtEl>
                                          <p:spTgt spid="9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74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75" dur="192" fill="hold"/>
                                        <p:tgtEl>
                                          <p:spTgt spid="9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76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5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9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9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9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9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9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9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9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9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9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9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9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9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1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1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"/>
          <p:cNvSpPr/>
          <p:nvPr/>
        </p:nvSpPr>
        <p:spPr>
          <a:xfrm>
            <a:off x="0" y="0"/>
            <a:ext cx="9144000" cy="7920360"/>
          </a:xfrm>
          <a:prstGeom prst="rect">
            <a:avLst/>
          </a:prstGeom>
          <a:noFill/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b7e7ff"/>
              </a:buClr>
              <a:buFont typeface="Verdana"/>
              <a:buChar char="?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b7e7ff"/>
                </a:solidFill>
                <a:latin typeface="Times New Roman"/>
              </a:rPr>
              <a:t>Прочитайте эпиграф к уроку, рассмотрите рисунки и сформулируйте проблему, которую необходимо решить на этом уроке. </a:t>
            </a:r>
            <a:br>
              <a:rPr sz="1400"/>
            </a:br>
            <a:r>
              <a:rPr b="0" lang="ru-RU" sz="1400" spc="-1" strike="noStrike">
                <a:solidFill>
                  <a:srgbClr val="b7e7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b7e7ff"/>
                </a:solidFill>
                <a:latin typeface="Times New Roman"/>
              </a:rPr>
              <a:t>Обсуждение в группах. Вывод: необходимо изучить кристаллическое строение веществ и понять, чем они отличаются от аморфных. </a:t>
            </a:r>
            <a:br>
              <a:rPr sz="1400"/>
            </a:b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II</a:t>
            </a:r>
            <a:r>
              <a:rPr b="1" lang="ru-RU" sz="1400" spc="-1" strike="noStrike">
                <a:solidFill>
                  <a:srgbClr val="ff0000"/>
                </a:solidFill>
                <a:latin typeface="Times New Roman"/>
              </a:rPr>
              <a:t>. Организация поискового пространства </a:t>
            </a:r>
            <a:br>
              <a:rPr sz="1400"/>
            </a:br>
            <a:r>
              <a:rPr b="1" lang="ru-RU" sz="1400" spc="-1" strike="noStrike">
                <a:solidFill>
                  <a:srgbClr val="ff0000"/>
                </a:solidFill>
                <a:latin typeface="Times New Roman"/>
              </a:rPr>
              <a:t>Лабораторная работа в группах «Изучение веществ» </a:t>
            </a:r>
            <a:br>
              <a:rPr sz="1400"/>
            </a:br>
            <a:br>
              <a:rPr sz="1400"/>
            </a:br>
            <a:r>
              <a:rPr b="0" i="1" lang="ru-RU" sz="1400" spc="-1" strike="noStrike">
                <a:solidFill>
                  <a:srgbClr val="ff0000"/>
                </a:solidFill>
                <a:latin typeface="Times New Roman"/>
              </a:rPr>
              <a:t>Задание </a:t>
            </a:r>
            <a:br>
              <a:rPr sz="1400"/>
            </a:br>
            <a:r>
              <a:rPr b="0" i="1" lang="ru-RU" sz="1400" spc="-1" strike="noStrike">
                <a:solidFill>
                  <a:srgbClr val="ff0000"/>
                </a:solidFill>
                <a:latin typeface="Times New Roman"/>
              </a:rPr>
              <a:t>Рассмотрите через лупу различные вещества: кварц </a:t>
            </a:r>
            <a:r>
              <a:rPr b="0" i="1" lang="en-US" sz="1400" spc="-1" strike="noStrike">
                <a:solidFill>
                  <a:srgbClr val="ff0000"/>
                </a:solidFill>
                <a:latin typeface="Times New Roman"/>
              </a:rPr>
              <a:t>SiO</a:t>
            </a:r>
            <a:r>
              <a:rPr b="0" i="1" lang="ru-RU" sz="1400" spc="-1" strike="noStrike">
                <a:solidFill>
                  <a:srgbClr val="ff0000"/>
                </a:solidFill>
                <a:latin typeface="Times New Roman"/>
              </a:rPr>
              <a:t>, серу </a:t>
            </a:r>
            <a:r>
              <a:rPr b="0" i="1" lang="en-US" sz="14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i="1" lang="ru-RU" sz="1400" spc="-1" strike="noStrike">
                <a:solidFill>
                  <a:srgbClr val="ff0000"/>
                </a:solidFill>
                <a:latin typeface="Times New Roman"/>
              </a:rPr>
              <a:t>, флюорит </a:t>
            </a:r>
            <a:r>
              <a:rPr b="0" i="1" lang="en-US" sz="1400" spc="-1" strike="noStrike">
                <a:solidFill>
                  <a:srgbClr val="ff0000"/>
                </a:solidFill>
                <a:latin typeface="Times New Roman"/>
              </a:rPr>
              <a:t>CaF</a:t>
            </a:r>
            <a:r>
              <a:rPr b="0" i="1" lang="ru-RU" sz="1400" spc="-1" strike="noStrike">
                <a:solidFill>
                  <a:srgbClr val="ff0000"/>
                </a:solidFill>
                <a:latin typeface="Times New Roman"/>
              </a:rPr>
              <a:t>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b7e7ff"/>
              </a:buClr>
              <a:buFont typeface="Verdana"/>
              <a:buChar char="?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b7e7ff"/>
                </a:solidFill>
                <a:latin typeface="Times New Roman"/>
              </a:rPr>
              <a:t>Что вы наблюдаете? (Кристаллы веществ)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b7e7ff"/>
              </a:buClr>
              <a:buFont typeface="Verdana"/>
              <a:buChar char="?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b7e7ff"/>
                </a:solidFill>
                <a:latin typeface="Times New Roman"/>
              </a:rPr>
              <a:t>Что такое кристаллы?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b7e7ff"/>
                </a:solidFill>
                <a:latin typeface="Times New Roman"/>
              </a:rPr>
              <a:t>Обсуждение в группах с использованием словаря русского языка. С.И. Ожегова. </a:t>
            </a:r>
            <a:r>
              <a:rPr b="0" i="1" lang="ru-RU" sz="1400" spc="-1" strike="noStrike">
                <a:solidFill>
                  <a:srgbClr val="ff0000"/>
                </a:solidFill>
                <a:latin typeface="Times New Roman"/>
              </a:rPr>
              <a:t>Вывод:</a:t>
            </a:r>
            <a:r>
              <a:rPr b="0" lang="ru-RU" sz="1400" spc="-1" strike="noStrike">
                <a:solidFill>
                  <a:srgbClr val="b7e7ff"/>
                </a:solidFill>
                <a:latin typeface="Times New Roman"/>
              </a:rPr>
              <a:t> кристалл – это твердое вещество, имеющее определенное упорядоченное строение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b7e7ff"/>
              </a:buClr>
              <a:buFont typeface="Verdana"/>
              <a:buChar char="?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b7e7ff"/>
                </a:solidFill>
                <a:latin typeface="Times New Roman"/>
              </a:rPr>
              <a:t>Почему различают кристаллы различных веществ?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b7e7ff"/>
                </a:solidFill>
                <a:latin typeface="Times New Roman"/>
              </a:rPr>
              <a:t>Обсуждение в группах. Ответ учащиеся сверяют с учебником, с.42-43. </a:t>
            </a:r>
            <a:r>
              <a:rPr b="0" i="1" lang="ru-RU" sz="1400" spc="-1" strike="noStrike">
                <a:solidFill>
                  <a:srgbClr val="ff0000"/>
                </a:solidFill>
                <a:latin typeface="Times New Roman"/>
              </a:rPr>
              <a:t>Вывод:</a:t>
            </a:r>
            <a:r>
              <a:rPr b="0" lang="ru-RU" sz="1400" spc="-1" strike="noStrike">
                <a:solidFill>
                  <a:srgbClr val="b7e7ff"/>
                </a:solidFill>
                <a:latin typeface="Times New Roman"/>
              </a:rPr>
              <a:t> внутреннее строение кристалла можно представить в виде кристаллической решетки. Кристаллы разных веществ имеют различные кристаллические решетки. Кристаллическая решетка – это упорядоченное расположение частиц в кристалле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b7e7ff"/>
                </a:solidFill>
                <a:latin typeface="Times New Roman"/>
              </a:rPr>
              <a:t>Лабораторная рабата в группах «Исследование кристаллической решетки вещества»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b7e7ff"/>
                </a:solidFill>
                <a:latin typeface="Times New Roman"/>
              </a:rPr>
              <a:t>Задания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b7e7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b7e7ff"/>
                </a:solidFill>
                <a:latin typeface="Times New Roman"/>
              </a:rPr>
              <a:t>Рассмотрите выданное вещество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b7e7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b7e7ff"/>
                </a:solidFill>
                <a:latin typeface="Times New Roman"/>
              </a:rPr>
              <a:t>прочитайте текст параграф 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8" name="" descr=""/>
          <p:cNvPicPr/>
          <p:nvPr/>
        </p:nvPicPr>
        <p:blipFill>
          <a:blip r:embed="rId2"/>
          <a:stretch/>
        </p:blipFill>
        <p:spPr>
          <a:xfrm>
            <a:off x="1447920" y="685800"/>
            <a:ext cx="2361960" cy="160020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9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9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9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9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59" name=""/>
          <p:cNvGraphicFramePr/>
          <p:nvPr/>
        </p:nvGraphicFramePr>
        <p:xfrm>
          <a:off x="914400" y="228600"/>
          <a:ext cx="8229600" cy="1692360"/>
        </p:xfrm>
        <a:graphic>
          <a:graphicData uri="http://schemas.openxmlformats.org/drawingml/2006/table">
            <a:tbl>
              <a:tblPr/>
              <a:tblGrid>
                <a:gridCol w="1600200"/>
                <a:gridCol w="1143000"/>
                <a:gridCol w="1371600"/>
                <a:gridCol w="1371600"/>
                <a:gridCol w="1371600"/>
                <a:gridCol w="1371600"/>
              </a:tblGrid>
              <a:tr h="753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ещество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ид химической связ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Частицы в узлах кристаллической решетк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Характер сил взаимодействия частиц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Тип кристаллической решетк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Физические свойства вещества.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3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оваренная соль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Графит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Мед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ера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60" name=""/>
          <p:cNvSpPr/>
          <p:nvPr/>
        </p:nvSpPr>
        <p:spPr>
          <a:xfrm>
            <a:off x="669960" y="2522520"/>
            <a:ext cx="7940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>
            <a:off x="0" y="2133720"/>
            <a:ext cx="914400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3. Выполните таблицу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4. Подготовьте рассказ о кристаллической решетке выданного вещества и сделайте вывод, какими свойствами обладают вещества с такой кристаллической решеткой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5. Приведите примеры вещества, которые имеют такую же кристаллическую решетку, как и выданное вам вещество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Группы изучают разные вещества: поваренную соль, графит, медь, серу. Учащиеся заполняют свою строку таблицы в тетрадях, записывают вывод. Затем каждая группа отчитывается, заполняя  таблицу на доске, и делает вывод. Выслушав и обсудив отчеты групп, учащихся приходят к общему выводу: в кристаллических веществах атомы, молекулы или ионы располагаются в определенном порядке. Различают четыре типа кристаллических решеток. Физические свойства веществ определяют их строением в кристаллическом состоянии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mb dir="horz"/>
  </p:transition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36" dur="20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1" dur="5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0" y="3123720"/>
            <a:ext cx="91440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III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. Рефлексия </a:t>
            </a:r>
            <a:br>
              <a:rPr sz="2000"/>
            </a:b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Учитель переводит кодированный диктант. Он зачитывает несколько утверждений. Учащиеся должны согласиться или не согласиться с каждым утверждением. В место ответа «да» они ставят 1, а вместо ответа «нет» - 0. </a:t>
            </a: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1. Нафталин – легкоплавкое вещество, потому что имеет молекулярную кристаллическую решетку. </a:t>
            </a: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2. Слово «кристалл» пишется с одной л. </a:t>
            </a: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3. Вещества с атомной кристаллической решеткой твердые, тугоплавкие, нелетучие. 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4. Для веществ с металлической кристаллической решеткой характерна хрупкость. 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5. Кристаллическая решетка серы состоит из атомов серы. </a:t>
            </a:r>
            <a:br>
              <a:rPr sz="1600"/>
            </a:br>
            <a:r>
              <a:rPr b="1" i="1" lang="ru-RU" sz="1600" spc="-1" strike="noStrike">
                <a:solidFill>
                  <a:srgbClr val="ffffff"/>
                </a:solidFill>
                <a:latin typeface="Times New Roman"/>
              </a:rPr>
              <a:t>Ответ: 10100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Учащиеся проводят взаимопроверку работ. </a:t>
            </a:r>
            <a:br>
              <a:rPr sz="1600"/>
            </a:br>
            <a:r>
              <a:rPr b="0" i="1" lang="ru-RU" sz="1600" spc="-1" strike="noStrike">
                <a:solidFill>
                  <a:srgbClr val="ffffff"/>
                </a:solidFill>
                <a:latin typeface="Times New Roman"/>
              </a:rPr>
              <a:t>Домашнее задание: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 смоделировать кристаллическую решетку любого вещества. </a:t>
            </a: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Такие уроки можно провести во всех классах. Они направлены на развитие умений работать с литературой, выделять главное, обобщать т делать выводы, строить аргументированный рассказ. Подобные уроки имеют также большое воспитательное значение – способствуют формированию и развитию нравственных качеств учащихся, такие, как коллективизм, способность к взаимовыручке, умение дружить. </a:t>
            </a:r>
            <a:br>
              <a:rPr sz="1600"/>
            </a:br>
            <a:endParaRPr b="1" lang="en-US" sz="16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p:transition spd="med">
    <p:comb dir="horz"/>
  </p:transition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0" fill="hold"/>
                                        <p:tgtEl>
                                          <p:spTgt spid="9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0" fill="hold"/>
                                        <p:tgtEl>
                                          <p:spTgt spid="9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08-03-31T06:17:58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