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933-9646-4EBC-A23D-2924A281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B84-A25E-415E-BD10-1F32E877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E8C-3ADC-481C-ADBB-D749E51D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190-D5BA-4AFA-BB58-376FD77A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201C-DAFC-4B2F-9D02-E0966370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93AC-A7F3-4E30-A542-BEFEC514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9408-7145-4A5F-A2E0-474B284C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7E4D-BC33-416D-8058-081630FA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630C-5FBA-4223-B43D-2522E1FE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18AD-83DE-45B8-AED6-69B3F83B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1DDA-E1B4-4FE8-A0BE-DB5D324F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D08-51EE-43CF-8C89-0651A2FD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266D-06E8-465A-8C7C-0B1B40EE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4DD0-4E7B-4D32-88F3-09C96893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DA1F-0AF0-4716-BBE3-B84D55A7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543E-B457-4F58-B5FF-353C883F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E713-22AF-4C95-B9D4-9DB62D9C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22D-3592-4EE5-BF59-8FD291C9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E71-8951-4F61-A02D-CD7EDA90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798-433E-4704-863E-6500DF34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610-F723-4D05-ADF0-CE8A76E7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1BA-6816-42B6-AF91-AAE27771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324-74BB-47E2-B734-5ADADAC8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686-1291-4B4D-9B12-DBA20151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4ADD-3867-4F5C-8F47-9A300340B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7C7F-9739-43DB-80D2-19172CE80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urier New"/>
              </a:rPr>
              <a:t>Растительность России</a:t>
            </a:r>
            <a:r>
              <a:rPr b="1" lang="en-US" sz="5400" spc="-1" strike="noStrike">
                <a:solidFill>
                  <a:srgbClr val="ffffb7"/>
                </a:solidFill>
                <a:latin typeface="Courier New"/>
              </a:rPr>
              <a:t> и не только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396252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ial"/>
              </a:rPr>
              <a:t>Красота неописуем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Impact"/>
              </a:rPr>
              <a:t>Сол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788000" cy="5732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03640" y="1125360"/>
            <a:ext cx="4140360" cy="2799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4140360" cy="278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Lucida Console"/>
              </a:rPr>
              <a:t>Северный Речной вокзал в Москв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392640" cy="2460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3392640" cy="2492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508720" y="1773360"/>
            <a:ext cx="3429000" cy="246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508720" y="4365720"/>
            <a:ext cx="3429000" cy="2492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Narrow"/>
              </a:rPr>
              <a:t>Картинки </a:t>
            </a:r>
            <a:r>
              <a:rPr b="1" lang="en-US" sz="4400" spc="-1" strike="noStrike">
                <a:solidFill>
                  <a:srgbClr val="ffffb7"/>
                </a:solidFill>
                <a:latin typeface="Arial Narrow"/>
              </a:rPr>
              <a:t>Window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500720" cy="4392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572000" cy="4392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unga"/>
              </a:rPr>
              <a:t>На стройк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572000" cy="410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435600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Mangal"/>
              </a:rPr>
              <a:t>В Черноголовк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140360" cy="4608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427640" cy="46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Bookman Old Style"/>
              </a:rPr>
              <a:t>Деревня Петрович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3671640" cy="279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88000" y="1125360"/>
            <a:ext cx="3671640" cy="279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88000" y="4076640"/>
            <a:ext cx="3671640" cy="2781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4360" y="4076640"/>
            <a:ext cx="367164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Comic Sans MS"/>
              </a:rPr>
              <a:t>Льв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500720" cy="496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500720" cy="496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Кие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27640" cy="460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500720" cy="460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Latha"/>
              </a:rPr>
              <a:t>Города на Волг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067280" cy="272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924360" cy="272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4067280" cy="2781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003640" y="4076640"/>
            <a:ext cx="3924360" cy="278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Franklin Gothic Medium"/>
              </a:rPr>
              <a:t>В Абрамце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572000" cy="5732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03640" y="1125360"/>
            <a:ext cx="4140360" cy="279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003640" y="4005360"/>
            <a:ext cx="4140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6:59:35Z</dcterms:created>
  <dc:creator>Anatolii</dc:creator>
  <dc:description/>
  <dc:language>en-US</dc:language>
  <cp:lastModifiedBy>Customer</cp:lastModifiedBy>
  <dcterms:modified xsi:type="dcterms:W3CDTF">2012-03-05T13:40:25Z</dcterms:modified>
  <cp:revision>6</cp:revision>
  <dc:subject/>
  <dc:title>Растительность России </dc:title>
</cp:coreProperties>
</file>