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589-79F1-43C2-B0FE-A26DB473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2C4-6822-42AD-9894-EBA4DF0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C19-EFFD-4A6C-86AC-C28F74D7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898-B310-4E04-9716-06EE4D18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810F-8A59-4E42-B223-B7766A36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2E1F-4830-4D61-974C-3560973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70A-1A1F-4C7B-A670-D14DB74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250-3C79-4F5D-8254-95E59BE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9F9-C1DD-419B-B3BE-DBD9EBA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1DF0-340E-4346-9402-3A7F0DE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16A-AA08-4719-81FD-2A7073F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266-6B00-45AA-83B9-5CABB86C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86B9-CAE9-47F6-9438-40839AD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7B6-10C7-4981-B44A-5933F8D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927-4EA6-42A2-A6E3-8A7D432D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4FC-62DB-4BCD-8832-99BE6A2D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0DCF-E0FD-4ED7-ACB7-1B5510D0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34B-D5F0-4697-93BD-A2ED179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EA1-EF19-4407-B9B9-2E8E63B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1DA-F0E9-4251-B11F-E42C132F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F9D-483B-4773-BBC2-7DA826A7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DCC-AF7A-4CB2-895D-1692462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FAC-6B8E-4414-9B43-F09B113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188-6074-430F-B54A-809D3AB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5C5-A118-4AF0-822D-D77671FDD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E68-90D0-42C4-B8BC-7AA44C97E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цветы роз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е упоминания о восхитительном цветке, мы встречаем в древних китайских и индийских легендах. Из этих стран они попали в Персию и в мир Древней Греции. Геродот в своей „Истории” описал душистую розу из легендарных „Садов царя Мидаса“, расположенных в предгорьях Македонии. Эти сады долгое время славились роскошными махровыми розами, превосходившими ароматом все остальные. Во времена Александра Великого жил и творил греческий философ и естествоиспытатель Теофраст. В своей „Естественной истории“ он подробно описал розы и способы ухода за ними. Да и само название нашего любимого цветка произошло от греческого слова „rhédon“, означавшего „красный“, — первой известной европейцам розой была красная R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з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3997440" cy="4530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398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асивые роз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038480" cy="3532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038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2 -0.50856 C -0.00346 -0.52106 0.00556 -0.52708 0.01286 -0.53518 C 0.02848 -0.55254 0.06546 -0.55717 0.08438 -0.55995 C 0.11841 -0.58055 0.15643 -0.58935 0.19289 -0.59999 C 0.20852 -0.60462 0.22206 -0.61319 0.23716 -0.61898 C 0.24237 -0.62106 0.24775 -0.62152 0.25296 -0.62291 C 0.25539 -0.62361 0.26008 -0.62476 0.26008 -0.62476 C 0.26615 -0.6243 0.30591 -0.62222 0.31424 -0.62083 C 0.32848 -0.61851 0.34289 -0.61411 0.35695 -0.61134 C 0.37536 -0.60786 0.39897 -0.60671 0.41563 -0.59421 C 0.43195 -0.58217 0.44376 -0.55948 0.46008 -0.54861 C 0.46841 -0.54305 0.47414 -0.53425 0.48282 -0.52939 C 0.4856 -0.52777 0.4915 -0.52569 0.4915 -0.52569 C 0.4981 -0.51898 0.50331 -0.51087 0.51008 -0.50462 C 0.5073 -0.5199 0.50105 -0.5287 0.49428 -0.54097 C 0.47761 -0.57083 0.46042 -0.59861 0.43265 -0.60948 C 0.42431 -0.61296 0.41563 -0.61411 0.40713 -0.61527 C 0.39358 -0.61712 0.3672 -0.62083 0.3672 -0.62083 C 0.32987 -0.63124 0.29185 -0.63402 0.25435 -0.64374 C 0.24827 -0.64536 0.24202 -0.64675 0.23577 -0.64768 C 0.22102 -0.64999 0.1915 -0.65323 0.1915 -0.65323 C 0.14862 -0.65254 0.10574 -0.65254 0.06286 -0.65138 C 0.04272 -0.65092 0.02848 -0.63263 0.01008 -0.62661 C -0.00138 -0.61898 -0.0111 -0.6118 -0.01996 -0.59999 C -0.0236 -0.58495 -0.03055 -0.57384 -0.03576 -0.55995 C -0.04027 -0.54814 -0.04253 -0.53472 -0.04565 -0.52198 C -0.04721 -0.50555 -0.04704 -0.48865 -0.04999 -0.47245 C -0.04947 -0.38217 -0.07933 -0.27661 -0.04131 -0.20185 C -0.04044 -0.19814 -0.0394 -0.19421 -0.03853 -0.1905 C -0.03749 -0.18611 -0.0328 -0.17893 -0.0328 -0.17893 C -0.03089 -0.16828 -0.02708 -0.16064 -0.0243 -0.15046 C -0.02048 -0.13657 -0.01753 -0.12245 -0.01423 -0.10856 C -0.0118 -0.08194 -0.00989 -0.05578 -0.00277 -0.03055 C 0.00018 -0.00254 5.83333E-006 -0.01273 5.83333E-006 8.88889E-006 E">
                                      <p:cBhvr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д призентацей работала ученица 3 класса Г    Драчева  Настя 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Желтая роз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562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C 0.01007 -0.00694 0.02031 -0.01319 0.03004 -0.02083 C 0.05191 -0.03819 0.0349 -0.03171 0.04861 -0.03611 C 0.05 -0.03796 0.05122 -0.04051 0.05295 -0.04213 C 0.05556 -0.04375 0.06146 -0.0456 0.06146 -0.0456 C 0.07674 -0.06597 0.11354 -0.05231 0.12726 -0.05139 C 0.13785 -0.04676 0.15052 -0.0368 0.15868 -0.02662 C 0.1599 -0.02176 0.16406 -0.01828 0.16424 -0.01319 C 0.16511 0.00394 0.16476 0.0213 0.16285 0.0382 C 0.16059 0.05764 0.13351 0.06065 0.12292 0.06297 C 0.09288 0.06158 0.06285 0.06065 0.03281 0.0588 C 0.02483 0.05857 0.01788 0.05 0.01007 0.04746 C -0.02656 0.02246 -0.06875 0.04561 -0.10712 0.05139 C -0.12031 0.0588 -0.13715 0.06598 -0.15139 0.06852 C -0.16962 0.08079 -0.17274 0.08658 -0.19288 0.08959 C -0.20139 0.09329 -0.20989 0.09561 -0.21857 0.09723 C -0.23385 0.10695 -0.25208 0.1088 -0.26857 0.11042 C -0.27899 0.11343 -0.3 0.11806 -0.3 0.11806 C -0.33576 0.1169 -0.37135 0.11598 -0.40712 0.11436 C -0.43351 0.1132 -0.46128 0.10278 -0.48715 0.09908 C -0.49496 0.09653 -0.50017 0.09306 -0.50851 0.09144 C -0.52014 0.0838 -0.5243 0.08426 -0.53576 0.0801 C -0.54844 0.07547 -0.5559 0.07037 -0.56996 0.06852 C -0.59323 0.05973 -0.58333 0.06227 -0.6 0.0588 C -0.60607 0.05093 -0.60521 0.04653 -0.60712 0.03635 C -0.60625 0.02801 -0.60607 0.01968 -0.60434 0.01158 C -0.60087 -0.00463 -0.59028 -0.02268 -0.58142 -0.03426 C -0.57951 -0.04213 -0.57309 -0.05162 -0.56719 -0.05509 C -0.5625 -0.05787 -0.56163 -0.05625 -0.55712 -0.05902 C -0.53541 -0.07291 -0.50955 -0.07291 -0.48576 -0.07801 C -0.45781 -0.09722 -0.38628 -0.0912 -0.3743 -0.09143 C -0.26857 -0.09305 -0.16285 -0.09259 -0.05729 -0.09328 C 0.00521 -0.10486 0.05486 -0.09606 0.12726 -0.09514 C 0.13715 -0.08634 0.12396 -0.09745 0.14288 -0.08564 C 0.16285 -0.07314 0.14601 -0.08101 0.15712 -0.07615 C 0.16059 -0.07152 0.16684 -0.06689 0.17153 -0.06481 C 0.17674 -0.0574 0.18455 -0.05532 0.19011 -0.04768 C 0.19254 -0.04444 0.19722 -0.03796 0.19722 -0.03796 C 0.19809 -0.03472 0.19861 -0.03148 0.2 -0.02847 C 0.20156 -0.025 0.20452 -0.02268 0.20573 -0.01898 C 0.20695 -0.01481 0.2066 -0.00995 0.20712 -0.00555 C 0.2066 0.06297 0.22361 0.13912 0.2 0.2 C 0.19792 0.22014 0.19271 0.24144 0.18715 0.26088 C 0.1842 0.29838 0.17778 0.33473 0.17292 0.37153 C 0.1724 0.38287 0.17257 0.39445 0.17153 0.40579 C 0.17118 0.40973 0.16858 0.41713 0.16858 0.41713 C 0.16441 0.45116 0.16354 0.48727 0.15573 0.52014 C 0.15174 0.57408 0.14306 0.62778 0.13854 0.68195 C 0.13768 0.72686 0.13733 0.74352 0.13281 0.78102 C 0.1316 0.79074 0.13073 0.79514 0.1257 0.80186 C 0.12188 0.80695 0.11649 0.80741 0.11146 0.80949 C 0.10625 0.81412 0.10052 0.81945 0.09427 0.82107 C 0.08872 0.82269 0.07726 0.82477 0.07726 0.82477 C 0.06649 0.83218 0.05347 0.83426 0.04149 0.83635 C -0.05729 0.83496 -0.15573 0.83542 -0.25434 0.83241 C -0.2967 0.83125 -0.33923 0.81459 -0.38142 0.80949 C -0.4059 0.79885 -0.43316 0.79699 -0.45851 0.79445 C -0.48107 0.78426 -0.45399 0.79537 -0.50278 0.78866 C -0.57118 0.7794 -0.58906 0.78218 -0.69288 0.78102 C -0.70156 0.7794 -0.70694 0.77755 -0.71423 0.7713 C -0.71562 0.76574 -0.71857 0.7544 -0.71857 0.7544 C -0.71805 0.725 -0.71944 0.69584 -0.71719 0.66667 C -0.71649 0.65787 -0.70989 0.6419 -0.70989 0.6419 C -0.70746 0.62547 -0.70052 0.61297 -0.69566 0.59792 C -0.69392 0.5926 -0.69305 0.58658 -0.69132 0.58102 C -0.68837 0.57176 -0.68472 0.56297 -0.68142 0.55417 C -0.67587 0.53912 -0.67413 0.52037 -0.67135 0.50486 C -0.66823 0.48704 -0.66371 0.47061 -0.65868 0.45348 C -0.65278 0.39607 -0.64791 0.33889 -0.64132 0.28172 C -0.64062 0.26343 -0.63889 0.24514 -0.63854 0.22639 C -0.63663 0.12917 -0.66528 0.10232 -0.61996 0.08774 C -0.61198 0.08056 -0.60243 0.08125 -0.59288 0.0801 C -0.55139 0.08149 -0.50955 0.07732 -0.46857 0.08565 C -0.44514 0.09028 -0.42378 0.09699 -0.4 0.09908 C -0.37795 0.10394 -0.35642 0.10811 -0.3342 0.11042 C -0.28333 0.10926 -0.23246 0.10834 -0.18142 0.10672 C -0.16823 0.10625 -0.1559 0.10093 -0.14305 0.10093 E">
                                      <p:cBhvr>
                                        <p:cTn id="1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стория роз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ете ли вы, что розу разводят уже более 5 тысяч лет? Но для нее это не много. Природа совершенствует этот цветок 35 миллионов лет! Древние греки, почитавшие красоту в любых проявлениях, придумали массу легенд о происхождении этого божественного цвет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асная роз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47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арицей цветов, символом красоты и величия. Красота и мистическая притягательность С давних времен роза остается непревзойденной розы привлекла к себе внимание человека. Ее любили, ей поклонялись, ее воспевали с незапамятных времен. Роза пользовалась любовью и популярностью у всех народов мира.По археологическим  данным роза существует на земле уже около 25 мл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зовая роз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034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Древней Греции розами украшали невесту, ими усыпали путь победителей, когда они возвращались с войны; их посвящали богам, и многие храмы были окружены прекрасными садами роз. При раскопках ученые нашли монеты, на которых были изображены розы. А в Древнем Риме этот цветок украшал дома только очень богатых людей. Когда они устраивали пиры, то гостей осыпали розовыми лепестками, а их головы украшали венками из роз. Богачи купались в ваннах с розовой водой; из роз делали вино, их добавляли в кушанья, в разные сладости, которые до сих пор любят на Востоке. А потом розы стали выращивать и в других стран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ая роз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404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5:01:14Z</dcterms:created>
  <dc:creator>win4ester</dc:creator>
  <dc:description/>
  <dc:language>en-US</dc:language>
  <cp:lastModifiedBy>win4ester</cp:lastModifiedBy>
  <dcterms:modified xsi:type="dcterms:W3CDTF">2012-02-18T06:50:18Z</dcterms:modified>
  <cp:revision>4</cp:revision>
  <dc:subject/>
  <dc:title>цветы</dc:title>
</cp:coreProperties>
</file>