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E66-A819-4A7B-BA66-EF50CFBE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256-3C2A-4E54-B767-9BDA644A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475-4E2B-4CAF-B045-5FC11B9F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400-DE93-43F9-8C95-24A0351F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310-1BC2-4D26-9409-571A5D56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FD7-2BF2-4575-B6CA-72B9741C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63D-B3C4-437D-97C4-C33A1F1F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95B-0971-4D52-9383-B7D9959E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BA4-14A8-41E2-8AFD-013CA762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0E2-CEE1-4C9D-A97C-C47C7CE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EB3-47BD-4A7A-824C-EDEB6025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89B-A894-488A-8317-E2B3715E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B413-3A9E-4F33-8E30-39B4CD6CB0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"/>
          <p:cNvGrpSpPr/>
          <p:nvPr/>
        </p:nvGrpSpPr>
        <p:grpSpPr>
          <a:xfrm>
            <a:off x="1714680" y="714240"/>
            <a:ext cx="4429080" cy="1714680"/>
            <a:chOff x="1714680" y="714240"/>
            <a:chExt cx="4429080" cy="1714680"/>
          </a:xfrm>
        </p:grpSpPr>
        <p:sp>
          <p:nvSpPr>
            <p:cNvPr id="42" name="Выноска-облако 2"/>
            <p:cNvSpPr/>
            <p:nvPr/>
          </p:nvSpPr>
          <p:spPr>
            <a:xfrm>
              <a:off x="1714680" y="714240"/>
              <a:ext cx="4429080" cy="1714680"/>
            </a:xfrm>
            <a:prstGeom prst="cloudCallout">
              <a:avLst>
                <a:gd name="adj1" fmla="val -49171"/>
                <a:gd name="adj2" fmla="val 65675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889640" y="987480"/>
              <a:ext cx="3742920" cy="116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059 Песня кота Леопольда.mp3" descr=""/>
          <p:cNvPicPr/>
          <p:nvPr/>
        </p:nvPicPr>
        <p:blipFill>
          <a:blip r:embed="rId3"/>
          <a:stretch/>
        </p:blipFill>
        <p:spPr>
          <a:xfrm>
            <a:off x="6858000" y="5929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9"/>
          <p:cNvSpPr/>
          <p:nvPr/>
        </p:nvSpPr>
        <p:spPr>
          <a:xfrm>
            <a:off x="2571840" y="2571840"/>
            <a:ext cx="457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ждик босиком по земле прошёл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лены по плечам хлопал…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ясный день, это хорошо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 когда наоборот - плох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лышишь, как звенят в небе высок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нечных лучей струны?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добрый ты, то всегда легко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 когда наоборот - труд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каждым поделись радостью свое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ссыпая смех звучно…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песни петь, с ними веселе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 когда наоборот - скучно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0001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500280" y="428760"/>
            <a:ext cx="3286440" cy="564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брым быть совсем не прост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зависит доброта от рос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зависит доброта от цвет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брота - не пряник, не конфет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надо добрым бы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в беде друг друга не забы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завертится земля быстре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будем мы с тобой добр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брым быть совсем не прост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зависит доброта от рост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брота приносит людям радос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взамен не требует наград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брота с годами не старе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брота от холода согре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доброта, как солнце, свет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дуются взрослые и де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Н.Тулуп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 rot="21208800">
            <a:off x="4644360" y="866880"/>
            <a:ext cx="300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брот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отзывчивость, душевное расположение к людям, стремление делать добро други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 rot="447600">
            <a:off x="5437440" y="3808080"/>
            <a:ext cx="300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брососедств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добрые поступки и доброе отношение ко всем окружающи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 rot="21208800">
            <a:off x="4679640" y="1638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бр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 rot="447600">
            <a:off x="5673240" y="347796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брососедств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 rot="21208800">
            <a:off x="6022800" y="6631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сед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 rot="21208800">
            <a:off x="6090840" y="9968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ве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 rot="21208800">
            <a:off x="6162480" y="1425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ряд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 rot="21208800">
            <a:off x="6233760" y="18543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 rot="21208800">
            <a:off x="6305040" y="2282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 rot="447600">
            <a:off x="5673240" y="38350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бросовестн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 rot="447600">
            <a:off x="5601600" y="4192200"/>
            <a:ext cx="30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бропорядочн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 rot="447600">
            <a:off x="5530320" y="462096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брожелательн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 rot="447600">
            <a:off x="5458680" y="4978080"/>
            <a:ext cx="30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бросердечн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500280" y="428760"/>
            <a:ext cx="3286440" cy="564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брое слово лечит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 злое калечит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Кто любит добрые дел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му и жизнь мил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Делай другим добро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удешь сам без беды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Худо тому, кто добра не творит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кому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Чего не сделаешь силко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го добьешься добро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Добрые умир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 дела их живут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Живи добрее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удешь всем миле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loughed_acre_20041012_260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14200" y="-308520"/>
            <a:ext cx="892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казка « Пахарь и  кро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харь пахал землю. Вылез крот из своей норы и удивился: вспахано уже большое поле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 пахарь все пашет и пашет. Спрашивает кро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Зачем ты вспахал такое большое поле и продолжаешь пахать ещ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харь отвечает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 пашу не только себе, но и люд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дивился крот: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Почему ты пашешь людям? Пусть каждый работает на себя. Вот я рою себе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у, и каждый крот роет себе нор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Но ведь вы же – кроты, а мы  - люд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- ответил пахарь и начал новую борозд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285840" y="285840"/>
            <a:ext cx="457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ки твои сильны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ы защити слаб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ысли твои верны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ы научи глуп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лаза твои, твоя душ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брая и чиста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ри ее тому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му больно одно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и добро на всей земл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и добро другим во бла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 за красивое спасиб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слышавшего тебя рядо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и добро на всей земл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и добро другим во бла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 за красивое спасиб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слышавшего тебя ря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shura_shura_-_tvori_dobro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4870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1"/>
          <p:cNvPicPr/>
          <p:nvPr/>
        </p:nvPicPr>
        <p:blipFill>
          <a:blip r:embed="rId1"/>
          <a:stretch/>
        </p:blipFill>
        <p:spPr>
          <a:xfrm>
            <a:off x="0" y="-1971720"/>
            <a:ext cx="10333080" cy="1033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Безымянный"/>
          <p:cNvPicPr/>
          <p:nvPr/>
        </p:nvPicPr>
        <p:blipFill>
          <a:blip r:embed="rId2"/>
          <a:stretch/>
        </p:blipFill>
        <p:spPr>
          <a:xfrm>
            <a:off x="1797120" y="1928880"/>
            <a:ext cx="6418080" cy="2000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714680" y="2001240"/>
            <a:ext cx="680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ак хорошо, что есть ещё средь нас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акие, что не требуют награды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е слыша зов идут, идут, иду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 раздают добро и все им рад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Группа 4"/>
          <p:cNvGrpSpPr/>
          <p:nvPr/>
        </p:nvGrpSpPr>
        <p:grpSpPr>
          <a:xfrm>
            <a:off x="2286000" y="1071720"/>
            <a:ext cx="4429080" cy="3429000"/>
            <a:chOff x="2286000" y="1071720"/>
            <a:chExt cx="4429080" cy="3429000"/>
          </a:xfrm>
        </p:grpSpPr>
        <p:sp>
          <p:nvSpPr>
            <p:cNvPr id="69" name="Выноска-облако 2"/>
            <p:cNvSpPr/>
            <p:nvPr/>
          </p:nvSpPr>
          <p:spPr>
            <a:xfrm>
              <a:off x="2286000" y="1071720"/>
              <a:ext cx="4429080" cy="3429000"/>
            </a:xfrm>
            <a:prstGeom prst="cloudCallout">
              <a:avLst>
                <a:gd name="adj1" fmla="val -63976"/>
                <a:gd name="adj2" fmla="val 20689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566440" y="1944720"/>
              <a:ext cx="3968640" cy="15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059 Песня кота Леопольда.mp3" descr=""/>
          <p:cNvPicPr/>
          <p:nvPr/>
        </p:nvPicPr>
        <p:blipFill>
          <a:blip r:embed="rId3"/>
          <a:stretch/>
        </p:blipFill>
        <p:spPr>
          <a:xfrm>
            <a:off x="68580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00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1:49:44Z</dcterms:created>
  <dc:creator>Ната</dc:creator>
  <dc:description/>
  <dc:language>en-US</dc:language>
  <cp:lastModifiedBy>александр</cp:lastModifiedBy>
  <dcterms:modified xsi:type="dcterms:W3CDTF">2012-03-05T12:06:26Z</dcterms:modified>
  <cp:revision>20</cp:revision>
  <dc:subject/>
  <dc:title>Слайд 1</dc:title>
</cp:coreProperties>
</file>