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DBC-AB31-46CC-914D-CADF8D15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151-8912-47DC-877A-54D08095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978-9D00-44B7-A700-8968E75F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B58-33E9-48E0-9094-2A3E1553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85DD-E395-430B-83AF-5E85A397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0A25-F241-48CD-9CE6-A5C7846D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C74F-C2D6-47AA-8726-635D6CBB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B461-CF44-4BF7-8800-F22F8411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3AAF-7962-42C8-9E06-52AEDD10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239E-641E-43F9-9B2F-B1B00947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4BCF-0B0C-4577-BB69-F5E44CF8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CB6-DD99-4F45-8F02-B3C08BF5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8C0D-7341-47CE-B8C0-4D9E7166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09A5-95C6-498B-AFB9-0D84B4B1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5BBC-39B6-4959-AA03-94F844D2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A3C0-0A7E-4FB1-A283-C805F4D6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6E46-E5CB-497D-ACD1-60DCD4F4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BC5-98E8-4844-AFD7-F276E527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F13-F6D4-4162-ACBD-1D3F210E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222-1978-43BE-9DB5-A5955665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573-E645-4FD6-AF67-7E386CF7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E55-1600-4837-88B3-50B9139E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5A3-1CAF-4EBD-B450-70716C25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042-31EE-46DE-92B0-6802FDA6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CCD6-5648-4EE1-89D1-9A2A71E6667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3532-48EF-4420-B626-07153647482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27280" y="765000"/>
            <a:ext cx="6192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Обобщение инновационного опыта педагогической деятельности по теме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«Развитие социальной компетентности учащихся в условиях клуба по интересам «Рукодельница»</a:t>
            </a:r>
            <a:endParaRPr b="1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Жаковой Ларисы Игоревны, педагога дополнительного образования высшей квалификационной категории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Прием «Постоянно действующая выставка».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8000" y="3868560"/>
            <a:ext cx="4346640" cy="2934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4248000" cy="2940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987640" y="1341360"/>
            <a:ext cx="31687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Социальное проектирование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В течение 3-х лет осуществлены социальные проекты: «Дети детям» (вязание рукавиц и носков для детей «Дома малютки», сбор книг и игрушек для детей детского дома, показ спектаклей кукольного театра для детей детского сада (по сценариям написанным детьми совместно с педагогом), «Осторожно! Помойка!» 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838320" cy="2519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276720" y="2781360"/>
            <a:ext cx="54864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Работа с родителям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800600" cy="326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181560" y="1484280"/>
            <a:ext cx="2295720" cy="3097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867280" y="4292640"/>
            <a:ext cx="28576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Результаты деятельност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403280" y="1628640"/>
          <a:ext cx="6337440" cy="45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628640"/>
                    <a:ext cx="633744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Через создание и реализацию социальных проектов и участие в социальных акциях сформировала у учащихся умение работать в коллективе, чувство ответственности за принимаемое решение, установки на позитивную социальную деятельность. За последние три года воспитанники клуба создали и реализовали 20 проектов. 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258920" y="2060640"/>
          <a:ext cx="6618240" cy="34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60640"/>
                    <a:ext cx="661824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Результатом творческой деятельности является участие детей в конкурсах различного уровня. В течение трех лет количество детей, принявших участие увеличилось с 33 до 35 человек.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84360" y="1557360"/>
          <a:ext cx="788508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8508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Важным показателем развития социальной компетентности воспитанников является их объективная самооценка. Проведенные мною исследования в данной  области показали, что количество детей с объективной  самооценкой значительно увеличилось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39640" y="1700280"/>
          <a:ext cx="7885080" cy="41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788508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Проектная част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Учитывая социальную направленность деятельности клуба, я планирую создание электронной энциклопедии для детских садов и начальной школы «Животные Хабаровского края». В нее войдут собранные нами материалы при подготовке детских проектов (сведения о животном: описание внешности, фото, ареал проживания, повадки, способ питания, стихи, сказки, рассказы о животных, схема для рисования, фото для детской работы в технике «Лесная мозаика», фото автора проекта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Цель моей дальнейшей педагогической деятельности: </a:t>
            </a: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- Развитие социальной компетентности посредством  использования информационно-коммуникационных технологий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сширить материально – техническую базу клуба (приобретение компьютера  и подключение к сети Интернет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оздать электронную энциклопедию «Животные Хабаровского края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оздать электронное Портфолио личных достижений членов клуба по интересам «Рукодельница»,  с размещением на сайте образовательного учрежд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оздать  районное сетевое сообщество воспитанников творческих объединений по декоративно-прикладному искусству «Мы вместе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Заключе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копленный практический материал по сопровождению образовательного процесса (методические разработки по разным видам деятельности, наглядные пособия и выставочные образцы) может быть полезен воспитателям детских садов, учителям начальной школы и технологии, педагогам школы искусств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пыт организации образовательного пространства в разновозрастном клубе по интересам «Рукодельница» может использоваться в малокомплектных сельских школах и школах полного дн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воим опытом работы охотно делюсь с коллегами по РМО педагогов дополнительного образования по декоративно-прикладному искусству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азместила материалы методических разработок в «Сети творческих учителей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Оформление мыслей в письменный текст включает много операций, которые требуют определенных умений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формулировать название (темы) статьи четко, компактно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пределить границы содержания темы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оставить план статьи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идеть образ конечного продукта и его адресата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ридерживаться темы статьи, отсекая лишние рассуждения и информацию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формить мысли тезисно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добрать к тезису соответствующие примеры, факты, аргументы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Имеющиеся факты, примеры обобщить и оформить выводы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льзоваться первоисточниками (делать ссылки)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добрать соответствующие выразительные средства для изложения мысли (сравнения, эпитеты, метафоры и др.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Цель моей педагогической деятельности :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создание условий для развития социальной компетентности  у учащихся в условиях клуба по интересам «Рукодельница»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оанализировать уровень  социальной компетентности учащихся творческого объединения по ДПИ «Рукодельница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оздать и внедрить в практику педагогический инструментарий, способствующий развитию социальной компетентности учащихс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оверить эффективность педагогической деятельности по развитию социальной компетентности учащихс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37720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Аналитическая часть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Анализ литературы  позволил вывести следующее определение: социальная компетентность  - это базисная  интегральная характеристика личности, отражающая ее достижения  в развитии отношений с другими людьми, обеспечивающая  полноценное владение социальной реальностью и дающая возможность эффективно выстраивать свое поведение в зависимости от ситуации  и  в соответствии  с принятыми в социуме на данный момент нормами и ценностями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Развитие социальной  компетентности  учащихся в клубе по интересам «Рукодельница»,   прежде всего, осуществляла  посредством реализации модифицированной образовательной программы «Дом, который стал родным», имеющей блочно-модульную структуру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 с природным материалом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с материалами нетрадиционными для детского творчества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материалами, бывшими в употреблении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 вязание крючком и спицами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 макраме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 лепка из глины и соленого  тест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 пошив одежды для куко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Для того,  чтобы учащиеся прошли  успешно адаптацию в клубе в образовательной программе предусмотрела блок  социальной направленности.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«Лесная школа» (для школьной адаптации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«Уроки общения для младших подростков»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«Жизнь без страха»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716360" y="3519360"/>
            <a:ext cx="4280040" cy="3210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79280" y="352908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Особое внимание   уделяла групповой деятельности. Именно групповая работа и взаимодействие самих учащихся в ней является  эффективным способом развития  социальной компетентности  учащегося, его способности  быть лидером или ведомым, реализовать свои цели в группе 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258920" y="1635120"/>
            <a:ext cx="643428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Технологии проектного обучения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119320" cy="2401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632640" y="1579680"/>
            <a:ext cx="2374920" cy="2361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2778120" cy="2523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559320" y="1584360"/>
            <a:ext cx="1949400" cy="2365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6416640" y="4149720"/>
            <a:ext cx="2592360" cy="2533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3673440" y="4160880"/>
            <a:ext cx="20448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На  каждом занятии  создаю  </a:t>
            </a:r>
            <a:r>
              <a:rPr b="1" lang="en-US" sz="1600" spc="-1" strike="noStrike">
                <a:solidFill>
                  <a:srgbClr val="006666"/>
                </a:solidFill>
                <a:latin typeface="Verdana"/>
              </a:rPr>
              <a:t>ситуацию успеха</a:t>
            </a: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 для каждого ребёнка: подбираю оптимальные приёмы и методы, способствующие включению каждого ребёнка в активную деятельность на уровне его потенциальных возможностей, расширяющие эти возможности, воздействующие на эмоционально – волевую и интеллектуальную сферу его личности.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ереживание успеха внушает ребёнку уверенность в собственных силах (« …если я этого добился в клубе, то, приложив усилия, я смогу это сделать и дома, и в школе»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у ребёнка появляется желание достичь хороших результатов и в другом виде деятельности, чтобы вновь ощутить радость успеха, признание сверстников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оложительные эмоции, рождающиеся в результате успешной деятельности, создают ощущение благополучия, что в свою очередь благотворно влияет на общее отношение человека к окружающему мир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22:19:47Z</dcterms:created>
  <dc:creator>Zhakov</dc:creator>
  <dc:description/>
  <dc:language>en-US</dc:language>
  <cp:lastModifiedBy>Лариса</cp:lastModifiedBy>
  <dcterms:modified xsi:type="dcterms:W3CDTF">2012-03-05T10:20:49Z</dcterms:modified>
  <cp:revision>14</cp:revision>
  <dc:subject/>
  <dc:title>Обобщение инновационного опыта педагогической деятельности по теме</dc:title>
</cp:coreProperties>
</file>