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7BD-9BF2-4345-B334-079DC8EB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AE3-47BA-44E9-98ED-82B74C53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DD7-A753-44B4-91D5-DBA91A91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B0B-3632-4892-91B3-38B21A34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5DC9-13D6-4E75-A39E-C4AC665F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E04A-5C74-4935-97C7-F7B23137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CAF3-591F-4652-93E9-1F0C591B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A8F7-8BA5-4F95-BE98-8EA34558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750B-A0F7-4721-94BF-E9AEA923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75FD-7614-41AE-B5C8-CC72A426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9822-5C61-4896-8653-EAB137F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75D-CFA3-4D25-AD21-1E96ED31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2758-926B-4EC6-AC28-3226D547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EFA9-AA90-4598-B9F1-C2684ED5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7AFE-B8AC-460F-88EA-9FFE667F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6725-DFCD-4ADA-8D06-BD971206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F651-FD25-44F8-9640-4D378B74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917-D1D4-4844-B20D-8C83BE8C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496-90CA-485D-A405-954EBAD0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7F7-2644-4E11-8121-7E4F453F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136-86FF-4ED1-AAFC-DD6E0BFB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2FB-5DB2-45CA-BAF3-96A070F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A6A-7F10-4CAD-9ABA-73003788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A52-382C-40CE-A19C-CA986B05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0095-317C-4C0A-BA24-BE132E790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70FC-BF47-435C-A4FB-AEB00B238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Всеядные       растения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выполня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ца 3г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кина Окс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Archaeamphora longicervia.png"/>
          <p:cNvPicPr/>
          <p:nvPr/>
        </p:nvPicPr>
        <p:blipFill>
          <a:blip r:embed="rId1"/>
          <a:stretch/>
        </p:blipFill>
        <p:spPr>
          <a:xfrm>
            <a:off x="5435640" y="1773360"/>
            <a:ext cx="317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 которые едят людей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96720" y="1557360"/>
            <a:ext cx="13320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marL="3240" indent="-32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ибы в разное время вызывали страшные болезни растений. В Бенгалии в пойме Ганга, во время Второй мировой войны была массовое поражение риса грибом, вызывающим пятнистость и ожог растения. Заболевание вызвало неурожай в течение нескольких лет, а к колонии не могла. Два миллиона человек умерло за время этой болезни. Было массовое заболевание кукурузы в Южной Америке. Ученые посчитали, что если бы урожай кукурузы, который пошел на корм грибу, скормить скоту, можно было дополнительно приготовить два миллиарда стограммовых бифштек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2233080"/>
            <a:ext cx="658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ибы в разное время вызывали страшные болезни растений. В Бенгалии в пойме Ганга, во время Второй мировой войны была массовое поражение риса грибом, вызывающим пятнистость и ожог растения. Заболевание вызвало неурожай в течение нескольких лет, а кроме риса там есть в общем нечего. Люди уходили в горы, но и там тоже нечего было есть. Англия была занята войной и помочь своей колонии не могла. Два миллиона человек умерло за время этой болезни. Было массовое заболевание кукурузы в Южной Америке. Ученые посчитали, что если бы урожай кукурузы, который пошел на корм грибу, скормить скоту, можно было дополнительно приготовить два миллиарда стограммовых бифштек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1943280" cy="2352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4281480"/>
            <a:ext cx="22683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 которые едят насеком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Drosera capensis Luc Viatour.jpg"/>
          <p:cNvPicPr/>
          <p:nvPr/>
        </p:nvPicPr>
        <p:blipFill>
          <a:blip r:embed="rId1"/>
          <a:stretch/>
        </p:blipFill>
        <p:spPr>
          <a:xfrm>
            <a:off x="2581200" y="1628640"/>
            <a:ext cx="3981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 которые едят насеком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Drosera anglica ne2.jpg"/>
          <p:cNvPicPr/>
          <p:nvPr/>
        </p:nvPicPr>
        <p:blipFill>
          <a:blip r:embed="rId1"/>
          <a:stretch/>
        </p:blipFill>
        <p:spPr>
          <a:xfrm>
            <a:off x="1800360" y="1773360"/>
            <a:ext cx="5543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 которые едят насеком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Природа не устает нас удивлять своими загадками и сюрпризами."/>
          <p:cNvPicPr/>
          <p:nvPr/>
        </p:nvPicPr>
        <p:blipFill>
          <a:blip r:embed="rId1"/>
          <a:stretch/>
        </p:blipFill>
        <p:spPr>
          <a:xfrm>
            <a:off x="2268360" y="1844640"/>
            <a:ext cx="4535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 которые едят насеком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Как выращивать хищный цветок в доме? Венерина мухоловка"/>
          <p:cNvPicPr/>
          <p:nvPr/>
        </p:nvPicPr>
        <p:blipFill>
          <a:blip r:embed="rId1"/>
          <a:stretch/>
        </p:blipFill>
        <p:spPr>
          <a:xfrm>
            <a:off x="1450800" y="2349360"/>
            <a:ext cx="62406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стения которые едят насеком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Sundew fly.jpg"/>
          <p:cNvPicPr/>
          <p:nvPr/>
        </p:nvPicPr>
        <p:blipFill>
          <a:blip r:embed="rId1"/>
          <a:stretch/>
        </p:blipFill>
        <p:spPr>
          <a:xfrm>
            <a:off x="1187280" y="2205000"/>
            <a:ext cx="6840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 которые едят насеком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Nep amp 295.jpg"/>
          <p:cNvPicPr/>
          <p:nvPr/>
        </p:nvPicPr>
        <p:blipFill>
          <a:blip r:embed="rId1"/>
          <a:stretch/>
        </p:blipFill>
        <p:spPr>
          <a:xfrm>
            <a:off x="1979640" y="1916280"/>
            <a:ext cx="5183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 которые едят насеком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Meal worm in venus fly trap.jpg"/>
          <p:cNvPicPr/>
          <p:nvPr/>
        </p:nvPicPr>
        <p:blipFill>
          <a:blip r:embed="rId1"/>
          <a:stretch/>
        </p:blipFill>
        <p:spPr>
          <a:xfrm>
            <a:off x="1727280" y="1989000"/>
            <a:ext cx="568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ения которые едят насекомых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43280" y="2349360"/>
            <a:ext cx="5256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5:04:10Z</dcterms:created>
  <dc:creator>Rita</dc:creator>
  <dc:description/>
  <dc:language>en-US</dc:language>
  <cp:lastModifiedBy>Rita</cp:lastModifiedBy>
  <dcterms:modified xsi:type="dcterms:W3CDTF">2012-02-09T03:06:15Z</dcterms:modified>
  <cp:revision>2</cp:revision>
  <dc:subject/>
  <dc:title>Всеядные растения!</dc:title>
</cp:coreProperties>
</file>