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image9.gif" ContentType="image/gif"/>
  <Override PartName="/ppt/media/image8.gif" ContentType="image/gif"/>
  <Override PartName="/ppt/media/laser.wav" ContentType="audio/x-wav"/>
  <Override PartName="/ppt/media/image6.gif" ContentType="image/gif"/>
  <Override PartName="/ppt/media/image5.gif" ContentType="image/gif"/>
  <Override PartName="/ppt/media/carbrake.wav" ContentType="audio/x-wav"/>
  <Override PartName="/ppt/media/image14.jpeg" ContentType="image/jpeg"/>
  <Override PartName="/ppt/media/image7.gif" ContentType="image/gif"/>
  <Override PartName="/ppt/media/camera.wav" ContentType="audio/x-wav"/>
  <Override PartName="/ppt/media/image12.png" ContentType="image/png"/>
  <Override PartName="/ppt/media/image11.gif" ContentType="image/gif"/>
  <Override PartName="/ppt/media/glass.wav" ContentType="audio/x-wav"/>
  <Override PartName="/ppt/media/image10.png" ContentType="image/png"/>
  <Override PartName="/ppt/media/cashreg.wav" ContentType="audio/x-wav"/>
  <Override PartName="/ppt/media/image2.png" ContentType="image/png"/>
  <Override PartName="/ppt/media/image13.gif" ContentType="image/gif"/>
  <Override PartName="/ppt/media/chimes.wav" ContentType="audio/x-wav"/>
  <Override PartName="/ppt/media/image1.jpeg" ContentType="image/jpeg"/>
  <Override PartName="/ppt/media/image4.gif" ContentType="image/gif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B0B-4D35-47BA-8A67-FFFB4B26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07A-488B-46AE-8075-14D4CE4F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C78-D6FA-48A3-955C-00588048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D64-C8DB-468C-B8F5-AF1FB5E6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2A5-0C86-4278-9CBB-5768A729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414-5943-4379-AAA5-09D7B96C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9C6-B204-4D6E-9B34-873350C4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8E9-3ACB-43F1-A93B-9DA50FB0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E29-7218-4380-9CC8-CB404A3D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4E6-A055-4B23-92CC-AF7B1A0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719-6408-4A25-A190-FEDB2BDE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9C2-A180-41C5-BB33-2D6E997D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A2D6-9E05-4396-B295-D502DE8C19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6" descr="D:\5005\spe-1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2" name="Text Box 1027"/>
          <p:cNvSpPr/>
          <p:nvPr/>
        </p:nvSpPr>
        <p:spPr>
          <a:xfrm>
            <a:off x="2074320" y="906480"/>
            <a:ext cx="4995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tuational Grammar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Computer Animation.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rasal Verb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Text Box 1028"/>
          <p:cNvSpPr/>
          <p:nvPr/>
        </p:nvSpPr>
        <p:spPr>
          <a:xfrm>
            <a:off x="1168200" y="2895480"/>
            <a:ext cx="68086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компьютерной анимации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изучении английской лексики и грамматики.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разеологические глаголы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" name="Text Box 1029"/>
          <p:cNvSpPr/>
          <p:nvPr/>
        </p:nvSpPr>
        <p:spPr>
          <a:xfrm>
            <a:off x="1955520" y="4286160"/>
            <a:ext cx="53852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ект Кулёвой Ирины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ейский 11 «а» класс, 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кола №420 г. Москва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ководитель проекта Маршева Р. 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26"/>
          <p:cNvSpPr/>
          <p:nvPr/>
        </p:nvSpPr>
        <p:spPr>
          <a:xfrm>
            <a:off x="1220760" y="121932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go by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4" name="Text Box 1027"/>
          <p:cNvSpPr/>
          <p:nvPr/>
        </p:nvSpPr>
        <p:spPr>
          <a:xfrm>
            <a:off x="581040" y="4267080"/>
            <a:ext cx="813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ime goes by slowly at the lesson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5" name="Text Box 1028"/>
          <p:cNvSpPr/>
          <p:nvPr/>
        </p:nvSpPr>
        <p:spPr>
          <a:xfrm>
            <a:off x="56520" y="3154320"/>
            <a:ext cx="918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Время проходит медленно на этом уроке.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6" name="Text Box 1029"/>
          <p:cNvSpPr/>
          <p:nvPr/>
        </p:nvSpPr>
        <p:spPr>
          <a:xfrm>
            <a:off x="4952520" y="1447920"/>
            <a:ext cx="354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pass (time)</a:t>
            </a:r>
            <a:endParaRPr b="0" lang="en-US" sz="60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77" name="1(def).mid" descr=""/>
          <p:cNvPicPr/>
          <p:nvPr/>
        </p:nvPicPr>
        <p:blipFill>
          <a:blip r:embed="rId1"/>
          <a:stretch/>
        </p:blipFill>
        <p:spPr>
          <a:xfrm>
            <a:off x="-838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144440" y="533520"/>
            <a:ext cx="294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ld on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699160" y="53352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wait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1840" y="2438280"/>
            <a:ext cx="90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Если вы подождете минуту, я посмотрю 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6720" y="4572000"/>
            <a:ext cx="64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If you hold on a moment,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960" y="307800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находится ли Том в комнате.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07440" y="5302080"/>
            <a:ext cx="711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I'll see if Tom’s in his room.</a:t>
            </a:r>
            <a:endParaRPr b="0" lang="en-US" sz="48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143000"/>
            <a:ext cx="38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take back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640840" y="1066680"/>
            <a:ext cx="23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return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1080" y="3062160"/>
            <a:ext cx="9048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33cc"/>
                </a:solidFill>
                <a:latin typeface="Times New Roman"/>
              </a:rPr>
              <a:t>Мне надо вернуть книги в библиотеку.</a:t>
            </a:r>
            <a:endParaRPr b="0" lang="en-US" sz="4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88200" y="4038480"/>
            <a:ext cx="8966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I have to take these books back to the library.</a:t>
            </a:r>
            <a:endParaRPr b="0" lang="en-US" sz="3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89" name="2(def).mid" descr=""/>
          <p:cNvPicPr/>
          <p:nvPr/>
        </p:nvPicPr>
        <p:blipFill>
          <a:blip r:embed="rId1"/>
          <a:stretch/>
        </p:blipFill>
        <p:spPr>
          <a:xfrm>
            <a:off x="-838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4000">
    <p:split dir="in" orient="vert"/>
    <p:sndAc>
      <p:stSnd>
        <p:snd r:embed="rId2" name="cashreg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66680" y="1028880"/>
            <a:ext cx="31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5050"/>
                </a:solidFill>
                <a:latin typeface="Times New Roman"/>
              </a:rPr>
              <a:t>look up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7080" y="5029200"/>
            <a:ext cx="888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n’t you  look the word up in the dictionary to find out what it means? 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48680" y="3200400"/>
            <a:ext cx="88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очему ты не посмотришь слово в словаре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чтобы выяснить, что оно значит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480560" y="507960"/>
            <a:ext cx="478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check information </a:t>
            </a:r>
            <a:endParaRPr b="0" lang="en-US" sz="48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in a dictionary or</a:t>
            </a:r>
            <a:endParaRPr b="0" lang="en-US" sz="48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reference book.</a:t>
            </a:r>
            <a:endParaRPr b="0" lang="en-US" sz="4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4" name="2(def).mid" descr=""/>
          <p:cNvPicPr/>
          <p:nvPr/>
        </p:nvPicPr>
        <p:blipFill>
          <a:blip r:embed="rId1"/>
          <a:stretch/>
        </p:blipFill>
        <p:spPr>
          <a:xfrm>
            <a:off x="-838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09840" y="990720"/>
            <a:ext cx="331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give up</a:t>
            </a:r>
            <a:endParaRPr b="0" lang="en-US" sz="8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14400" y="4419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Sam’s  given up smocking.</a:t>
            </a:r>
            <a:endParaRPr b="0" lang="en-US" sz="5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480560" y="819000"/>
            <a:ext cx="416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to stop doing</a:t>
            </a:r>
            <a:endParaRPr b="0" lang="en-US" sz="60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something</a:t>
            </a:r>
            <a:endParaRPr b="0" lang="en-US" sz="6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959040" y="3429000"/>
            <a:ext cx="72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Сэм уже бросил курить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Мои\english\2006\Gif\спит.gif"/>
          <p:cNvPicPr/>
          <p:nvPr/>
        </p:nvPicPr>
        <p:blipFill>
          <a:blip r:embed="rId1"/>
          <a:stretch/>
        </p:blipFill>
        <p:spPr>
          <a:xfrm>
            <a:off x="-304920" y="-990720"/>
            <a:ext cx="10939680" cy="5324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31880" y="3886200"/>
            <a:ext cx="18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ake up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99960" y="464832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leeping takes up most of his free time.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480" y="5334120"/>
            <a:ext cx="90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он занимает большую часть его свободного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3" name="спит.mid" descr=""/>
          <p:cNvPicPr/>
          <p:nvPr/>
        </p:nvPicPr>
        <p:blipFill>
          <a:blip r:embed="rId2"/>
          <a:stretch/>
        </p:blipFill>
        <p:spPr>
          <a:xfrm>
            <a:off x="-99072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pull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Мои\english\2006\Gif\девочка с сумками.gif"/>
          <p:cNvPicPr/>
          <p:nvPr/>
        </p:nvPicPr>
        <p:blipFill>
          <a:blip r:embed="rId1"/>
          <a:stretch/>
        </p:blipFill>
        <p:spPr>
          <a:xfrm>
            <a:off x="166680" y="0"/>
            <a:ext cx="8977320" cy="5230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85800" y="342900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et by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75360" y="510552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he doesn’t earn enough, but she gets b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6040" y="5791320"/>
            <a:ext cx="83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на недостаточно зарабатывает, но она обходится.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8" name="девочка с сумками.mid" descr=""/>
          <p:cNvPicPr/>
          <p:nvPr/>
        </p:nvPicPr>
        <p:blipFill>
          <a:blip r:embed="rId2"/>
          <a:stretch/>
        </p:blipFill>
        <p:spPr>
          <a:xfrm>
            <a:off x="-685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2" presetSubtype="1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Мои\english\2006\Gif\зубной.gif"/>
          <p:cNvPicPr/>
          <p:nvPr/>
        </p:nvPicPr>
        <p:blipFill>
          <a:blip r:embed="rId1"/>
          <a:stretch/>
        </p:blipFill>
        <p:spPr>
          <a:xfrm>
            <a:off x="-271440" y="157320"/>
            <a:ext cx="9686880" cy="6543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507120" y="762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ut off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55680" y="421020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 shouldn’t put off  his visit to the dent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-360" y="4965840"/>
            <a:ext cx="89240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cc"/>
                </a:solidFill>
                <a:latin typeface="Times New Roman"/>
              </a:rPr>
              <a:t>Ему не следует откладывать визит к зубному врачу.</a:t>
            </a:r>
            <a:endParaRPr b="0" lang="en-US" sz="31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Мои\english\2006\Gif\самолет.gif"/>
          <p:cNvPicPr/>
          <p:nvPr/>
        </p:nvPicPr>
        <p:blipFill>
          <a:blip r:embed="rId1"/>
          <a:stretch/>
        </p:blipFill>
        <p:spPr>
          <a:xfrm>
            <a:off x="623880" y="0"/>
            <a:ext cx="8520120" cy="5767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749760" y="368136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take off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785600" y="4495680"/>
            <a:ext cx="56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 couldn’t take off successfully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81640" y="5105520"/>
            <a:ext cx="56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Он не смог удачно взлететь.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с рюкзаком.mid" descr=""/>
          <p:cNvPicPr/>
          <p:nvPr/>
        </p:nvPicPr>
        <p:blipFill>
          <a:blip r:embed="rId2"/>
          <a:stretch/>
        </p:blipFill>
        <p:spPr>
          <a:xfrm>
            <a:off x="-6094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cover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Мои\english\2006\Gif\с рюкзаком в гору .gif"/>
          <p:cNvPicPr/>
          <p:nvPr/>
        </p:nvPicPr>
        <p:blipFill>
          <a:blip r:embed="rId1"/>
          <a:stretch/>
        </p:blipFill>
        <p:spPr>
          <a:xfrm>
            <a:off x="380880" y="-27000"/>
            <a:ext cx="8763120" cy="6885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963960" y="4419720"/>
            <a:ext cx="12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t off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66200" y="5105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 set off five minutes ago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166760" y="5715000"/>
            <a:ext cx="69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н отправился пять минут тому назад.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ntro.mid" descr=""/>
          <p:cNvPicPr/>
          <p:nvPr/>
        </p:nvPicPr>
        <p:blipFill>
          <a:blip r:embed="rId1"/>
          <a:stretch/>
        </p:blipFill>
        <p:spPr>
          <a:xfrm>
            <a:off x="-685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D:\5005\spe-1.jpg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7" name="WordArt 2"/>
          <p:cNvSpPr txBox="1"/>
          <p:nvPr/>
        </p:nvSpPr>
        <p:spPr>
          <a:xfrm>
            <a:off x="2071800" y="2514600"/>
            <a:ext cx="515304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rasal Verbs</a:t>
            </a:r>
            <a:endParaRPr b="0" lang="en-US" sz="72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">
    <p:split dir="in" orient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343240" y="2971800"/>
            <a:ext cx="4457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Reflection</a:t>
            </a:r>
            <a:endParaRPr b="0" lang="en-US" sz="7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57560" y="1219320"/>
            <a:ext cx="31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take up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3400" y="4572000"/>
            <a:ext cx="632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raining for basketball  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kes up most of his free time.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8520" y="2933640"/>
            <a:ext cx="85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Тренировки по баскетболу занимают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ольшую часть его свободного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059720" y="1219320"/>
            <a:ext cx="46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require time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27" name="спит.mid" descr=""/>
          <p:cNvPicPr/>
          <p:nvPr/>
        </p:nvPicPr>
        <p:blipFill>
          <a:blip r:embed="rId1"/>
          <a:stretch/>
        </p:blipFill>
        <p:spPr>
          <a:xfrm>
            <a:off x="-838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11280" y="1066680"/>
            <a:ext cx="25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get by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360" y="4368960"/>
            <a:ext cx="91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She doesn’t earn enough, but she gets b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320" y="3200400"/>
            <a:ext cx="910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33cc"/>
                </a:solidFill>
                <a:latin typeface="Times New Roman"/>
              </a:rPr>
              <a:t>Она не зарабатывает много денег, но обходится.</a:t>
            </a:r>
            <a:endParaRPr b="0" lang="en-US" sz="3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192200" y="609480"/>
            <a:ext cx="483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ve enough money 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buy the things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ou need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2" name="девочка с сумками.mid" descr=""/>
          <p:cNvPicPr/>
          <p:nvPr/>
        </p:nvPicPr>
        <p:blipFill>
          <a:blip r:embed="rId1"/>
          <a:stretch/>
        </p:blipFill>
        <p:spPr>
          <a:xfrm>
            <a:off x="-1143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992160" y="106668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put off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36520" y="4648320"/>
            <a:ext cx="86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You can’t put off  going to the dentist forever-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you'll  have to go soon.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-47520" y="2986200"/>
            <a:ext cx="92379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Times New Roman"/>
              </a:rPr>
              <a:t>Ты не можешь все время откладывать визит к зубному</a:t>
            </a:r>
            <a:r>
              <a:rPr b="0" lang="ru-RU" sz="31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1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cc"/>
                </a:solidFill>
                <a:latin typeface="Times New Roman"/>
              </a:rPr>
              <a:t>тебе придется скоро идти.</a:t>
            </a:r>
            <a:endParaRPr b="0" lang="en-US" sz="31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955040" y="9907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postpone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91960" y="114300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ahoma"/>
              </a:rPr>
              <a:t>take off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98080" y="4724280"/>
            <a:ext cx="677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 soon as the plain takes off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’ll start to read my book.  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2813040"/>
            <a:ext cx="68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Как только самолет взлетит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я начну читать книгу.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855240" y="838080"/>
            <a:ext cx="528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remove (clothing),</a:t>
            </a:r>
            <a:endParaRPr b="0" lang="en-US" sz="5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leave the ground</a:t>
            </a:r>
            <a:endParaRPr b="0" lang="en-US" sz="5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41" name="с рюкзаком.mid" descr=""/>
          <p:cNvPicPr/>
          <p:nvPr/>
        </p:nvPicPr>
        <p:blipFill>
          <a:blip r:embed="rId1"/>
          <a:stretch/>
        </p:blipFill>
        <p:spPr>
          <a:xfrm>
            <a:off x="-6094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5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16560" y="1066680"/>
            <a:ext cx="24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set off</a:t>
            </a: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-7560" y="4114800"/>
            <a:ext cx="92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time do we set off in the morning?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90080" y="3124080"/>
            <a:ext cx="89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Во сколько мы отправляемся утром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089960" y="1143000"/>
            <a:ext cx="505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start a journ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ransition spd="slow" advTm="24000">
    <p:blinds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362320" y="5105520"/>
            <a:ext cx="19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take back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967200" y="34290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go by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752840" y="914400"/>
            <a:ext cx="172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old on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267800" y="2057400"/>
            <a:ext cx="196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look up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183280" y="53341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ve up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019920" y="3429000"/>
            <a:ext cx="23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run out of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839880" y="365760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break down 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6934320" y="5867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put up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57200" y="586728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pull down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259600" y="9144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nock down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05280" y="3049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ake after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533520" y="1752480"/>
            <a:ext cx="14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o off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3279960" y="4191120"/>
            <a:ext cx="20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rink up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212200" y="24382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rink to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5713920" y="44197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ash down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3200040" y="30492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old up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3355200" y="152388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reak into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6475680" y="167652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reak out of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3772440" y="6019920"/>
            <a:ext cx="15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reak up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6327000" y="251460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get on with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307800" y="4572000"/>
            <a:ext cx="18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ake up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380880" y="266688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et by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4116600" y="278748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ut off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6662880" y="22860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take off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7391520" y="5334120"/>
            <a:ext cx="14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t Off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71" name="end.mid" descr=""/>
          <p:cNvPicPr/>
          <p:nvPr/>
        </p:nvPicPr>
        <p:blipFill>
          <a:blip r:embed="rId1"/>
          <a:stretch/>
        </p:blipFill>
        <p:spPr>
          <a:xfrm>
            <a:off x="-6094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zoom dir="ou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000"/>
                            </p:stCondLst>
                            <p:childTnLst>
                              <p:par>
                                <p:cTn id="48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1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70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8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55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45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60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:\5005\spe-1.jpg"/>
          <p:cNvPicPr/>
          <p:nvPr/>
        </p:nvPicPr>
        <p:blipFill>
          <a:blip r:embed="rId1"/>
          <a:stretch/>
        </p:blipFill>
        <p:spPr>
          <a:xfrm>
            <a:off x="-760320" y="-493560"/>
            <a:ext cx="10815480" cy="7997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2362680" y="2133720"/>
            <a:ext cx="2945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f Movie Gear 3.0</a:t>
            </a:r>
            <a:endParaRPr b="0" lang="en-US" sz="22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obe Photoshop 7.0</a:t>
            </a:r>
            <a:endParaRPr b="0" lang="en-US" sz="22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Dub 1.5.1</a:t>
            </a:r>
            <a:endParaRPr b="0" lang="en-US" sz="22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deo Edit Magic 2.2</a:t>
            </a:r>
            <a:endParaRPr b="0" lang="en-US" sz="22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kewalk Pro Audio 8.0</a:t>
            </a:r>
            <a:endParaRPr b="0" lang="en-US" sz="2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512080" y="53352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те использовалис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46880" y="58388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Times New Roman"/>
              </a:rPr>
              <a:t>©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2006 all rights reserved</a:t>
            </a:r>
            <a:endParaRPr b="0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535120" y="4038480"/>
            <a:ext cx="4224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“Rising Star”</a:t>
            </a:r>
            <a:endParaRPr b="0" lang="en-US" sz="21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e-First Certificate </a:t>
            </a:r>
            <a:endParaRPr b="0" lang="en-US" sz="21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680480" y="99072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ские рисунки Кулёвой Ирины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514600" y="1600200"/>
            <a:ext cx="31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ьютерные программы</a:t>
            </a:r>
            <a:endParaRPr b="0" lang="en-US" sz="2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734120" y="4890960"/>
            <a:ext cx="42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 Маршева Р. В.</a:t>
            </a:r>
            <a:endParaRPr b="0" lang="en-US" sz="2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ransition spd="slow" advTm="20000">
    <p:zoom dir="ou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357720" y="2592360"/>
            <a:ext cx="340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Times New Roman"/>
              </a:rPr>
              <a:t>Go!</a:t>
            </a:r>
            <a:endParaRPr b="0" lang="en-US" sz="12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Мои\english\2006\Gif\урок.gif"/>
          <p:cNvPicPr/>
          <p:nvPr/>
        </p:nvPicPr>
        <p:blipFill>
          <a:blip r:embed="rId1"/>
          <a:stretch/>
        </p:blipFill>
        <p:spPr>
          <a:xfrm>
            <a:off x="-380880" y="222120"/>
            <a:ext cx="8910360" cy="6635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967200" y="34290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go by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24000" y="41148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me goes by slowly at the lesson.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66880" y="495288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ремя проходит медленно на этом уроке.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53" name="1.mid" descr=""/>
          <p:cNvPicPr/>
          <p:nvPr/>
        </p:nvPicPr>
        <p:blipFill>
          <a:blip r:embed="rId2"/>
          <a:stretch/>
        </p:blipFill>
        <p:spPr>
          <a:xfrm>
            <a:off x="-1371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split dir="out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Мои\english\2006\Gif\беседуют и спит.gif"/>
          <p:cNvPicPr/>
          <p:nvPr/>
        </p:nvPicPr>
        <p:blipFill>
          <a:blip r:embed="rId1"/>
          <a:stretch/>
        </p:blipFill>
        <p:spPr>
          <a:xfrm>
            <a:off x="490680" y="560520"/>
            <a:ext cx="8161200" cy="5736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813320" y="1139760"/>
            <a:ext cx="172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old on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25960" y="5156280"/>
            <a:ext cx="66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ld on, please. My boss is busy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63480" y="5734080"/>
            <a:ext cx="84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одождите, пожалуйста. Мой начальник занят.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ransition spd="med" advTm="24000"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Мои\english\2006\Gif\библиотека и грузовик.gif"/>
          <p:cNvPicPr/>
          <p:nvPr/>
        </p:nvPicPr>
        <p:blipFill>
          <a:blip r:embed="rId1"/>
          <a:stretch/>
        </p:blipFill>
        <p:spPr>
          <a:xfrm>
            <a:off x="1417680" y="0"/>
            <a:ext cx="7726320" cy="5726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647800" y="4648320"/>
            <a:ext cx="19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take back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27040" y="541008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 wants to take these books back to the library.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3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49960" y="5867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н хочет вернуть эти книги в библиотеку.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63" name="2.mid" descr=""/>
          <p:cNvPicPr/>
          <p:nvPr/>
        </p:nvPicPr>
        <p:blipFill>
          <a:blip r:embed="rId2"/>
          <a:stretch/>
        </p:blipFill>
        <p:spPr>
          <a:xfrm>
            <a:off x="-990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checker dir="vert"/>
    <p:sndAc>
      <p:stSnd>
        <p:snd r:embed="rId3" name="carbrake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" presetSubtype="1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Мои\english\2006\Gif\рвет словарь.gif"/>
          <p:cNvPicPr/>
          <p:nvPr/>
        </p:nvPicPr>
        <p:blipFill>
          <a:blip r:embed="rId1"/>
          <a:stretch/>
        </p:blipFill>
        <p:spPr>
          <a:xfrm>
            <a:off x="-457200" y="-573120"/>
            <a:ext cx="11201400" cy="8004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4267800" y="3048120"/>
            <a:ext cx="196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look up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7080" y="4191120"/>
            <a:ext cx="88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 doesn’t like to look up new words in a dictionary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706680" y="4876920"/>
            <a:ext cx="77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н не любит искать новые слова в словаре.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ransition spd="med" advTm="24000">
    <p:pull dir="r"/>
    <p:sndAc>
      <p:stSnd>
        <p:snd r:embed="rId2" name="laser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Мои\english\2006\Gif\давит сигареты.gif"/>
          <p:cNvPicPr/>
          <p:nvPr/>
        </p:nvPicPr>
        <p:blipFill>
          <a:blip r:embed="rId1"/>
          <a:stretch/>
        </p:blipFill>
        <p:spPr>
          <a:xfrm>
            <a:off x="-252360" y="0"/>
            <a:ext cx="9648720" cy="5391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5183280" y="472428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ve up</a:t>
            </a:r>
            <a:endParaRPr b="0" lang="en-US" sz="36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193840" y="5334120"/>
            <a:ext cx="51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 has given up smocking.</a:t>
            </a:r>
            <a:endParaRPr b="0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569120" y="5867280"/>
            <a:ext cx="33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н бросил кур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ransition spd="med" advTm="24000">
    <p:strips dir="ru"/>
    <p:sndAc>
      <p:stSnd>
        <p:snd r:embed="rId2" name="laser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2343240" y="2971800"/>
            <a:ext cx="4457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Reflection</a:t>
            </a:r>
            <a:endParaRPr b="0" lang="en-US" sz="7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2:16:24Z</dcterms:created>
  <dc:creator>Маршев Алексей</dc:creator>
  <dc:description/>
  <dc:language>en-US</dc:language>
  <cp:lastModifiedBy>Marshev Alexey</cp:lastModifiedBy>
  <dcterms:modified xsi:type="dcterms:W3CDTF">2012-03-02T11:11:30Z</dcterms:modified>
  <cp:revision>92</cp:revision>
  <dc:subject/>
  <dc:title>Презентация PowerPoint</dc:title>
</cp:coreProperties>
</file>