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095E-13CB-4E9A-B434-12B66BB6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19F6-59F3-47BB-9491-AD959880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0272-D2C9-440F-ACAB-51E617E7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3A6A-BFE5-4FA5-93A4-6E705FF5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3B72-3E14-4BFF-B266-D949AC29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B4C-AAAD-41D9-9229-CFB8097A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945B-02AC-46AB-B1F8-C79F54AF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8009-134D-459D-A3EF-02035EEB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A1FF-DFA9-43B7-97C1-22143225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2020-2770-4130-A0C9-F9A65E8E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3428-3274-4842-ABEA-1918623F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521A-D066-45E1-A0F1-E32483ED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FDA7-7DA9-4940-A69E-79E360BBE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6360" y="2018880"/>
            <a:ext cx="69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Arial"/>
              </a:rPr>
              <a:t>Тема урока: «Коробк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21163200">
            <a:off x="536400" y="514080"/>
            <a:ext cx="4824720" cy="5364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148360" y="333360"/>
            <a:ext cx="3522600" cy="293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508720" y="364500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698328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47640" y="333360"/>
            <a:ext cx="0" cy="90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403280" y="544464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373720"/>
            <a:ext cx="11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84280"/>
            <a:ext cx="14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96360" y="0"/>
            <a:ext cx="0" cy="13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7740720" y="5229360"/>
            <a:ext cx="0" cy="162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884720" y="1268280"/>
            <a:ext cx="12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956720" y="515772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24000" y="141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5640" y="1341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636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2360" y="537372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5373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56360" y="5229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67640" y="17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740720" y="342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47640" y="227664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47640" y="4005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48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558720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 rot="10800000">
            <a:off x="7885080" y="5090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28000" y="53316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47640" y="333360"/>
            <a:ext cx="0" cy="90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403280" y="544464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373720"/>
            <a:ext cx="11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484280"/>
            <a:ext cx="14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96360" y="0"/>
            <a:ext cx="0" cy="13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7740720" y="5229360"/>
            <a:ext cx="0" cy="162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884720" y="1268280"/>
            <a:ext cx="12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956720" y="515772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141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95640" y="1341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537372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64000" y="5373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5229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67640" y="17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40720" y="342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227664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47640" y="4005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548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558720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 rot="10800000">
            <a:off x="7885080" y="5090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28000" y="53316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rot="18788400">
            <a:off x="3708000" y="2491920"/>
            <a:ext cx="1873440" cy="1873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>
            <a:off x="7596000" y="1197000"/>
            <a:ext cx="15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7812000" y="5084640"/>
            <a:ext cx="1332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0" y="5300640"/>
            <a:ext cx="1403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0" y="1341360"/>
            <a:ext cx="1403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284720" y="149400"/>
            <a:ext cx="4680000" cy="3493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4740000">
            <a:off x="3963600" y="3605400"/>
            <a:ext cx="2736720" cy="2816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79280" y="476280"/>
            <a:ext cx="4032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9752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8:14:31Z</dcterms:created>
  <dc:creator>Фаина</dc:creator>
  <dc:description/>
  <dc:language>en-US</dc:language>
  <cp:lastModifiedBy>Фаина</cp:lastModifiedBy>
  <dcterms:modified xsi:type="dcterms:W3CDTF">2012-01-29T18:40:16Z</dcterms:modified>
  <cp:revision>2</cp:revision>
  <dc:subject/>
  <dc:title>Слайд 1</dc:title>
</cp:coreProperties>
</file>