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36FC-A7FC-42AB-A21B-66B8A5C1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FC80-598C-4352-AF57-BDBAFD80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C907-C74F-4033-8D61-899A38920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0CBB-FAA5-49E2-894F-8E70BA319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4E12-A890-471A-85A7-B415BCB5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10DD-F2F1-406D-82BA-A094465A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7076-39BA-478B-BAC9-EFA1A0EF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E9BE-8021-4B83-86A7-40F5037E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AE92-EB7B-473F-AD47-EA718637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4E60-3AB9-4B12-B4F6-0222D1BF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8F75-1C2E-477B-A996-8C00D36F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980E-886F-4997-98C4-AC79E5FE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F6FE-E84F-4F89-80B5-9607E703E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Винтик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Шпунтик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Пилюлькин</a:t>
            </a:r>
            <a:br>
              <a:rPr sz="7200"/>
            </a:b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Пончик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55640" y="328464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горо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3213000"/>
            <a:ext cx="503280" cy="0"/>
          </a:xfrm>
          <a:prstGeom prst="line">
            <a:avLst/>
          </a:prstGeom>
          <a:ln w="604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3213000"/>
            <a:ext cx="503280" cy="0"/>
          </a:xfrm>
          <a:prstGeom prst="line">
            <a:avLst/>
          </a:prstGeom>
          <a:ln w="604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2133720"/>
            <a:ext cx="503280" cy="0"/>
          </a:xfrm>
          <a:prstGeom prst="line">
            <a:avLst/>
          </a:prstGeom>
          <a:ln w="604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19640" y="2133720"/>
            <a:ext cx="502920" cy="0"/>
          </a:xfrm>
          <a:prstGeom prst="line">
            <a:avLst/>
          </a:prstGeom>
          <a:ln w="604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2133720"/>
            <a:ext cx="792360" cy="0"/>
          </a:xfrm>
          <a:prstGeom prst="line">
            <a:avLst/>
          </a:prstGeom>
          <a:ln w="604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48000" y="1052640"/>
            <a:ext cx="503280" cy="0"/>
          </a:xfrm>
          <a:prstGeom prst="line">
            <a:avLst/>
          </a:prstGeom>
          <a:ln w="604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71640" y="1052640"/>
            <a:ext cx="503280" cy="0"/>
          </a:xfrm>
          <a:prstGeom prst="line">
            <a:avLst/>
          </a:prstGeom>
          <a:ln w="604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16360" y="5373720"/>
            <a:ext cx="503280" cy="0"/>
          </a:xfrm>
          <a:prstGeom prst="line">
            <a:avLst/>
          </a:prstGeom>
          <a:ln w="604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92360" y="5373720"/>
            <a:ext cx="503280" cy="0"/>
          </a:xfrm>
          <a:prstGeom prst="line">
            <a:avLst/>
          </a:prstGeom>
          <a:ln w="604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79640" y="5373720"/>
            <a:ext cx="503280" cy="0"/>
          </a:xfrm>
          <a:prstGeom prst="line">
            <a:avLst/>
          </a:prstGeom>
          <a:ln w="604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052640"/>
            <a:ext cx="503280" cy="0"/>
          </a:xfrm>
          <a:prstGeom prst="line">
            <a:avLst/>
          </a:prstGeom>
          <a:ln w="604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56000" y="2133720"/>
            <a:ext cx="503280" cy="0"/>
          </a:xfrm>
          <a:prstGeom prst="line">
            <a:avLst/>
          </a:prstGeom>
          <a:ln w="604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3213000"/>
            <a:ext cx="503280" cy="0"/>
          </a:xfrm>
          <a:prstGeom prst="line">
            <a:avLst/>
          </a:prstGeom>
          <a:ln w="604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101080" y="907920"/>
            <a:ext cx="503280" cy="0"/>
          </a:xfrm>
          <a:prstGeom prst="line">
            <a:avLst/>
          </a:prstGeom>
          <a:ln w="604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6732720" y="0"/>
            <a:ext cx="1150920" cy="936720"/>
            <a:chOff x="6732720" y="0"/>
            <a:chExt cx="1150920" cy="936720"/>
          </a:xfrm>
        </p:grpSpPr>
        <p:sp>
          <p:nvSpPr>
            <p:cNvPr id="59" name=""/>
            <p:cNvSpPr/>
            <p:nvPr/>
          </p:nvSpPr>
          <p:spPr>
            <a:xfrm flipV="1">
              <a:off x="6732720" y="0"/>
              <a:ext cx="216000" cy="217440"/>
            </a:xfrm>
            <a:prstGeom prst="line">
              <a:avLst/>
            </a:prstGeom>
            <a:ln w="604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452000" y="936720"/>
              <a:ext cx="431640" cy="0"/>
            </a:xfrm>
            <a:prstGeom prst="line">
              <a:avLst/>
            </a:prstGeom>
            <a:ln w="604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826920" y="5373720"/>
            <a:ext cx="503280" cy="0"/>
          </a:xfrm>
          <a:prstGeom prst="line">
            <a:avLst/>
          </a:prstGeom>
          <a:ln w="604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26920" y="3213000"/>
            <a:ext cx="503280" cy="0"/>
          </a:xfrm>
          <a:prstGeom prst="line">
            <a:avLst/>
          </a:prstGeom>
          <a:ln w="604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1052640"/>
            <a:ext cx="503280" cy="0"/>
          </a:xfrm>
          <a:prstGeom prst="line">
            <a:avLst/>
          </a:prstGeom>
          <a:ln w="604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835280" y="4437000"/>
            <a:ext cx="215640" cy="21600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987640" y="2349360"/>
            <a:ext cx="216000" cy="14472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411280" y="1197000"/>
            <a:ext cx="144720" cy="28908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692360" y="189000"/>
            <a:ext cx="142920" cy="17136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403280" y="3429000"/>
            <a:ext cx="1150920" cy="936720"/>
            <a:chOff x="1403280" y="3429000"/>
            <a:chExt cx="1150920" cy="936720"/>
          </a:xfrm>
        </p:grpSpPr>
        <p:sp>
          <p:nvSpPr>
            <p:cNvPr id="69" name=""/>
            <p:cNvSpPr/>
            <p:nvPr/>
          </p:nvSpPr>
          <p:spPr>
            <a:xfrm flipV="1">
              <a:off x="1403280" y="3429000"/>
              <a:ext cx="216000" cy="217440"/>
            </a:xfrm>
            <a:prstGeom prst="line">
              <a:avLst/>
            </a:prstGeom>
            <a:ln w="604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122560" y="4365720"/>
              <a:ext cx="431640" cy="0"/>
            </a:xfrm>
            <a:prstGeom prst="line">
              <a:avLst/>
            </a:prstGeom>
            <a:ln w="604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2700360" y="4365720"/>
            <a:ext cx="503280" cy="0"/>
          </a:xfrm>
          <a:prstGeom prst="line">
            <a:avLst/>
          </a:prstGeom>
          <a:ln w="604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xit" presetID="1" repeatCount="100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" repeatCount="100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319 -0.12083 L 0.59149 -0.48565 E">
                                      <p:cBhvr>
                                        <p:cTn id="108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864216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Comic Sans MS"/>
              </a:rPr>
              <a:t>Николай Носов</a:t>
            </a:r>
            <a:br>
              <a:rPr sz="3200"/>
            </a:br>
            <a:r>
              <a:rPr b="1" lang="en-US" sz="3200" spc="-1" strike="noStrike">
                <a:solidFill>
                  <a:srgbClr val="cc6600"/>
                </a:solidFill>
                <a:latin typeface="Comic Sans MS"/>
              </a:rPr>
              <a:t>23 ноября 101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77080" y="476280"/>
            <a:ext cx="1865160" cy="2521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067280" y="2997360"/>
            <a:ext cx="1253880" cy="1800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476360" y="1341360"/>
            <a:ext cx="1393920" cy="1871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0" y="549360"/>
            <a:ext cx="1461960" cy="1800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843280" y="2205000"/>
            <a:ext cx="1255680" cy="1655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5292720" y="3716280"/>
            <a:ext cx="1355760" cy="1871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7862760" y="5129280"/>
            <a:ext cx="1281240" cy="1728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8"/>
          <a:stretch/>
        </p:blipFill>
        <p:spPr>
          <a:xfrm>
            <a:off x="6659640" y="4437000"/>
            <a:ext cx="124308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851280" y="0"/>
            <a:ext cx="5292720" cy="4218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79280" y="1773360"/>
            <a:ext cx="56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ротышками их называли потому, что они были очень маленьк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3429000"/>
            <a:ext cx="54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одном сказочном городе жили коротыш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4581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ждый был с небольшой огурец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537372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городе у коротышек было красив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084720" y="0"/>
            <a:ext cx="305928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-0.0419 L -0.00798 -0.44537 E">
                                      <p:cBhvr>
                                        <p:cTn id="150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448 0.05625 0.04896 0.1125 0.09514 0.11551 C 0.14132 0.11852 0.25156 0.0625 0.27673 0.0176 C 0.30191 -0.02731 0.27639 -0.11319 0.2467 -0.15347 C 0.21701 -0.19375 0.13455 -0.22453 0.09843 -0.22453 C 0.06232 -0.22453 0.04618 -0.18634 0.03003 -0.15347 C 0.01389 -0.1206 -0.02084 -0.05324 0.00173 -0.02685 E">
                                      <p:cBhvr>
                                        <p:cTn id="154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33333E-006 L 0.00191 -0.19768 E">
                                      <p:cBhvr>
                                        <p:cTn id="158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8565 C 0.08368 -0.06875 0.16719 -0.05185 0.21024 -0.08333 C 0.2533 -0.11481 0.26823 -0.20926 0.25851 -0.27454 C 0.24878 -0.33981 0.19653 -0.44491 0.15191 -0.47454 C 0.10729 -0.50417 0.03507 -0.47824 -0.00972 -0.45231 C -0.05451 -0.42639 -0.11806 -0.36458 -0.11649 -0.31898 C -0.11493 -0.27338 -0.01979 -0.20046 0.00017 -0.17893 E">
                                      <p:cBhvr>
                                        <p:cTn id="162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9280" y="2276640"/>
            <a:ext cx="871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В особенности Незнайка прославился после одной истори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2280" y="475920"/>
            <a:ext cx="862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8000"/>
                </a:solidFill>
                <a:latin typeface="Arial"/>
              </a:rPr>
              <a:t>Может ли это предлож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i="1" lang="en-US" sz="4800" spc="-1" strike="noStrike">
                <a:solidFill>
                  <a:srgbClr val="008000"/>
                </a:solidFill>
                <a:latin typeface="Arial"/>
              </a:rPr>
              <a:t>быть следующим и почему?</a:t>
            </a:r>
            <a:r>
              <a:rPr b="0" i="1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826920" y="765000"/>
            <a:ext cx="734544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 если од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едложения мало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Arial"/>
              </a:rPr>
              <a:t>Т е к с 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7120" y="1833480"/>
            <a:ext cx="74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есколько предлож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2924280"/>
            <a:ext cx="78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В них говорится об одном и                             том ж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4653000"/>
            <a:ext cx="77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Раскрывается общая мысл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3:01:28Z</dcterms:created>
  <dc:creator>Ирина</dc:creator>
  <dc:description/>
  <dc:language>en-US</dc:language>
  <cp:lastModifiedBy>Ирина</cp:lastModifiedBy>
  <dcterms:modified xsi:type="dcterms:W3CDTF">2012-03-04T19:58:54Z</dcterms:modified>
  <cp:revision>84</cp:revision>
  <dc:subject/>
  <dc:title>Винтик Шпунтик Пилюлькин  Пончик </dc:title>
</cp:coreProperties>
</file>