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10B-02F1-4F4B-8893-AEB2DE11FD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2F50-D1E8-48A4-8B63-E6E90C40E8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26EB-21F1-467C-9F7B-0208B59050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95C-BF7D-4C99-A7B6-0C69EBF3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515-2EE0-42FE-B48F-C27985EF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663-D415-4470-A75E-DF60F770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EE7-4BB2-4DE2-B82D-7013B4C9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9EBF1-C6B0-4BC2-9551-B0D096C7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BE0FD-A3B3-464F-B9BD-7C0FDA09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A765F-4751-42A7-8631-F868FDAC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DD93E-918F-43F0-AA98-D4DBB40E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6E790-CC8F-4C26-BE7E-B9DE361F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93C9A-1DD3-4A6D-99F8-42F1F444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D51EA-A0C9-477A-848E-8CF3EF8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E78-FEF4-4929-A658-55471EB5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FEBAB-4FAF-4748-A893-8EA5896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9D21D-5EF9-4A0D-BCE7-5600A2FD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A3C9-FF25-4D35-97EE-B454C43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FE929-3867-43CC-9694-069CB6F6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42FCD-A5AE-40C1-9960-8A228814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6614-E3EE-455E-A988-CF702B1F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72C9-C7A4-458A-B53B-B0EB8B78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37AD-F4BA-4867-B85A-7EF3A52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BD23-8C48-4F93-A7E3-4021D836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A73A-3A1E-4FCA-AAA1-B2FCFBF8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CF3-9942-4021-9438-2169ECF5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E67E-8701-4BDC-9FD4-8C038C2C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F0E4-CA51-45F5-B481-C35E33C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2748-5107-417D-BDF0-CA04551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C159-9339-4448-8CBC-3CF51B3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BCA1-57F0-4E79-830A-44E5D4E1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0342-A502-43E7-8F6E-9941CFC9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07E8-6492-41F5-AD3D-BBEC90AD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F248D-ABA3-4EAD-8954-D642F197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FC517-B4B0-4444-B051-A26E638F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51290-978A-4F19-B71D-0AB99559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792-D326-48AB-A0D3-D31C9A06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29DD4-5292-459F-9CD6-13571D60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4FFA0-E41B-4FE7-A10E-F71D2A4A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230215-087B-46F2-A319-31CCCBE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19EC7-D740-4D25-84C8-31FF0CBC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AF76F-5A5E-49C4-934D-4367CA7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55421-7D18-48F7-A60A-B455B3E0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CDB04-B315-4866-9FE0-C41FF59F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4FE4B-675F-42B1-B689-452D96EB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D2701-C70D-44ED-A0E6-0BE87208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802-DC57-4087-B05A-514C1D2A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0DB-6C0D-425C-AEE8-3DF0685F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CA2-BCB7-475D-ADE8-8F9FBA5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3C7-599D-48C2-9CA9-21F79574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0B5-C7B0-47F6-9B95-7083ED90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F55C-8F1E-434F-AA31-133B42884C9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E23-CB1B-402B-9693-64FC0E44A07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75F-6D6A-413C-BC36-0C03EBB6B2E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40C9-53E4-4B69-AB28-BE3995C7BF4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28920"/>
            <a:ext cx="832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8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3" descr=""/>
          <p:cNvPicPr/>
          <p:nvPr/>
        </p:nvPicPr>
        <p:blipFill>
          <a:blip r:embed="rId1"/>
          <a:stretch/>
        </p:blipFill>
        <p:spPr>
          <a:xfrm>
            <a:off x="-189000" y="133200"/>
            <a:ext cx="7375680" cy="1293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365px-JP_Getty,1944"/>
          <p:cNvPicPr/>
          <p:nvPr/>
        </p:nvPicPr>
        <p:blipFill>
          <a:blip r:embed="rId2"/>
          <a:stretch/>
        </p:blipFill>
        <p:spPr>
          <a:xfrm>
            <a:off x="714240" y="1714680"/>
            <a:ext cx="3476880" cy="472428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ый прямоугольник 5"/>
          <p:cNvSpPr/>
          <p:nvPr/>
        </p:nvSpPr>
        <p:spPr>
          <a:xfrm>
            <a:off x="4929120" y="1357200"/>
            <a:ext cx="3929040" cy="5286600"/>
          </a:xfrm>
          <a:custGeom>
            <a:avLst/>
            <a:gdLst>
              <a:gd name="textAreaLeft" fmla="*/ 191520 w 3929040"/>
              <a:gd name="textAreaRight" fmla="*/ 3737520 w 3929040"/>
              <a:gd name="textAreaTop" fmla="*/ 191520 h 5286600"/>
              <a:gd name="textAreaBottom" fmla="*/ 5095080 h 5286600"/>
            </a:gdLst>
            <a:ahLst/>
            <a:rect l="textAreaLeft" t="textAreaTop" r="textAreaRight" b="textAreaBottom"/>
            <a:pathLst>
              <a:path w="21600" h="29063">
                <a:moveTo>
                  <a:pt x="3600" y="0"/>
                </a:moveTo>
                <a:arcTo wR="3600" hR="3600" stAng="16200000" swAng="-5400000"/>
                <a:lnTo>
                  <a:pt x="0" y="25463"/>
                </a:lnTo>
                <a:arcTo wR="3600" hR="3600" stAng="10800000" swAng="-5400000"/>
                <a:lnTo>
                  <a:pt x="18000" y="29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ole has two  telephone lines in his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tton palace. One of these two lines is intended for Getty, other line — for visitors, but wishing it should use to throw in the device a coi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ne of its biographers assert that he was married five times, others — seven. His divorces were silent, haven't been surrounded by any scandalous details because all former wives of the billionaire received "severance pay" accepted in these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downey"/>
          <p:cNvPicPr/>
          <p:nvPr/>
        </p:nvPicPr>
        <p:blipFill>
          <a:blip r:embed="rId1"/>
          <a:stretch/>
        </p:blipFill>
        <p:spPr>
          <a:xfrm>
            <a:off x="428760" y="1571760"/>
            <a:ext cx="5761080" cy="4679640"/>
          </a:xfrm>
          <a:prstGeom prst="rect">
            <a:avLst/>
          </a:prstGeom>
          <a:ln w="0">
            <a:noFill/>
          </a:ln>
        </p:spPr>
      </p:pic>
      <p:pic>
        <p:nvPicPr>
          <p:cNvPr id="183" name="Rectangle 5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84" name="Скругленный прямоугольник 5"/>
          <p:cNvSpPr/>
          <p:nvPr/>
        </p:nvSpPr>
        <p:spPr>
          <a:xfrm>
            <a:off x="6786720" y="1571760"/>
            <a:ext cx="2357280" cy="478620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4786200"/>
              <a:gd name="textAreaBottom" fmla="*/ 4671360 h 4786200"/>
            </a:gdLst>
            <a:ahLst/>
            <a:rect l="textAreaLeft" t="textAreaTop" r="textAreaRight" b="textAreaBottom"/>
            <a:pathLst>
              <a:path w="21600" h="43853">
                <a:moveTo>
                  <a:pt x="3600" y="0"/>
                </a:moveTo>
                <a:arcTo wR="3600" hR="3600" stAng="16200000" swAng="-5400000"/>
                <a:lnTo>
                  <a:pt x="0" y="40253"/>
                </a:lnTo>
                <a:arcTo wR="3600" hR="3600" stAng="10800000" swAng="-5400000"/>
                <a:lnTo>
                  <a:pt x="18000" y="43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y 1996 the actor has started to slide on inclined that has negatively affected career. Having recovered from a drug addiction, Dauni has acted in film in such blockbusters, as "Man of iron", "Sherlock Holmes", "Soloist" and «Soldiers of failure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175303028"/>
          <p:cNvPicPr/>
          <p:nvPr/>
        </p:nvPicPr>
        <p:blipFill>
          <a:blip r:embed="rId1"/>
          <a:stretch/>
        </p:blipFill>
        <p:spPr>
          <a:xfrm>
            <a:off x="4572000" y="2643120"/>
            <a:ext cx="3743280" cy="331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181831110_oqq514241"/>
          <p:cNvPicPr/>
          <p:nvPr/>
        </p:nvPicPr>
        <p:blipFill>
          <a:blip r:embed="rId2"/>
          <a:stretch/>
        </p:blipFill>
        <p:spPr>
          <a:xfrm>
            <a:off x="971640" y="2637000"/>
            <a:ext cx="353376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7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291520" cy="860400"/>
          </a:xfrm>
          <a:prstGeom prst="rect">
            <a:avLst/>
          </a:prstGeom>
          <a:ln w="0">
            <a:noFill/>
          </a:ln>
        </p:spPr>
      </p:pic>
      <p:sp>
        <p:nvSpPr>
          <p:cNvPr id="188" name="Скругленный прямоугольник 7"/>
          <p:cNvSpPr/>
          <p:nvPr/>
        </p:nvSpPr>
        <p:spPr>
          <a:xfrm>
            <a:off x="714240" y="1071720"/>
            <a:ext cx="8143920" cy="1714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Very few people knows that the well-known actor of Hollywood, and in combination the governor of California Arnold Schwarzenegger collects stiffened in metal and a stone of the image of Russian leaders. Recently has ordered to the Russian sculptor Alexander Chernoshchekovu a bust of the prime minister of Russia Vladimir Putin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ml_tarantino"/>
          <p:cNvPicPr/>
          <p:nvPr/>
        </p:nvPicPr>
        <p:blipFill>
          <a:blip r:embed="rId2"/>
          <a:stretch/>
        </p:blipFill>
        <p:spPr>
          <a:xfrm>
            <a:off x="539640" y="1916280"/>
            <a:ext cx="4465800" cy="4681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38894"/>
          <p:cNvPicPr/>
          <p:nvPr/>
        </p:nvPicPr>
        <p:blipFill>
          <a:blip r:embed="rId3"/>
          <a:stretch/>
        </p:blipFill>
        <p:spPr>
          <a:xfrm>
            <a:off x="4427640" y="20606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8f72431b81"/>
          <p:cNvPicPr/>
          <p:nvPr/>
        </p:nvPicPr>
        <p:blipFill>
          <a:blip r:embed="rId4"/>
          <a:stretch/>
        </p:blipFill>
        <p:spPr>
          <a:xfrm>
            <a:off x="4932360" y="3645000"/>
            <a:ext cx="1512720" cy="187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790997_459632"/>
          <p:cNvPicPr/>
          <p:nvPr/>
        </p:nvPicPr>
        <p:blipFill>
          <a:blip r:embed="rId5"/>
          <a:stretch/>
        </p:blipFill>
        <p:spPr>
          <a:xfrm>
            <a:off x="4788000" y="5013360"/>
            <a:ext cx="1295280" cy="15112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8"/>
          <p:cNvSpPr/>
          <p:nvPr/>
        </p:nvSpPr>
        <p:spPr>
          <a:xfrm>
            <a:off x="6381720" y="2558880"/>
            <a:ext cx="27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 Quentin Tarantino collects old board games and boxes for breakf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47:52Z</dcterms:created>
  <dc:creator>COMP</dc:creator>
  <dc:description/>
  <dc:language>en-US</dc:language>
  <cp:lastModifiedBy>met</cp:lastModifiedBy>
  <dcterms:modified xsi:type="dcterms:W3CDTF">2012-03-04T10:34:44Z</dcterms:modified>
  <cp:revision>4</cp:revision>
  <dc:subject/>
  <dc:title>Weakness of great people</dc:title>
</cp:coreProperties>
</file>