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207-1D1F-4FEE-84BC-A3344273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550-7DB6-4D92-A318-27629515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6E4-F8BE-459A-8B9B-2B0D767F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65C-81FC-40A0-8EEB-25CBE0F4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434-30AA-41EB-9669-BF8CAB5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F55-D835-4B7E-BCD7-4D97AD75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761-8395-48A2-A85C-E337C2B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C41-D247-486D-9711-AB06517E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995-2FBB-4735-B3DE-1F441DAD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1E5-1A64-487D-B279-DFE5021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578-4240-4BF1-8938-EF37C96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458-4076-4AE2-8526-8AB2B22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8A4-8A87-4462-B48C-340310D03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9144000" cy="60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городе у коротышек было краси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круг  каждого дома росли цветы: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,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Там даже улицы назывались именами цветов: улица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п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,  аллея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ььбюююю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А сам город назывался                   горо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7057080" y="490464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2591280" y="432828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3815280" y="483300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2448360" y="317736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3994920" y="3285360"/>
            <a:ext cx="28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2122920" y="602208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8242920" y="4942440"/>
            <a:ext cx="28908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0" y="256536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,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56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гарит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7440" y="25653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р,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5080" y="256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ма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17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о,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240" y="30686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ван  ч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4221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к,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4520" y="42210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локол ч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4724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р,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7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маше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5440" y="47242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в,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4724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сил 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10520" y="530064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ц,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3880" y="530064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точ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8360" y="25653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7800" y="2565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720" y="30686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068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ванч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6160" y="4221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4520" y="422100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локольч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7080" y="472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1080" y="472428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л 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8160" y="4724280"/>
            <a:ext cx="21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ль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2720" y="4724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4160" y="472428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силь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2160" y="5300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2320" y="33336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очный гор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Т е к с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7120" y="1833480"/>
            <a:ext cx="74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сколько предло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924280"/>
            <a:ext cx="78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 них говорится об одном и                             том 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65300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Раскрывается общая мыс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522520" cy="235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2998800" cy="299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2531880" cy="329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5400000">
            <a:off x="6192360" y="4687560"/>
            <a:ext cx="158256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3670920" y="2888280"/>
            <a:ext cx="158580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862200" y="1016640"/>
            <a:ext cx="165744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68800">
            <a:off x="250560" y="2133360"/>
            <a:ext cx="1431720" cy="165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9488000">
            <a:off x="7740720" y="404280"/>
            <a:ext cx="704880" cy="1605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1945800">
            <a:off x="1763280" y="404280"/>
            <a:ext cx="142884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932360" y="765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524720" y="5013360"/>
            <a:ext cx="1095480" cy="123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708360" y="5300640"/>
            <a:ext cx="194328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258920" y="2637000"/>
            <a:ext cx="705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01:28Z</dcterms:created>
  <dc:creator>Ирина</dc:creator>
  <dc:description/>
  <dc:language>en-US</dc:language>
  <cp:lastModifiedBy>Ирина</cp:lastModifiedBy>
  <dcterms:modified xsi:type="dcterms:W3CDTF">2012-03-04T19:56:39Z</dcterms:modified>
  <cp:revision>83</cp:revision>
  <dc:subject/>
  <dc:title>Винтик Шпунтик Пилюлькин  Пончик </dc:title>
</cp:coreProperties>
</file>