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0E3-CCAC-4FA5-BCF8-CD447DEA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A147-AB8D-43C0-8340-A95A7C27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14FEF-8894-4656-85E0-24D71781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4EDBF-63C6-40B4-81F6-2945912A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9E4F1-58B8-4F39-AC16-43C34F57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672D4-7B3D-47B1-8BFD-474425B0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B6CA3-EEA1-4B66-B79E-3B90A02C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C4A2D-5D20-486B-844A-CB55F6B0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F42A8-311B-4BFD-A678-5DDF08DA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9839C-A733-471A-BCFC-A69A5BED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A48D6-DFCC-462E-B0BE-8A987912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5965D-D684-49EA-B84B-50A29532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120A-68EB-4971-A5B1-5554DA2C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C823E-2EB9-41C4-91DC-FE002888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E1CD3-C7B5-4D15-ACE8-3A4B7AA3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0D31B-9485-4F98-80CE-C065C5FC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27F88-04EC-47AA-A97A-37DB9DC6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DC250-4057-425A-8DA0-905DA61B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69AD2-D878-483D-BBE6-3EA5BC4E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669A1-980E-4F38-85F6-004CC316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EB790-3A28-4548-A3C0-EA583713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75028-88F7-4306-A57B-61A86AF6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532A2-6962-4FFE-BBA7-792C156F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7B3-C61F-4952-A6A0-7D134902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96670-4F5B-49B9-A0A5-FDE755DD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2E4C9-E29D-4798-9A39-A40F4C8E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5D3AA-AE32-45DC-82CB-AB74530C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F372F-DC21-4BA7-8384-F0DF324B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697C7-DCE1-43FE-9FF9-5455980A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41467-AACE-4F5C-AE60-136DB613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EC6F9-C2E3-4440-9537-73B0A3DE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77E2E-292A-4AF4-8EB5-9D36391F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FDD03-A463-4196-99AB-413A5069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3A26A-5CD4-4A3A-AE4A-ABCBD4B4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4899-C393-4B75-B703-DB8B7F65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1DFB0-FF58-433B-B9E1-C803F21A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64E58-8B8C-4459-A394-64A41E40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C46B7-4DFE-4CCB-A853-885FBD09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0B88D-8295-4C01-93EE-A10383DF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750F9-1FD7-4FE7-9DBC-9A638E87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BD627-6BB8-4326-A834-9FA63DF1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D685F-7E00-4776-A3A0-11953028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24710-CCBE-4D04-86AE-8AE222A4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032A6-1FBE-485C-8C02-CB5819F9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296BE-1396-4488-A913-DA06D0FE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EF87-E761-42B0-945C-D0197504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C9BF2-FD7E-4B46-8BC5-36F6B4C7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DAA8D-15F0-4707-A263-5914B37D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7EAC2-AA47-4DFC-B28B-BA46FF45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403A9-9A5A-4721-AA55-EAB31BE8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5A774-5E94-40AE-AB49-CA878C6C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48F6-00E6-47B4-8FC4-DBDCE7D4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7FC2-D526-4C54-BD6A-26BE8DB9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15A4-7D74-4412-BEBD-29AD9966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9080-2109-4850-9D35-A923E265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05A4-28A4-4336-BE3D-9DEB7364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577-E117-4061-99FC-279726CF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CEA1-BF6F-4C96-A527-D6FEA53F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F6E2-CD17-4F3C-B0CA-8307E0FB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1F5F-C603-4D2F-BF59-AB48888B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246C-B8E5-4F77-A658-D6484372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EE34-2774-44C7-884C-0E03CFE8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61DD0-7E72-4248-B430-C58FF07D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49059-A132-4593-B88C-7281F463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FB1DE-18C8-4864-BBFA-C181A3B8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4F807-0B30-4BEB-B45D-0AC8E35E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6E1C4-970B-4721-9131-026E3B13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BA78-E59C-4E57-9AF4-34FC2AFF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90FC7-6EA4-4096-949E-9169139D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5497F-6AA0-4CFE-8228-4C817CD7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58563-63C0-4B4B-89E3-80DEE124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355CF-6B92-4345-941B-E29AC1F1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FF77F-F007-44EF-ADC8-990CC335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25B71-8016-48FE-949F-8CE68A33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20067-C35B-4FC9-B733-F7767231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836F3-9FC0-419D-A9CD-B530BBCC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A0315-C1F5-4EC6-8C49-76DA2F4C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96A4C-D413-4270-AD7B-46D1FB95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2503-6C36-42E0-88C3-EFD573E2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8BB51-5C97-46D0-ACA7-FF1F2D36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9E415-D032-434D-B313-4F5BC5E4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B4B03-14FE-4E6E-8ED8-80233B64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00DAD-FE19-4D99-8B32-4CBFFD8F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E83FE-D66B-4A4E-9F79-27D3A6E6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35904-A70D-4D45-9020-B5D2687A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277C3-3892-4F72-A762-BF00CCD7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A2ECB-B637-43ED-92D0-95B92A1A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01F18-BED0-4063-AC9F-806EBE5A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38F0F-3AAF-4772-A5D4-353FE73E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12BB-C8C4-42B5-A498-61CB65F8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A309B-FD3D-4009-8ED4-F04A66A6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134A0-6106-4BCB-9C24-5B9ED2ED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F15CF-BF62-4636-8858-E21AD4FC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18BBF-AE12-474A-8418-6DB7B5F9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FAE0A-FA8F-4187-A4CC-C7DD564D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5A86C-9737-42CB-94C9-382525CE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DB8B1-CF63-48D1-A0D9-06544D89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97C4C-8A97-49DE-B92F-447A06D0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81104-7C80-4E99-9757-C0E69009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2A2E4-81B1-489F-8868-7736FF0E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E4D-7E4F-454B-8FD2-274B8D98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2D53B-4AC2-48CA-B6DB-C84A17C3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0A6D4-C429-410A-814A-75D2A252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331F4-3AC9-461A-85B1-647B6A1F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353E7-2026-4876-AEF7-8D84BBF0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5C6B1-F086-4C42-A5E0-1E626DC8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ED951-DCD2-464F-889F-131307F6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DA428-5CBB-46EF-AAE1-3E23943F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E101C-3559-4DA0-9363-B900A375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52858-7C63-4F0A-961F-C60BC4B6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AA3BD-684F-492B-AAD5-ACD348A0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F8E-05CF-493C-92AC-5FDD6868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D0B6A-2C1A-4938-8ED8-BE78D9A0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B8449-8864-4C5A-A55D-C24E0CB1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C4062-8DC1-4CD7-AA94-3D615379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162A2-5B60-49C8-B512-7696C250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3D688-36A7-4DB5-8426-2B6A637F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754D4-1B0E-4E99-9F97-2C11521C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3F91C-6AC2-4446-AF48-E85C18C7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3CE6F-11B0-47CA-BFBE-F067C888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0B197-B3B2-4B3F-94A0-714AD913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75AD2-9E8B-4966-8047-E2622C42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3A06-6B8D-40A4-9626-447F028E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D3589-AE00-4622-B855-8F82D60A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C5349-EF5F-42DB-A5AE-1D52AD3E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A3759-F4F1-4999-91AF-E2FDE014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69AE0-0A7F-4B98-B14D-02B94DC1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9115F-BB9F-42F7-B59D-39882A69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B4492-C7B6-4019-8789-730287C8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891E3-A44A-4E2C-8E21-3D6DC688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B6A50-13DE-4CB4-9625-8237B198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F34A3-2457-458D-89E9-61D10009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F6505-DDCF-471B-B4D4-D56DBC7F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BEA-DC16-4D7D-BC9C-E966A144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34647-7450-4B35-A079-AF5E3804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6EFAB-C65F-47EF-B389-4B6E0E15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88A44-6062-4860-8A7B-CA2E9A38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1199D-27C7-4825-B7D9-9CFDD2C2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6DCDF-FE3F-41FE-93C5-F162999D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7859B-6061-4DF6-B764-6C3AB9F2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B18E4-85E3-45BA-B92E-882B3B4A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C9951-19FB-4C24-97D4-2BA1BF93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EC992-4AE5-449E-B255-6A59A9B5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4D0D6-3584-4674-BABD-F255E424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F61C-C769-4AE2-9C79-3306D076BC01}" type="slidenum"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9E4A-3FC8-4A3C-A5B9-2BCD4A96C007}" type="slidenum"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0121-9571-4F34-B3C4-C28F31FE05B0}" type="slidenum"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B557-F91B-4A3C-A35A-00D974FC95C1}" type="slidenum"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4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2259-BF5E-4FBB-BF12-46BF7EA3B418}" type="slidenum">
              <a:rPr b="0" lang="ru-RU" sz="1200" spc="-1" strike="noStrike">
                <a:solidFill>
                  <a:srgbClr val="d4d4d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2001-8F45-4198-B7B3-0E414617989A}" type="slidenum"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4d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6228-C729-40AD-85A5-A1C6BDA41C7A}" type="slidenum">
              <a:rPr b="0" lang="ru-RU" sz="1200" spc="-1" strike="noStrike">
                <a:solidFill>
                  <a:srgbClr val="d4d4d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60A2-2484-496B-915A-388755DA429E}" type="slidenum"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6F22-9527-4D21-BE98-C7280609B296}" type="slidenum"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AF53-F09E-4A5E-9806-2868392123DE}" type="slidenum"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B065-494E-4BFB-9DBD-7B4963BC0060}" type="slidenum"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CDE7-3F49-4E52-A6E9-7004D3D2DB12}" type="slidenum"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0" y="1071360"/>
            <a:ext cx="9144000" cy="52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Constantia"/>
              </a:rPr>
              <a:t>Что такое электрический ток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Constantia"/>
              </a:rPr>
              <a:t>Назовите физические величины характеризующие электрический ток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Constantia"/>
              </a:rPr>
              <a:t>Каким законом связаны эти величины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20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20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Заголовок 1" descr=""/>
          <p:cNvPicPr/>
          <p:nvPr/>
        </p:nvPicPr>
        <p:blipFill>
          <a:blip r:embed="rId1"/>
          <a:stretch/>
        </p:blipFill>
        <p:spPr>
          <a:xfrm>
            <a:off x="-208080" y="993600"/>
            <a:ext cx="960768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24456"/>
                </a:solidFill>
                <a:latin typeface="Calibri"/>
              </a:rPr>
              <a:t>Цели урока:</a:t>
            </a:r>
            <a:endParaRPr b="0" lang="en-US" sz="54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57120" y="214272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8080" indent="-478080">
              <a:spcBef>
                <a:spcPts val="901"/>
              </a:spcBef>
              <a:buClr>
                <a:srgbClr val="a04da3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ыяснить, что называют последовательным соединением проводников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901"/>
              </a:spcBef>
              <a:buClr>
                <a:srgbClr val="a04da3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ыяснить особенности силы тока, напряжения и сопротивления при последовательном соединени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358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 последовательном соединении</a:t>
            </a:r>
            <a:r>
              <a:rPr b="0" lang="ru-RU" sz="4500" spc="-1" strike="noStrike">
                <a:solidFill>
                  <a:srgbClr val="424456"/>
                </a:solidFill>
                <a:latin typeface="Calibri"/>
              </a:rPr>
              <a:t>: </a:t>
            </a:r>
            <a:br>
              <a:rPr sz="4500"/>
            </a:br>
            <a:r>
              <a:rPr b="0" lang="ru-RU" sz="4500" spc="-1" strike="noStrike">
                <a:solidFill>
                  <a:srgbClr val="424456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ила тока  остается неизменной</a:t>
            </a:r>
            <a:r>
              <a:rPr b="0" lang="ru-RU" sz="3600" spc="-1" strike="noStrike">
                <a:solidFill>
                  <a:srgbClr val="424456"/>
                </a:solidFill>
                <a:latin typeface="Calibri"/>
              </a:rPr>
              <a:t>, 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напряжение равно сумме напряжений на отдельных участках,</a:t>
            </a:r>
            <a:br>
              <a:rPr sz="3600"/>
            </a:b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-сопротивление равно сумме сопротивлений</a:t>
            </a:r>
            <a:r>
              <a:rPr b="0" lang="ru-RU" sz="3600" spc="-1" strike="noStrike">
                <a:solidFill>
                  <a:srgbClr val="424456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28760" y="378612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b050"/>
                </a:solidFill>
                <a:latin typeface="Constantia"/>
              </a:rPr>
              <a:t>R </a:t>
            </a:r>
            <a:r>
              <a:rPr b="1" lang="en-US" sz="5000" spc="-1" strike="noStrike" baseline="-25000">
                <a:solidFill>
                  <a:srgbClr val="00b050"/>
                </a:solidFill>
                <a:latin typeface="Constantia"/>
              </a:rPr>
              <a:t>0</a:t>
            </a:r>
            <a:r>
              <a:rPr b="1" lang="en-US" sz="5000" spc="-1" strike="noStrike">
                <a:solidFill>
                  <a:srgbClr val="00b050"/>
                </a:solidFill>
                <a:latin typeface="Constantia"/>
              </a:rPr>
              <a:t>=R </a:t>
            </a:r>
            <a:r>
              <a:rPr b="1" lang="en-US" sz="5000" spc="-1" strike="noStrike" baseline="-25000">
                <a:solidFill>
                  <a:srgbClr val="00b050"/>
                </a:solidFill>
                <a:latin typeface="Constantia"/>
              </a:rPr>
              <a:t>1</a:t>
            </a:r>
            <a:r>
              <a:rPr b="1" lang="en-US" sz="5000" spc="-1" strike="noStrike">
                <a:solidFill>
                  <a:srgbClr val="00b050"/>
                </a:solidFill>
                <a:latin typeface="Constantia"/>
              </a:rPr>
              <a:t>+R </a:t>
            </a:r>
            <a:r>
              <a:rPr b="1" lang="en-US" sz="5000" spc="-1" strike="noStrike" baseline="-25000">
                <a:solidFill>
                  <a:srgbClr val="00b050"/>
                </a:solidFill>
                <a:latin typeface="Constantia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b050"/>
                </a:solidFill>
                <a:latin typeface="Constantia"/>
              </a:rPr>
              <a:t>I </a:t>
            </a:r>
            <a:r>
              <a:rPr b="1" lang="en-US" sz="5000" spc="-1" strike="noStrike" baseline="-25000">
                <a:solidFill>
                  <a:srgbClr val="00b050"/>
                </a:solidFill>
                <a:latin typeface="Constantia"/>
              </a:rPr>
              <a:t>0</a:t>
            </a:r>
            <a:r>
              <a:rPr b="1" lang="en-US" sz="5000" spc="-1" strike="noStrike">
                <a:solidFill>
                  <a:srgbClr val="00b050"/>
                </a:solidFill>
                <a:latin typeface="Constantia"/>
              </a:rPr>
              <a:t>=I </a:t>
            </a:r>
            <a:r>
              <a:rPr b="1" lang="en-US" sz="5000" spc="-1" strike="noStrike" baseline="-25000">
                <a:solidFill>
                  <a:srgbClr val="00b050"/>
                </a:solidFill>
                <a:latin typeface="Constantia"/>
              </a:rPr>
              <a:t>1</a:t>
            </a:r>
            <a:r>
              <a:rPr b="1" lang="en-US" sz="5000" spc="-1" strike="noStrike">
                <a:solidFill>
                  <a:srgbClr val="00b050"/>
                </a:solidFill>
                <a:latin typeface="Constantia"/>
              </a:rPr>
              <a:t> =I </a:t>
            </a:r>
            <a:r>
              <a:rPr b="1" lang="en-US" sz="5000" spc="-1" strike="noStrike" baseline="-25000">
                <a:solidFill>
                  <a:srgbClr val="00b050"/>
                </a:solidFill>
                <a:latin typeface="Constantia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b050"/>
                </a:solidFill>
                <a:latin typeface="Constantia"/>
              </a:rPr>
              <a:t>U </a:t>
            </a:r>
            <a:r>
              <a:rPr b="1" lang="en-US" sz="5000" spc="-1" strike="noStrike" baseline="-25000">
                <a:solidFill>
                  <a:srgbClr val="00b050"/>
                </a:solidFill>
                <a:latin typeface="Constantia"/>
              </a:rPr>
              <a:t>0</a:t>
            </a:r>
            <a:r>
              <a:rPr b="1" lang="en-US" sz="5000" spc="-1" strike="noStrike">
                <a:solidFill>
                  <a:srgbClr val="00b050"/>
                </a:solidFill>
                <a:latin typeface="Constantia"/>
              </a:rPr>
              <a:t>=U </a:t>
            </a:r>
            <a:r>
              <a:rPr b="1" lang="en-US" sz="5000" spc="-1" strike="noStrike" baseline="-25000">
                <a:solidFill>
                  <a:srgbClr val="00b050"/>
                </a:solidFill>
                <a:latin typeface="Constantia"/>
              </a:rPr>
              <a:t>1</a:t>
            </a:r>
            <a:r>
              <a:rPr b="1" lang="en-US" sz="5000" spc="-1" strike="noStrike">
                <a:solidFill>
                  <a:srgbClr val="00b050"/>
                </a:solidFill>
                <a:latin typeface="Constantia"/>
              </a:rPr>
              <a:t>+U </a:t>
            </a:r>
            <a:r>
              <a:rPr b="1" lang="en-US" sz="5000" spc="-1" strike="noStrike" baseline="-25000">
                <a:solidFill>
                  <a:srgbClr val="00b050"/>
                </a:solidFill>
                <a:latin typeface="Constantia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омашнее задание</a:t>
            </a:r>
            <a:r>
              <a:rPr b="1" i="1" lang="ru-RU" sz="5400" spc="-1" strike="noStrike">
                <a:solidFill>
                  <a:srgbClr val="424456"/>
                </a:solidFill>
                <a:latin typeface="Calibri"/>
              </a:rPr>
              <a:t>:</a:t>
            </a:r>
            <a:endParaRPr b="0" lang="en-US" sz="54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умайте, какие приборы включаются в цепь последовательно, где в быту вы встречались с последовательным соединением проводников?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3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овы недостатки последовательного соединения проводников?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3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§ 48, упр. 24, № 1, 3 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4:25:57Z</dcterms:created>
  <dc:creator>1</dc:creator>
  <dc:description/>
  <dc:language>en-US</dc:language>
  <cp:lastModifiedBy>1</cp:lastModifiedBy>
  <dcterms:modified xsi:type="dcterms:W3CDTF">2009-03-12T15:43:10Z</dcterms:modified>
  <cp:revision>8</cp:revision>
  <dc:subject/>
  <dc:title>Последовательное соединение проводников</dc:title>
</cp:coreProperties>
</file>