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2D1-802D-483E-9746-A4C77402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90518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80720"/>
            <a:ext cx="90518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DC1-028F-4251-9D55-A7ADA36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8072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68072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48D-18B9-47EF-A37E-910AABAF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224460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224460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8072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68072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680720"/>
            <a:ext cx="291456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EC1-0956-4263-BD8B-C9751022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244600"/>
            <a:ext cx="90518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408-E1EB-4DD2-98BF-52A42BA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90518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FB1-819D-4746-ACE7-BE00948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44172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2244600"/>
            <a:ext cx="44172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43F-F7B6-4097-A6F4-17876EA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53D-C9BC-4EE8-A4CF-32F4557A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9051840" cy="72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E77-4C77-40F9-8D22-04C29E3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2244600"/>
            <a:ext cx="44172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8072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2E6-77FF-4418-BD78-309A2264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44172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68072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C20-335B-4E5A-A898-8D89F12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2244600"/>
            <a:ext cx="4417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80720"/>
            <a:ext cx="90518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7CD-46DB-4202-8B9C-AADFD7B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3333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244600"/>
            <a:ext cx="90518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31716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73320" indent="-2541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82720" indent="-25380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292480" indent="-2541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292480" indent="-25416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292480" indent="-25416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B7A-E7BC-405C-8458-3C5E8E760D9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oject_vizitka.doc" TargetMode="External"/><Relationship Id="rId2" Type="http://schemas.openxmlformats.org/officeDocument/2006/relationships/hyperlink" Target="file:///project_vizitka.doc" TargetMode="External"/><Relationship Id="rId3" Type="http://schemas.openxmlformats.org/officeDocument/2006/relationships/hyperlink" Target="file:///&#1055;&#1088;&#1077;&#1079;&#1077;&#1085;&#1090;&#1072;&#1094;&#1080;&#1103;_&#1091;&#1095;&#1077;&#1085;&#1080;&#1082;&#1072;.ppt" TargetMode="External"/><Relationship Id="rId4" Type="http://schemas.openxmlformats.org/officeDocument/2006/relationships/hyperlink" Target="file:///&#1055;&#1088;&#1077;&#1079;&#1077;&#1085;&#1090;&#1072;&#1094;&#1080;&#1103;_&#1091;&#1095;&#1077;&#1085;&#1080;&#1082;&#1072;.ppt" TargetMode="External"/><Relationship Id="rId5" Type="http://schemas.openxmlformats.org/officeDocument/2006/relationships/hyperlink" Target="file:///&#1087;&#1091;&#1073;&#1083;&#1080;&#1082;&#1072;&#1094;&#1080;&#1103;.pub" TargetMode="External"/><Relationship Id="rId6" Type="http://schemas.openxmlformats.org/officeDocument/2006/relationships/hyperlink" Target="file:///&#1089;&#1072;&#1081;&#1090;.htm" TargetMode="External"/><Relationship Id="rId7" Type="http://schemas.openxmlformats.org/officeDocument/2006/relationships/hyperlink" Target="file:///&#1089;&#1072;&#1081;&#1090;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100160" y="3309840"/>
            <a:ext cx="788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ffff"/>
                </a:solidFill>
                <a:latin typeface="45 Helvetica Light"/>
              </a:rPr>
              <a:t>«</a:t>
            </a:r>
            <a:r>
              <a:rPr b="1" i="1" lang="ru-RU" sz="3200" spc="-1" strike="noStrike">
                <a:solidFill>
                  <a:srgbClr val="29ffff"/>
                </a:solidFill>
                <a:latin typeface="45 Helvetica Light"/>
              </a:rPr>
              <a:t>С Новым годом, ребятня!</a:t>
            </a:r>
            <a:r>
              <a:rPr b="1" lang="ru-RU" sz="3200" spc="-1" strike="noStrike">
                <a:solidFill>
                  <a:srgbClr val="29ffff"/>
                </a:solidFill>
                <a:latin typeface="45 Helvetica Light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886040" y="5243400"/>
            <a:ext cx="587844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45 Helvetica Light"/>
              </a:rPr>
              <a:t>Автор:</a:t>
            </a:r>
            <a:r>
              <a:rPr b="1" lang="ru-RU" sz="2000" spc="-1" strike="noStrike">
                <a:solidFill>
                  <a:srgbClr val="bfbfbf"/>
                </a:solidFill>
                <a:latin typeface="45 Helvetica Light"/>
              </a:rPr>
              <a:t> Галкина Е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45 Helvetica Light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886120" y="6886440"/>
            <a:ext cx="496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45 Helvetica Light"/>
              </a:rPr>
              <a:t>Москва 2010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743200" y="1600200"/>
            <a:ext cx="471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45 Helvetica Light"/>
              </a:rPr>
              <a:t>ГОУ СОШ № 1937 город 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2600280" y="2590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ебный про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6120" y="213840"/>
            <a:ext cx="602460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900" spc="-1" strike="noStrike">
                <a:solidFill>
                  <a:srgbClr val="e5ffff"/>
                </a:solidFill>
                <a:latin typeface="Tahoma"/>
              </a:rPr>
              <a:t>Аннотация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5760" y="1077480"/>
            <a:ext cx="9782280" cy="302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 охватывает такие учебные предметы естествознание, изобразительное искусство, трудовое обучение, чт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самостоятельного исследования, школьники должны найти информацию об истории Нового года,  об облике Деда Мороза, его исторические кор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ом работы над проектом должен стать вывод о том откуда пришёл к нам праздник Новый год, Дед Мороз, как отмечают этот праздник в других стра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076480" y="4678200"/>
            <a:ext cx="5184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500" spc="-1" strike="noStrike">
                <a:solidFill>
                  <a:srgbClr val="e5ffff"/>
                </a:solidFill>
                <a:latin typeface="Tahoma"/>
              </a:rPr>
              <a:t>Участники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220840" y="5830920"/>
            <a:ext cx="518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Ученики 4 класса «Б» школы №193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6480" y="572760"/>
            <a:ext cx="7993080" cy="826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500" spc="-1" strike="noStrike">
                <a:solidFill>
                  <a:srgbClr val="e5ffff"/>
                </a:solidFill>
                <a:latin typeface="Tahoma"/>
              </a:rPr>
              <a:t>Учебные темы программы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" y="316548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300" spc="-1" strike="noStrike">
                <a:solidFill>
                  <a:srgbClr val="0099ff"/>
                </a:solidFill>
                <a:latin typeface="Tahoma"/>
                <a:ea typeface="Arial"/>
              </a:rPr>
              <a:t>Основополагающие вопросы</a:t>
            </a:r>
            <a:r>
              <a:rPr b="1" lang="ru-RU" sz="4300" spc="-1" strike="noStrike">
                <a:solidFill>
                  <a:srgbClr val="0099ff"/>
                </a:solidFill>
                <a:latin typeface="Tahoma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436840" y="2301840"/>
            <a:ext cx="50925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900" spc="-1" strike="noStrike">
                <a:solidFill>
                  <a:srgbClr val="e5ffff"/>
                </a:solidFill>
                <a:latin typeface="Tahoma"/>
              </a:rPr>
              <a:t>Вопросы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81200" y="496584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0880" indent="-380880" algn="ctr">
              <a:spcBef>
                <a:spcPts val="10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300" spc="-1" strike="noStrike">
                <a:solidFill>
                  <a:srgbClr val="0099ff"/>
                </a:solidFill>
                <a:latin typeface="Tahoma"/>
              </a:rPr>
              <a:t>Проблемные вопросы: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68480" y="4102200"/>
            <a:ext cx="653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Когда появился на Руси праздник Новый год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96840" y="5830920"/>
            <a:ext cx="51847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Где живёт Дед Мороз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Откуда пришёл к нам Дед  Мороз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Как выглядит Дед Мороз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0160" y="747360"/>
            <a:ext cx="7910640" cy="826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900" spc="-1" strike="noStrike">
                <a:solidFill>
                  <a:srgbClr val="e5ffff"/>
                </a:solidFill>
                <a:latin typeface="Tahoma"/>
              </a:rPr>
              <a:t>Деятельность учащихся 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90518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стоятельный поиск учащимися информации: где живёт, как выглядит, откуда пришёл Дед Мороз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овая работа учащихся над исследованиями: изготовление подарков Деду Морозу, выставки открыток с изображением Деда Мороз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а: «Дед Мороз - кто он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4320" y="833400"/>
            <a:ext cx="8485200" cy="828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500" spc="-1" strike="noStrike">
                <a:solidFill>
                  <a:srgbClr val="e5ffff"/>
                </a:solidFill>
                <a:latin typeface="Tahoma"/>
              </a:rPr>
              <a:t>Темы самостоятельных исследований учащихся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2244600"/>
            <a:ext cx="90518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торические корни образа Деда Моро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радиционный облик Деда Моро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ликий Устюг –Родина Деда Моро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сковская усадьба Деда Моро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6120" y="214200"/>
            <a:ext cx="8734680" cy="828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лан проведения проек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92120" y="933480"/>
          <a:ext cx="9074160" cy="6330960"/>
        </p:xfrm>
        <a:graphic>
          <a:graphicData uri="http://schemas.openxmlformats.org/drawingml/2006/table">
            <a:tbl>
              <a:tblPr/>
              <a:tblGrid>
                <a:gridCol w="2208240"/>
                <a:gridCol w="4992840"/>
                <a:gridCol w="18730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6600"/>
                          </a:solidFill>
                          <a:uFillTx/>
                          <a:latin typeface="Tahoma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6600"/>
                          </a:solidFill>
                          <a:uFillTx/>
                          <a:latin typeface="Tahoma"/>
                        </a:rPr>
                        <a:t>Содержание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6600"/>
                          </a:solidFill>
                          <a:uFillTx/>
                          <a:latin typeface="Tahoma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едение в те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классном часе  обсуждение новогоднего персонажа Деда Мороза. Постановка проблемных вопросов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ация груп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еделение детей по темам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исторические корни образа Деда Мороз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традиционный облик Деда Мороз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Родина Деда Мороза – Великий Устюг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Московская Усадьба Деда Моро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-10 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мостоятельная дея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в группах. Сбор материала (из интернета, из периодической печати, посещение Московской усадьбы Деда Мороз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готовление подарков для Деда Моро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3 нед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формление результа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ка материалов для демонстрации, фото выстав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-7 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ведение ито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кторина «В гостях у Деда Мороза.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14400" y="358920"/>
            <a:ext cx="6858000" cy="574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100" spc="-1" strike="noStrike">
                <a:solidFill>
                  <a:srgbClr val="e5ffff"/>
                </a:solidFill>
                <a:latin typeface="Tahoma"/>
                <a:ea typeface="Arial"/>
              </a:rPr>
              <a:t>Материалы учебно-методического пакета 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4840" y="1293480"/>
            <a:ext cx="9072360" cy="5977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исание  учебного проекта и материалов УМП к нему («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зитк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меры работ учащих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73320" indent="-25416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езентация ученик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де живёт Дед Мороз?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73320" indent="-25416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убликация ученика  «</a:t>
            </a:r>
            <a:r>
              <a:rPr b="0" lang="ru-RU" sz="23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В гостях у Деда Мороз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73320" indent="0">
              <a:lnSpc>
                <a:spcPct val="80000"/>
              </a:lnSpc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Web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-сайт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терии оценки работ учащихс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зен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ублик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дактические материалы для самостоятельной работы учащихс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россворд, чайнворд, загад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ические материалы учител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журна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писок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формационных материалов, необходимых для поддержки самостоятельных исследований учащихся в ходе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ганизационные формы(</a:t>
            </a:r>
            <a:r>
              <a:rPr b="1" lang="ru-RU" sz="2000" spc="-1" strike="noStrike" u="sng">
                <a:solidFill>
                  <a:srgbClr val="00ccff"/>
                </a:solidFill>
                <a:uFillTx/>
                <a:latin typeface="Tahoma"/>
              </a:rPr>
              <a:t>шабло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20480" y="2562120"/>
            <a:ext cx="6975720" cy="145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03280" y="431640"/>
            <a:ext cx="9051840" cy="1554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e5ffff"/>
                </a:solidFill>
                <a:latin typeface="Tahoma"/>
              </a:rPr>
              <a:t>Контактная информация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25560" y="2230560"/>
            <a:ext cx="518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45 Helvetica Light"/>
              </a:rPr>
              <a:t>Работу подготовила учитель начальных классов Галкина Еле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SCHOOL1937</cp:lastModifiedBy>
  <cp:lastPrinted>2001-07-20T22:27:51Z</cp:lastPrinted>
  <dcterms:modified xsi:type="dcterms:W3CDTF">2011-08-25T05:06:04Z</dcterms:modified>
  <cp:revision>285</cp:revision>
  <dc:subject/>
  <dc:title>No Slide Title</dc:title>
</cp:coreProperties>
</file>