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7F2-3A4B-4C7B-BBB2-181CCCB0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F70-3566-4275-8FF9-011A71D6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9BC-2EBA-4159-AFAD-381B0651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433-B061-4BFD-B3AE-24FA4BCF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2B66-5893-4461-BF81-1FFE97BC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1D10-87B4-4DF9-848D-14417F5C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DA21-8EAF-4127-87DB-DC6E2DC6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4231-6C08-437D-BA7B-1A385229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D0CB-93A4-4AA4-9A04-AD5F9D8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4F3E-A45D-48C1-9B85-F863CDD8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F39A-70E0-41DA-BF3C-A619EFD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858-F95D-4DDA-AE99-503C9762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C8D4-A62E-42E4-8839-3127196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C085-289D-4A6E-8472-C8B178F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2847-DB21-4119-89B6-0CFD6CDF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9775-3978-47EA-B983-E0F6FA04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074F-D080-465D-93F8-4D6E81B0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07D8-764F-4B8A-B802-2196A778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16A8-446C-4F7F-8B75-037AA66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BB47-98D9-4E78-90A5-8FE346B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D542-4E83-47D0-AC23-A745A7E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C5962-1F9D-45BB-992A-485A8B8A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B66-8B3B-43DD-9854-34DF7BC1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3BB5-13DC-4CF6-88DB-40D5B2B6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F2F4-2836-4E81-8F77-A36C9E99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00FE-B7E5-4FF8-81A7-3C6C49D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1D4E-39AF-485C-89A9-787CB0A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AA73-E9C4-4473-A706-622289D5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3A45-5703-4A6E-886B-E1B2CA99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786D-73C1-4B89-8D31-C8A19B38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A160-7CF1-4ECF-B385-5BDD8E11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46DD-7483-46EB-990D-68DDC92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00EE-48CB-4033-B1E8-344790D7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1F3-B9A9-4C98-A715-FEC931D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00C1-7061-4124-9D15-28131E5F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0C0D-14F1-4B42-8F18-2B07EE18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E79E-3A20-4AB3-96D9-B9CE990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1E60-F3D4-4CE5-AB06-818548A5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4B43-60B7-49BB-8346-4880BA3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BD38-DA2D-4EFF-923C-01FEED2D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D0FF-6480-4251-A6F4-2D45DF46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3D3E-2CF0-4E59-9A58-CA2AF72B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0A02-14AE-4435-BA31-C4CEE4C3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F7B-F029-4C70-B92E-50BCBE49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4AF-BDC7-4377-A3ED-2B9A4A80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6BF-246C-40B6-8115-EC6E787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D22-21FC-4211-AF81-460CF1F3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BF3-858A-4685-897A-B07988F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F81-42FB-4174-AA16-8B8EAC8AFB6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340D-6391-4F66-9E5E-64B9032BB89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B9D3-36B5-4B16-AC71-5F5ED40F4E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46B-136D-4EE6-A32F-B5F0C72793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ценка образовательных достижений учащихся: проблемы и перспективы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788000" y="3141360"/>
            <a:ext cx="3898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Учитель математики МОУ СОШ № 22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Пристюк А. А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Георгиевского района, Ставропольского края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2011 г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4544-63FE-43A6-9783-9D8E14ABF6F2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временное понимание образовательных достижений(продолж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Овладение междисциплинарными умениям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коммуникативными умениями (умения ясно выражать свои мысли устно или письменно, слушать и понимать других, понимать и анализировать прочитанный текс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умениями работать с информацией, представленной в различной виде (таблицы, графики и др.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CAC-1223-4721-B66D-592C85AC5C2C}" type="slidenum">
              <a:t>10</a:t>
            </a:fld>
          </a:p>
        </p:txBody>
      </p:sp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временное понимание образовательных достижений(продолж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владение информационными технологиями (умения работать с информацией с помощью компьютера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умения сотрудничать и работать в групп- умения учиться и самосовершенствоватьс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умения решать проблем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D12-812E-4A8B-BCAB-66A5E7B3081D}" type="slidenum">
              <a:t>11</a:t>
            </a:fld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казатели образовательных достижений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тегральные показатели обученности по отдельным предметам (достижение обязательного и повышенного уровней подготовки по предмету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намика образовательных достиж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нность общеучебных ум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нность коммуникативных ум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7DD-7D0F-4477-973F-F9D7EB36A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казатели образовательных достижений (продолжение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нность познавательных интере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тановки и ценностные ориент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фессиональное самоопредел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D02-02D1-42F5-ADB2-377823DD2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личное понимание качества образ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родители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могут соотносить качество образования с развитием индивидуальности их детей;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качество для </a:t>
            </a:r>
            <a:r>
              <a:rPr b="1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учителей</a:t>
            </a: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может означать наличие качественного учебного плана, обеспеченного учебными материалами;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для </a:t>
            </a:r>
            <a:r>
              <a:rPr b="1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учащихся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ачество образования связывается с внутришкольным климатом;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CFA-05E6-4CD0-BDA6-04FEEA0B7DB5}" type="slidenum">
              <a:t>14</a:t>
            </a:fld>
          </a:p>
        </p:txBody>
      </p:sp>
    </p:spTree>
  </p:cSld>
  <p:transition>
    <p:cover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личное понимание качества образования(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долж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для </a:t>
            </a:r>
            <a:r>
              <a:rPr b="1" i="1" lang="ru-RU" sz="2200" spc="-1" strike="noStrike" u="sng">
                <a:solidFill>
                  <a:srgbClr val="003366"/>
                </a:solidFill>
                <a:uFillTx/>
                <a:latin typeface="Arial"/>
              </a:rPr>
              <a:t>бизнеса</a:t>
            </a:r>
            <a:r>
              <a:rPr b="1" lang="ru-RU" sz="2200" spc="-1" strike="noStrike" u="sng">
                <a:solidFill>
                  <a:srgbClr val="003366"/>
                </a:solidFill>
                <a:uFillTx/>
                <a:latin typeface="Arial"/>
              </a:rPr>
              <a:t> и </a:t>
            </a:r>
            <a:r>
              <a:rPr b="1" i="1" lang="ru-RU" sz="2200" spc="-1" strike="noStrike" u="sng">
                <a:solidFill>
                  <a:srgbClr val="003366"/>
                </a:solidFill>
                <a:uFillTx/>
                <a:latin typeface="Arial"/>
              </a:rPr>
              <a:t>промышленност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качество образования соотносится с жизненной позицией, умениями и навыками, знаниями выпускников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для </a:t>
            </a:r>
            <a:r>
              <a:rPr b="1" i="1" lang="ru-RU" sz="2200" spc="-1" strike="noStrike" u="sng">
                <a:solidFill>
                  <a:srgbClr val="003366"/>
                </a:solidFill>
                <a:uFillTx/>
                <a:latin typeface="Arial"/>
              </a:rPr>
              <a:t>общества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качество связано с теми ценностными ориентациями и более широко - ценностями обучающихся, которые найдут свое выражение, например, в гражданской позиции, в технократической или гуманистической направленности их профессиональной деятельности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C69-A13A-48EA-80C2-2D84EEAD15AF}" type="slidenum">
              <a:t>15</a:t>
            </a:fld>
          </a:p>
        </p:txBody>
      </p:sp>
    </p:spTree>
  </p:cSld>
  <p:transition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Характерные особенности системы образования, которые оказывают негативное действие на качество образования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ует единое концептуальное понимание проблем качества и подходов к его измерению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ценка качества образования на всех уровнях образования сводится чаще всего к оценке качества обучения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ует общероссийская система оценки качества образования на основе регулярно собираемой и обрабатываемой информации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тельной практике доминирует ориентация на подготовку учащихся к поступлению в высшие учебные заведения, а следовательно, на результаты обучения, выраженные в знаниях, умениях и навыках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1BB-20DA-4E33-AEEE-0D1D4DAF7D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Качества жизнеспособной личности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владени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минимально необходимым или максимально возможным (в зависимости от образовательных возможностей)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объемом знани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, обеспечивающим адаптацию к среде и успешную реализацию личностных целей; 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формированные интеллектуальные навыки, позволяющие учащемуся самостоятельно и ответственно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принимать решени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в ситуациях учебного, личностного, социального, гражданского выбора; готовность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осваивать и использоват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наиболее эффективные интеллектуальные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страте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; 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владение основными способами деятельност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, необходимыми для позитивного общения, продолжения учебы или трудовой деятельности,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реализации</a:t>
            </a:r>
            <a:r>
              <a:rPr b="1" lang="ru-RU" sz="1800" spc="-1" strike="noStrike">
                <a:solidFill>
                  <a:srgbClr val="cc00ff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х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прав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и выполнения гражданских, семейных, профессиональных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обязанносте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EC4-0561-45E8-97B2-CEF19AD74D12}" type="slidenum">
              <a:t>17</a:t>
            </a:fld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Качества жизнеспособной личности(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должение</a:t>
            </a: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циально необходимый для обозримого будущего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уровен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общей, в том числе информационной, технологической и валеологической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культур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интеллектуальную, эмоциональную, нравственную причастност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к лучшим проявлениям человеческой, общероссийской и национальной культуры;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ичностные качества, позволяющие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продуктивно действоват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для реализации своих целей в соотнесении с правами, потребностями и целями окружающих людей, общества, государства; 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жизненные ресурсы (физические, психофизиологические, духовные, интеллектуальные и т.д.), обеспечивающие жизнеспособность человека через </a:t>
            </a: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готовность к саморазвитию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Monotype Corsiva"/>
              </a:rPr>
              <a:t>умению действоват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вопреки неблагоприятным обстоятельствам, изменять их, используя социально приемлемые способы поведения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DAC-28C6-41AA-8B02-AF3E2B3AC2FE}" type="slidenum">
              <a:t>18</a:t>
            </a:fld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4160" y="1697040"/>
            <a:ext cx="66600" cy="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115920"/>
            <a:ext cx="7847280" cy="6552720"/>
            <a:chOff x="1116000" y="115920"/>
            <a:chExt cx="7847280" cy="6552720"/>
          </a:xfrm>
        </p:grpSpPr>
        <p:cxnSp>
          <p:nvCxnSpPr>
            <p:cNvPr id="231" name="_s233538"/>
            <p:cNvCxnSpPr>
              <a:stCxn id="232" idx="3"/>
              <a:endCxn id="233" idx="2"/>
            </p:cNvCxnSpPr>
            <p:nvPr/>
          </p:nvCxnSpPr>
          <p:spPr>
            <a:xfrm flipV="1">
              <a:off x="5824080" y="569160"/>
              <a:ext cx="785160" cy="587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233536"/>
            <p:cNvCxnSpPr>
              <a:stCxn id="235" idx="3"/>
              <a:endCxn id="233" idx="2"/>
            </p:cNvCxnSpPr>
            <p:nvPr/>
          </p:nvCxnSpPr>
          <p:spPr>
            <a:xfrm flipV="1">
              <a:off x="5824080" y="568800"/>
              <a:ext cx="785160" cy="519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233534"/>
            <p:cNvCxnSpPr>
              <a:stCxn id="237" idx="3"/>
              <a:endCxn id="233" idx="2"/>
            </p:cNvCxnSpPr>
            <p:nvPr/>
          </p:nvCxnSpPr>
          <p:spPr>
            <a:xfrm flipV="1">
              <a:off x="5824080" y="568440"/>
              <a:ext cx="785160" cy="45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233532"/>
            <p:cNvCxnSpPr>
              <a:stCxn id="239" idx="3"/>
              <a:endCxn id="233" idx="2"/>
            </p:cNvCxnSpPr>
            <p:nvPr/>
          </p:nvCxnSpPr>
          <p:spPr>
            <a:xfrm flipV="1">
              <a:off x="5824080" y="568440"/>
              <a:ext cx="785160" cy="38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233530"/>
            <p:cNvCxnSpPr>
              <a:stCxn id="241" idx="3"/>
              <a:endCxn id="233" idx="2"/>
            </p:cNvCxnSpPr>
            <p:nvPr/>
          </p:nvCxnSpPr>
          <p:spPr>
            <a:xfrm flipV="1">
              <a:off x="5824080" y="568800"/>
              <a:ext cx="785160" cy="316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233528"/>
            <p:cNvCxnSpPr>
              <a:stCxn id="243" idx="3"/>
              <a:endCxn id="233" idx="2"/>
            </p:cNvCxnSpPr>
            <p:nvPr/>
          </p:nvCxnSpPr>
          <p:spPr>
            <a:xfrm flipV="1">
              <a:off x="5824080" y="568800"/>
              <a:ext cx="785160" cy="248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233487"/>
            <p:cNvCxnSpPr>
              <a:stCxn id="245" idx="3"/>
              <a:endCxn id="233" idx="2"/>
            </p:cNvCxnSpPr>
            <p:nvPr/>
          </p:nvCxnSpPr>
          <p:spPr>
            <a:xfrm flipV="1">
              <a:off x="5824080" y="568800"/>
              <a:ext cx="785160" cy="180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233486"/>
            <p:cNvCxnSpPr>
              <a:stCxn id="247" idx="3"/>
              <a:endCxn id="233" idx="2"/>
            </p:cNvCxnSpPr>
            <p:nvPr/>
          </p:nvCxnSpPr>
          <p:spPr>
            <a:xfrm flipV="1">
              <a:off x="5824080" y="568440"/>
              <a:ext cx="785160" cy="11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233485"/>
            <p:cNvCxnSpPr>
              <a:stCxn id="249" idx="3"/>
              <a:endCxn id="233" idx="2"/>
            </p:cNvCxnSpPr>
            <p:nvPr/>
          </p:nvCxnSpPr>
          <p:spPr>
            <a:xfrm flipV="1">
              <a:off x="5824080" y="568440"/>
              <a:ext cx="785160" cy="45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_s233481"/>
            <p:cNvSpPr/>
            <p:nvPr/>
          </p:nvSpPr>
          <p:spPr>
            <a:xfrm>
              <a:off x="4254840" y="11592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Уровни оценки качества обучения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_s233482"/>
            <p:cNvSpPr/>
            <p:nvPr/>
          </p:nvSpPr>
          <p:spPr>
            <a:xfrm>
              <a:off x="1116000" y="79380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900" spc="-1" strike="noStrike">
                  <a:solidFill>
                    <a:srgbClr val="000000"/>
                  </a:solidFill>
                  <a:latin typeface="Arial"/>
                </a:rPr>
                <a:t>Различения</a:t>
              </a:r>
              <a:endParaRPr b="0" lang="en-US" sz="2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_s233483"/>
            <p:cNvSpPr/>
            <p:nvPr/>
          </p:nvSpPr>
          <p:spPr>
            <a:xfrm>
              <a:off x="1116000" y="147204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900" spc="-1" strike="noStrike">
                  <a:solidFill>
                    <a:srgbClr val="000000"/>
                  </a:solidFill>
                  <a:latin typeface="Arial"/>
                </a:rPr>
                <a:t>Узнавания</a:t>
              </a:r>
              <a:endParaRPr b="0" lang="en-US" sz="2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_s233484"/>
            <p:cNvSpPr/>
            <p:nvPr/>
          </p:nvSpPr>
          <p:spPr>
            <a:xfrm>
              <a:off x="1116000" y="214992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900" spc="-1" strike="noStrike">
                  <a:solidFill>
                    <a:srgbClr val="000000"/>
                  </a:solidFill>
                  <a:latin typeface="Arial"/>
                </a:rPr>
                <a:t>Воспоминания</a:t>
              </a:r>
              <a:endParaRPr b="0" lang="en-US" sz="2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_s233527"/>
            <p:cNvSpPr/>
            <p:nvPr/>
          </p:nvSpPr>
          <p:spPr>
            <a:xfrm>
              <a:off x="1116000" y="282816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900" spc="-1" strike="noStrike">
                  <a:solidFill>
                    <a:srgbClr val="000000"/>
                  </a:solidFill>
                  <a:latin typeface="Arial"/>
                </a:rPr>
                <a:t>Припоминания</a:t>
              </a:r>
              <a:endParaRPr b="0" lang="en-US" sz="2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_s233529"/>
            <p:cNvSpPr/>
            <p:nvPr/>
          </p:nvSpPr>
          <p:spPr>
            <a:xfrm>
              <a:off x="1116000" y="350604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900" spc="-1" strike="noStrike">
                  <a:solidFill>
                    <a:srgbClr val="000000"/>
                  </a:solidFill>
                  <a:latin typeface="Arial"/>
                </a:rPr>
                <a:t>Умений и навыков</a:t>
              </a:r>
              <a:endParaRPr b="0" lang="en-US" sz="2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_s233531"/>
            <p:cNvSpPr/>
            <p:nvPr/>
          </p:nvSpPr>
          <p:spPr>
            <a:xfrm>
              <a:off x="1116000" y="418428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Ассоциации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_s233533"/>
            <p:cNvSpPr/>
            <p:nvPr/>
          </p:nvSpPr>
          <p:spPr>
            <a:xfrm>
              <a:off x="1116000" y="486252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Перенос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_s233535"/>
            <p:cNvSpPr/>
            <p:nvPr/>
          </p:nvSpPr>
          <p:spPr>
            <a:xfrm>
              <a:off x="1116000" y="5540400"/>
              <a:ext cx="4708440" cy="451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Классиф на общие и частные свойства и признак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_s233537"/>
            <p:cNvSpPr/>
            <p:nvPr/>
          </p:nvSpPr>
          <p:spPr>
            <a:xfrm>
              <a:off x="1116000" y="6218640"/>
              <a:ext cx="4708440" cy="4500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оздание и оперирование образами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4897-6901-4822-9711-8D0F16CA7CA3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бъективное измерение - путь к новому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ачеству образования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560" y="2361960"/>
            <a:ext cx="770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cc00ff"/>
                </a:solidFill>
                <a:latin typeface="Monotype Corsiva"/>
              </a:rPr>
              <a:t>Не все, что измеряется, следует измерять, и не все, что хотелось бы измерить, измеряется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lvl="4" marL="168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. Энштей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03832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057400"/>
            <a:ext cx="4012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064-62F2-4F11-BD04-1187FAD176AC}" type="slidenum">
              <a:t>2</a:t>
            </a:fld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195640" y="907920"/>
            <a:ext cx="554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РАЗЛИЧЕНИЯ -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5653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Умение различать  объект или </a:t>
            </a:r>
            <a:r>
              <a:rPr b="1" i="1" lang="ru-RU" sz="4800" spc="-1" strike="noStrike">
                <a:solidFill>
                  <a:srgbClr val="cc00ff"/>
                </a:solidFill>
                <a:latin typeface="Times New Roman"/>
              </a:rPr>
              <a:t>процесс</a:t>
            </a: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 от других по наиболее существенным признакам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844640"/>
            <a:ext cx="8642160" cy="4176720"/>
          </a:xfrm>
          <a:prstGeom prst="wedgeEllipseCallout">
            <a:avLst>
              <a:gd name="adj1" fmla="val 42689"/>
              <a:gd name="adj2" fmla="val -56537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3CE-58D4-42A1-BB85-8631742AFB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411280" y="836640"/>
            <a:ext cx="446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УЗНАВАНИЯ-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213372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Умение воспроизводить определение, </a:t>
            </a:r>
            <a:r>
              <a:rPr b="1" i="1" lang="ru-RU" sz="4800" spc="-1" strike="noStrike">
                <a:solidFill>
                  <a:srgbClr val="cc00ff"/>
                </a:solidFill>
                <a:latin typeface="Times New Roman"/>
              </a:rPr>
              <a:t>характеризовать</a:t>
            </a: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 свойства объекта.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628640"/>
            <a:ext cx="8569080" cy="4392720"/>
          </a:xfrm>
          <a:prstGeom prst="wedgeEllipseCallout">
            <a:avLst>
              <a:gd name="adj1" fmla="val 41958"/>
              <a:gd name="adj2" fmla="val -62541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4CF-05A0-4484-B3B8-86159B3FD9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340000" y="836640"/>
            <a:ext cx="583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ВОСПОМИНАНИЯ-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34936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Умение </a:t>
            </a:r>
            <a:r>
              <a:rPr b="1" i="1" lang="ru-RU" sz="4800" spc="-1" strike="noStrike">
                <a:solidFill>
                  <a:srgbClr val="cc00cc"/>
                </a:solidFill>
                <a:latin typeface="Times New Roman"/>
              </a:rPr>
              <a:t>воспроизводить </a:t>
            </a: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требуемую от ученика информацию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1844640"/>
            <a:ext cx="7775640" cy="3313080"/>
          </a:xfrm>
          <a:prstGeom prst="wedgeEllipseCallout">
            <a:avLst>
              <a:gd name="adj1" fmla="val 50226"/>
              <a:gd name="adj2" fmla="val -58240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360-EE86-44C1-80FB-157F84779C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195640" y="836640"/>
            <a:ext cx="597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ПРИПОМИНАНИЯ -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234936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Уровень активного </a:t>
            </a:r>
            <a:r>
              <a:rPr b="1" i="1" lang="ru-RU" sz="4800" spc="-1" strike="noStrike">
                <a:solidFill>
                  <a:srgbClr val="cc00cc"/>
                </a:solidFill>
                <a:latin typeface="Times New Roman"/>
              </a:rPr>
              <a:t>поискового</a:t>
            </a: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 произвольного воспроизведения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1844640"/>
            <a:ext cx="7775640" cy="3313080"/>
          </a:xfrm>
          <a:prstGeom prst="wedgeEllipseCallout">
            <a:avLst>
              <a:gd name="adj1" fmla="val 50226"/>
              <a:gd name="adj2" fmla="val -58240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4A5-5CD1-4700-80A0-17430C73EB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340000" y="836640"/>
            <a:ext cx="583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УМЕНИЙ И НАВЫКОВ - 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22050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ff"/>
                </a:solidFill>
                <a:latin typeface="Times New Roman"/>
              </a:rPr>
              <a:t>Закрепленные знания переведены в определенные группы умений, развитие которых  может дойти до </a:t>
            </a: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автоматизма</a:t>
            </a:r>
            <a:r>
              <a:rPr b="1" i="1" lang="ru-RU" sz="4400" spc="-1" strike="noStrike">
                <a:solidFill>
                  <a:srgbClr val="cc99ff"/>
                </a:solidFill>
                <a:latin typeface="Times New Roman"/>
              </a:rPr>
              <a:t> и проявиться в виде навыков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1844640"/>
            <a:ext cx="8713800" cy="4824360"/>
          </a:xfrm>
          <a:prstGeom prst="wedgeEllipseCallout">
            <a:avLst>
              <a:gd name="adj1" fmla="val 42750"/>
              <a:gd name="adj2" fmla="val -55662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EDC-B4E8-4908-B58D-8ABCA52617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411280" y="836640"/>
            <a:ext cx="5761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АССОЦИАЦИИ -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66" name=""/>
          <p:cNvSpPr/>
          <p:nvPr/>
        </p:nvSpPr>
        <p:spPr>
          <a:xfrm>
            <a:off x="900000" y="22050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ff"/>
                </a:solidFill>
                <a:latin typeface="Times New Roman"/>
              </a:rPr>
              <a:t>Умение устанавливать </a:t>
            </a: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причинно-следственные связи</a:t>
            </a:r>
            <a:r>
              <a:rPr b="1" i="1" lang="ru-RU" sz="4400" spc="-1" strike="noStrike">
                <a:solidFill>
                  <a:srgbClr val="cc99ff"/>
                </a:solidFill>
                <a:latin typeface="Times New Roman"/>
              </a:rPr>
              <a:t> между понятиями, процессами и явлениями, различать и выводить причины и следств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844640"/>
            <a:ext cx="8893080" cy="4753080"/>
          </a:xfrm>
          <a:prstGeom prst="wedgeEllipseCallout">
            <a:avLst>
              <a:gd name="adj1" fmla="val 40074"/>
              <a:gd name="adj2" fmla="val -55745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B98-2629-40BE-AAB1-9C053CD05D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195640" y="836640"/>
            <a:ext cx="597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ПЕРЕНОСА -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25653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Способность  применения знаний, умений и навыков в новой </a:t>
            </a:r>
            <a:r>
              <a:rPr b="1" i="1" lang="ru-RU" sz="4800" spc="-1" strike="noStrike">
                <a:solidFill>
                  <a:srgbClr val="cc00ff"/>
                </a:solidFill>
                <a:latin typeface="Times New Roman"/>
              </a:rPr>
              <a:t>нестандартной</a:t>
            </a: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 ситуации.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1844640"/>
            <a:ext cx="8424720" cy="4032360"/>
          </a:xfrm>
          <a:prstGeom prst="wedgeEllipseCallout">
            <a:avLst>
              <a:gd name="adj1" fmla="val 42500"/>
              <a:gd name="adj2" fmla="val -56773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636-F70F-4721-91FE-B324DB7D9E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55640" y="2565360"/>
            <a:ext cx="78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Умение </a:t>
            </a: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дифференцировать </a:t>
            </a: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(делить) известные учащимся предметные характеристики на общие и частны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844640"/>
            <a:ext cx="8713800" cy="4824360"/>
          </a:xfrm>
          <a:prstGeom prst="wedgeEllipseCallout">
            <a:avLst>
              <a:gd name="adj1" fmla="val 41930"/>
              <a:gd name="adj2" fmla="val -51185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19280" y="836640"/>
            <a:ext cx="68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КЛАССИФИКАЦИИ НА ОБЩИЕ 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И ЧАСТНЫЕ СВОЙСТВА, ПРИЗНАКИ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C71-1B4F-4A72-8259-3076BF0A01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4360" y="198900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Умение </a:t>
            </a:r>
            <a:r>
              <a:rPr b="1" i="1" lang="ru-RU" sz="4800" spc="-1" strike="noStrike">
                <a:solidFill>
                  <a:srgbClr val="cc00cc"/>
                </a:solidFill>
                <a:latin typeface="Times New Roman"/>
              </a:rPr>
              <a:t>строить зрительные образы</a:t>
            </a:r>
            <a:r>
              <a:rPr b="1" i="1" lang="ru-RU" sz="4800" spc="-1" strike="noStrike">
                <a:solidFill>
                  <a:srgbClr val="cc99ff"/>
                </a:solidFill>
                <a:latin typeface="Times New Roman"/>
              </a:rPr>
              <a:t> того или иного понятия, признака, свойства, оперирование ими в визуальной форме.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1844640"/>
            <a:ext cx="8713800" cy="4824360"/>
          </a:xfrm>
          <a:prstGeom prst="wedgeEllipseCallout">
            <a:avLst>
              <a:gd name="adj1" fmla="val 41930"/>
              <a:gd name="adj2" fmla="val -51185"/>
            </a:avLst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92360" y="836640"/>
            <a:ext cx="676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УРОВЕНЬ СОЗДАНИЯ 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artika"/>
              </a:rPr>
              <a:t>И  ОПЕРИРОВАНИЯ ОБРАЗАМИ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artika"/>
              <a:ea typeface="Kartik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89C-5EB6-4757-A15E-A0D17E8E9C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 Ы В О Д Ы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правления совершенствования образовательных достижений учащихс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азработка КИМ нового поколе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менение акцентов в оценке с воспроизведения знаний и умений на их применение в незнакомых ситуац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работка заданий, оценивающих межпредметные и общеучебные ум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ведение компьютерных форм КИ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работка прогностических КИМ на межпредме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E5F-73B7-499D-8833-3FA82EFD24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лючевые вопросы, определяющие технологию оценки образовательных достижений учащихся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С какой целью проводится оценка образовательных достижений? Как будут интерпретироваться и использоваться результаты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Что понимается под образовательными  достижениями? Структура образовательных достижений, приоритеты при оценк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Форма проверки и формат инструментар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тепень стандартизации на этапах разработки инструментария, проведения оценочной процедуры, обработки и представления результат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 Реальные возможности (кадры, финансирование и др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A2E-83A9-4A6D-AA14-30AAE221B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 Ы В О Д Ы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правления совершенствования образовательных достижений учащихся (продолжение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ведение интегральной оценки образовательных достижений, учитывающей результаты независимой объективной и накопительной системы оценки образовательных достижен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портфолио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ние различных форм оценки образовательных достиж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ценка сформированности практических умений с использованием лабораторного оборудования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DAB-129E-46B8-ACA8-A1F1A39E00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ВАЖАЕМЫЕ КОЛЛЕГИ!</a:t>
            </a:r>
            <a:br>
              <a:rPr sz="28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здравляю Вас с наступающим праздником- 1Сентябр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елаю Вам помнить всегд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Monotype Corsiva"/>
              </a:rPr>
              <a:t>Главное, что должно определять отношения каждого учителя к каждому учащемуся – это </a:t>
            </a:r>
            <a:r>
              <a:rPr b="1" lang="ru-RU" sz="4000" spc="-1" strike="noStrike">
                <a:solidFill>
                  <a:srgbClr val="ff33cc"/>
                </a:solidFill>
                <a:latin typeface="Monotype Corsiva"/>
              </a:rPr>
              <a:t>глубокая вера</a:t>
            </a:r>
            <a:r>
              <a:rPr b="1" lang="ru-RU" sz="3600" spc="-1" strike="noStrike">
                <a:solidFill>
                  <a:srgbClr val="ff00ff"/>
                </a:solidFill>
                <a:latin typeface="Monotype Corsiva"/>
              </a:rPr>
              <a:t> в растущего человека в его возмож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6EC-3F3A-4667-8E95-6A12EAD94D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2F4-AB28-49CE-99F5-CC6A2B3B71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задачи мониторинга образовательных достижений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о состоянии образовательных достижений учащихся по основным учебным предмета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явление тенденций изменения состояния общеобразовательных достижений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явление факторов, оказывающих влияние на состояние образовательных достижений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4797360"/>
            <a:ext cx="7921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C9D-CB5B-4953-B267-61488A12F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элементы качественного образ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2565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риоритетная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цель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образования –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cc00ff"/>
                </a:solidFill>
                <a:latin typeface="Monotype Corsiva"/>
              </a:rPr>
              <a:t>целостное развитие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ff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cc00ff"/>
                </a:solidFill>
                <a:latin typeface="Monotype Corsiva"/>
              </a:rPr>
              <a:t>личности школьника.</a:t>
            </a:r>
            <a:r>
              <a:rPr b="0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3AC-8D39-46B2-AA2B-A95273AB58BB}" type="slidenum">
              <a:t>5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элементы качественного образования(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долж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новные </a:t>
            </a:r>
            <a:r>
              <a:rPr b="1" lang="ru-RU" sz="2400" spc="-1" strike="noStrike">
                <a:solidFill>
                  <a:srgbClr val="cc00ff"/>
                </a:solidFill>
                <a:latin typeface="Monotype Corsiva"/>
              </a:rPr>
              <a:t>задачи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разовательного процесса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ние общих способностей и эрудиции в соответствии с индивидуальными возможностями каждого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новление элементарной культуры деятельности, овладение основными компонентами учебной деятельности: умение принимать учебную задачу, определять учебные операции, производить контроль и самоконтроль, оценку и самооцен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ние готовности к самообразованию, определению уровня познавательной культуры и познавательных интересов учащихс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BAE-2D6E-4C85-8FD4-0156799C8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элементы качественного образования(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долж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Monotype Corsiva"/>
              </a:rPr>
              <a:t>Результат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цесса обуче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явление качественных изменений в  физическом, психическом и духовном развитии школьник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формированное умение добывать знания, осознавать свое незн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ходить причину сделанной ошиб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авнивать результаты своей деятельности с образцом, самостоятельность в оценке процесса и результата решения учебной задач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формированных умений использовать свои знания в нестандартных ситуац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C3D-D3A0-4B15-AA23-243B09EC6D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элементы качественного образования(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долж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Monotype Corsiva"/>
              </a:rPr>
              <a:t>Девиз</a:t>
            </a:r>
            <a:r>
              <a:rPr b="0" lang="ru-RU" sz="2800" spc="-1" strike="noStrike">
                <a:solidFill>
                  <a:srgbClr val="cc00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ового подхода в обучени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cc0000"/>
                </a:solidFill>
                <a:latin typeface="Monotype Corsiva"/>
              </a:rPr>
              <a:t>Любое проявление творчества при обязательном выполнении нормативов базисного учебного плана и обеспечении достаточного качества знан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DDB-3FE7-4526-979D-9ED9049FB8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временное понимание образовательных достиже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своение предметных знаний и уме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мение применять эти знания на практик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в различных ситуациях реальной жизни, не только в контексте учебной дисциплины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3C3-70C6-445F-8668-03F0790B047F}" type="slidenum">
              <a:t>9</a:t>
            </a:fld>
          </a:p>
        </p:txBody>
      </p: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4:42:24Z</dcterms:created>
  <dc:creator>user1</dc:creator>
  <dc:description/>
  <dc:language>en-US</dc:language>
  <cp:lastModifiedBy>user</cp:lastModifiedBy>
  <dcterms:modified xsi:type="dcterms:W3CDTF">2011-12-13T15:43:49Z</dcterms:modified>
  <cp:revision>92</cp:revision>
  <dc:subject/>
  <dc:title>Анализ проекта [Проект]</dc:title>
</cp:coreProperties>
</file>