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2B2-9BFF-491F-B7C1-F8E45675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EC9-D4D3-4849-9F3F-220B2813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CE-C915-496A-BD2B-1FAB5DF7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07B-022D-4FB9-B2D2-72ABF7A9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413D-10C3-4B34-AE51-D6B4FF75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0738-2697-4F31-98A9-407B8584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DCE-597E-4923-A5C7-5A51648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510C-39FE-4D68-9B22-67C6709B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9221-8CB0-4766-9943-C50C4F47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28EF-C3DC-474A-B581-0981675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C1C5-9C49-4A74-A74C-EC555CC6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D86-8C25-408D-AF3F-4236A644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BCD2-DB7D-4F6F-91F7-178E10E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7246-C524-457C-A5E5-DBDC7A8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1215-73F8-436D-AA0E-408F7956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205F-6EC5-458F-B527-490E7EFB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147D-9415-48E8-9795-8C2B38B2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53E-56C1-4512-B44B-0FE3888D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7A2-D745-49CF-B62E-02C1AFC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67B-1D1D-4364-99EE-582A8EF3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B73-26EA-43B0-8E5A-1CD420C1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0A0-AA0E-498A-8E8F-E112E0D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081-4660-4F29-9952-3999D86C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B29-5C80-4C57-9055-2041F7F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577-77F4-4426-9EA0-410743F287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BAF7-832F-42AC-B40C-2A56FC05B7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385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оект (от лат.) – брошенный вперед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Это мысленное предвосхищение, прогнозирование того, что затем будет воплощено в виде предмета, творческого акта или действ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838080"/>
            <a:ext cx="875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роектная деятельность на заняти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учреждениях дополнительного образовани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Сущность проектной деятель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ль «черного ящи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ЛОВИЯ          ?       РЕЗУЛЬТ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еб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иск решения и составляет суть проект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200400"/>
            <a:ext cx="29718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124080"/>
            <a:ext cx="2971800" cy="1752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505320"/>
            <a:ext cx="6858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тапы учебного проек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905120"/>
          <a:ext cx="8007120" cy="4190400"/>
        </p:xfrm>
        <a:graphic>
          <a:graphicData uri="http://schemas.openxmlformats.org/drawingml/2006/table">
            <a:tbl>
              <a:tblPr/>
              <a:tblGrid>
                <a:gridCol w="2669040"/>
                <a:gridCol w="2669040"/>
                <a:gridCol w="2669040"/>
              </a:tblGrid>
              <a:tr h="41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мысла проекта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дей, гипотез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сленное представление 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дущем проек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итель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актическ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изация  мысленных представлений в вещественном вид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рка гипотез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рка и оце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ненной работы относительно поставленным требования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Виды учебных проектов на занятиях по ДПИ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конструиров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жно отнести к рационалис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конструиров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мещает черты той и друг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руир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но отнести к изобретатель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Доконструирование издел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ведение до конца начатой кем-то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сение конструкторских дополнений в готовое издел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4952880"/>
            <a:ext cx="3589200" cy="113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4876920"/>
            <a:ext cx="28940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ереконструирование изделия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обные проекты связаны с необходимостью внесения в устройство или внешний вид изделия некоторых конструктивных или декоративных изменений для того, чтобы изменить принцип его действия или преобразить внешний вид в соответствии с новыми услов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66880" y="4800600"/>
            <a:ext cx="4357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Собственно конструировани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0834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этом виде дети полностью самостоятельно разрабатывают изделие, подчиняясь поставленной цели, при этом они не просто переделывают заданный образец, а изначально сами определяют все особенности устройства и внешнего оформ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0-09-20T09:19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