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949-C361-4E40-8625-6B13C889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331-19EF-4274-8BC7-BF2CFFBB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EB7-606D-4B07-834E-BBF3934B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DC5-BD54-40BC-8EB9-7151BFF1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A38-3931-4395-A2B3-A173D714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DFD-9CF0-4F74-B05B-FD8ACE39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844-6A03-4EB6-B82B-23729680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42A-D7BA-4665-989F-F2D11338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E97-84C0-4774-B66A-CE3AFE2A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948-E978-4B11-97BD-6429D11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2E9-2F8C-4DD6-9808-6FEE194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B4A-E452-4973-B8D3-AAA6A46A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05C9-4321-40EE-A2AB-4B34521E6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о-педагогическое сопровождение процесса развития ключевых компетен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4149720"/>
            <a:ext cx="69483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кова Лариса Игор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ДОД центр дет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иколаевска – на – Ам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А.А. Карманову: «ключевые компетенции – это целостная система универсальных знаний, умений, навыков, а также опыта самостоятельной деятельности и личной ответственности обучающих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3280" y="1268280"/>
            <a:ext cx="40435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ключевым компетенциям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ностно-смыс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ностного 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е технологии, наиболее адекватные компетентностному подх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модульного подх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рефлексивного обу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проектного обу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психолого-педагогического сопров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сопров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-ый этап – ди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ряд диагностических исследо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диагностика «Познай себя», «Психогеометрия», «Автопортрет»,рисуночная психодиагностика «Несуществующее животно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ирование учащихся с целью выявления обеспечения адаптации обучающихся к образовательной 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чная психодиагностика «Моя семья», «Дом будущего», «Незаконченные предло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диагностика мотивации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диагностика уровня воспитанности 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5e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42920" y="1485360"/>
            <a:ext cx="727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ой этап – коррекцио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программу профилактической работы и осуществляется в фор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видуальных бесе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ультац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пповых занят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вых тренингов, направленных на коррекцию межличностных взаимоотношений и профилактику конфли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-5092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ий этап – просветительский и профилакти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лю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и о формировании ценностей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мотр видео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сс-конфер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а психолого-педагогического сопровождения будет содействовать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ю мотивации к обучен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ю ключевых компетенц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ностному росту и социальной актив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раиванию образовательного процесса с учетом индивидуальных особенностей учащих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ятию конструктивных решений при выстраивании личностного жизненного простр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7:41:06Z</dcterms:created>
  <dc:creator>Семья</dc:creator>
  <dc:description/>
  <dc:language>en-US</dc:language>
  <cp:lastModifiedBy>Лариса</cp:lastModifiedBy>
  <dcterms:modified xsi:type="dcterms:W3CDTF">2010-09-20T10:30:55Z</dcterms:modified>
  <cp:revision>13</cp:revision>
  <dc:subject/>
  <dc:title>Психолого-педагогическое сопровождение процесса развития ключевых компетенций</dc:title>
</cp:coreProperties>
</file>