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6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3FB-CF9E-43F4-B86B-71486F6F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C2C-7E40-481E-8428-E541E04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A68-16AB-4DAD-95B1-A9F28180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F04-8868-4CBD-8CEF-30E926A6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AFD-974C-4BC4-9B38-3AC743D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10C-330E-47AA-956E-38E77599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4C7-45D0-4363-BE2E-5E0FF4D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0AA-13C1-44DD-A9A1-0D2607A3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A24-5A61-47AA-BAC5-56F11B1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C6C-DB7F-4AF7-A010-99FD9A8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05C-DC07-49E9-B327-B251A59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C9C-D1A0-405A-BB41-BCB4406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DC9F-EAD7-4D7A-9065-F2D06A92F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0_71c2e_e440958b_XL.jpg"/>
          <p:cNvPicPr/>
          <p:nvPr/>
        </p:nvPicPr>
        <p:blipFill>
          <a:blip r:embed="rId1"/>
          <a:stretch/>
        </p:blipFill>
        <p:spPr>
          <a:xfrm>
            <a:off x="736560" y="762120"/>
            <a:ext cx="76708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fe8e02400bc.jpg"/>
          <p:cNvPicPr/>
          <p:nvPr/>
        </p:nvPicPr>
        <p:blipFill>
          <a:blip r:embed="rId1"/>
          <a:stretch/>
        </p:blipFill>
        <p:spPr>
          <a:xfrm>
            <a:off x="571680" y="500040"/>
            <a:ext cx="814356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7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1295331973_neustrashimy_63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F14-Tomc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Jets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флаг.GIF"/>
          <p:cNvPicPr/>
          <p:nvPr/>
        </p:nvPicPr>
        <p:blipFill>
          <a:blip r:embed="rId1"/>
          <a:stretch/>
        </p:blipFill>
        <p:spPr>
          <a:xfrm>
            <a:off x="2286000" y="1571760"/>
            <a:ext cx="479736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8"/>
          <p:cNvGrpSpPr/>
          <p:nvPr/>
        </p:nvGrpSpPr>
        <p:grpSpPr>
          <a:xfrm>
            <a:off x="0" y="0"/>
            <a:ext cx="9144000" cy="6967440"/>
            <a:chOff x="0" y="0"/>
            <a:chExt cx="9144000" cy="6967440"/>
          </a:xfrm>
        </p:grpSpPr>
        <p:pic>
          <p:nvPicPr>
            <p:cNvPr id="4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5"/>
            <p:cNvSpPr/>
            <p:nvPr/>
          </p:nvSpPr>
          <p:spPr>
            <a:xfrm>
              <a:off x="250920" y="5589720"/>
              <a:ext cx="1224000" cy="360360"/>
            </a:xfrm>
            <a:prstGeom prst="rect">
              <a:avLst/>
            </a:prstGeom>
            <a:solidFill>
              <a:srgbClr val="e9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7596360" y="5589720"/>
              <a:ext cx="1223640" cy="360360"/>
            </a:xfrm>
            <a:prstGeom prst="rect">
              <a:avLst/>
            </a:prstGeom>
            <a:solidFill>
              <a:srgbClr val="e9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3780000" y="6497640"/>
              <a:ext cx="1584000" cy="360360"/>
            </a:xfrm>
            <a:prstGeom prst="rect">
              <a:avLst/>
            </a:prstGeom>
            <a:solidFill>
              <a:srgbClr val="e9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" name="Из кинофильма Князь Владимир - Может знает лес (mp3ostrov.com)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3 из 25755"/>
          <p:cNvPicPr/>
          <p:nvPr/>
        </p:nvPicPr>
        <p:blipFill>
          <a:blip r:embed="rId1"/>
          <a:stretch/>
        </p:blipFill>
        <p:spPr>
          <a:xfrm>
            <a:off x="246240" y="285840"/>
            <a:ext cx="8897760" cy="59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366870342.gif"/>
          <p:cNvPicPr/>
          <p:nvPr/>
        </p:nvPicPr>
        <p:blipFill>
          <a:blip r:embed="rId1"/>
          <a:stretch/>
        </p:blipFill>
        <p:spPr>
          <a:xfrm>
            <a:off x="928800" y="357120"/>
            <a:ext cx="2981160" cy="241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703066998.gif"/>
          <p:cNvPicPr/>
          <p:nvPr/>
        </p:nvPicPr>
        <p:blipFill>
          <a:blip r:embed="rId2"/>
          <a:stretch/>
        </p:blipFill>
        <p:spPr>
          <a:xfrm>
            <a:off x="6215040" y="142920"/>
            <a:ext cx="2138400" cy="2738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571090524.gif"/>
          <p:cNvPicPr/>
          <p:nvPr/>
        </p:nvPicPr>
        <p:blipFill>
          <a:blip r:embed="rId3"/>
          <a:stretch/>
        </p:blipFill>
        <p:spPr>
          <a:xfrm>
            <a:off x="571680" y="47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605784040.gif"/>
          <p:cNvPicPr/>
          <p:nvPr/>
        </p:nvPicPr>
        <p:blipFill>
          <a:blip r:embed="rId4"/>
          <a:stretch/>
        </p:blipFill>
        <p:spPr>
          <a:xfrm>
            <a:off x="3500280" y="2928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Minusovki.MpTri.Net kombinaciya_-_a_ya_liubliu_voennih.mp3" descr=""/>
          <p:cNvPicPr/>
          <p:nvPr/>
        </p:nvPicPr>
        <p:blipFill>
          <a:blip r:embed="rId5"/>
          <a:stretch/>
        </p:blipFill>
        <p:spPr>
          <a:xfrm>
            <a:off x="8643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393 0.00903 C 0.19966 -0.04027 0.33073 0.02292 0.4474 0.00417 C 0.44931 -0.00277 0.45174 -0.00347 0.45695 -0.00532 C 0.48785 -0.00416 0.51893 -0.00115 0.54983 -0.00046 C 0.63195 0.00162 0.79636 0.00417 0.79636 0.00417 C 0.80816 0.05926 0.73421 0.04051 0.72136 0.04074 C 0.70834 0.04514 0.69532 0.04561 0.68195 0.04723 C 0.5908 0.0838 0.4915 0.05139 0.39636 0.05186 C 0.28941 0.08079 0.38837 0.0551 0.09393 0.0551 E">
                                      <p:cBhvr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c173478df4c30d325d6fce4ed64.jpg"/>
          <p:cNvPicPr/>
          <p:nvPr/>
        </p:nvPicPr>
        <p:blipFill>
          <a:blip r:embed="rId1"/>
          <a:stretch/>
        </p:blipFill>
        <p:spPr>
          <a:xfrm>
            <a:off x="888840" y="800280"/>
            <a:ext cx="73663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5:38:30Z</dcterms:created>
  <dc:creator>Андрей</dc:creator>
  <dc:description/>
  <dc:language>en-US</dc:language>
  <cp:lastModifiedBy>Андрей</cp:lastModifiedBy>
  <dcterms:modified xsi:type="dcterms:W3CDTF">2012-02-14T17:49:06Z</dcterms:modified>
  <cp:revision>13</cp:revision>
  <dc:subject/>
  <dc:title>Слайд 1</dc:title>
</cp:coreProperties>
</file>