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1.png" ContentType="image/png"/>
  <Override PartName="/ppt/media/image14.jpeg" ContentType="image/jpeg"/>
  <Override PartName="/ppt/media/image6.jpeg" ContentType="image/jpeg"/>
  <Override PartName="/ppt/media/image13.png" ContentType="image/png"/>
  <Override PartName="/ppt/media/image12.jpeg" ContentType="image/jpeg"/>
  <Override PartName="/ppt/media/camera.wav" ContentType="audio/x-wav"/>
  <Override PartName="/ppt/media/image2.jpeg" ContentType="image/jpeg"/>
  <Override PartName="/ppt/media/image3.png" ContentType="image/png"/>
  <Override PartName="/ppt/media/image4.jpeg" ContentType="image/jpeg"/>
  <Override PartName="/ppt/media/image5.jpeg" ContentType="image/jpeg"/>
  <Override PartName="/ppt/media/image15.png" ContentType="image/png"/>
  <Override PartName="/ppt/media/drumroll.wav" ContentType="audio/x-wav"/>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0A4E-56D5-400A-B971-0B0331847F1F}"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CAD1-A207-435B-A2F7-2F26D56A1A5C}" type="slidenum">
              <a:rPr b="0" lang="ru-RU"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1F713-2A24-4B82-AD58-5E5EF3B9A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0FD61-D09A-4E62-88D2-74D2118A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1C9E5-7C98-401B-ABB1-24073514E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B0CE-F0C3-4924-A145-54FB2D704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FB01570-2EBA-4145-92D5-ABCF0DBB6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EEAD8B-4380-43A8-9647-73494AC3C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479662-E748-40E8-AEDF-7FDBDE965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C1555D-26C0-4B5E-85E2-D8DC6D052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B2DA66-D3BC-47D8-BACE-BD9704E3D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62C90D-59EE-4288-AECC-FBBD3D2B1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53643A-6950-4607-A670-52D7DD42B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310D0-3941-48EF-8007-87235343A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90E8BD-DC84-4868-85ED-B34DC7723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9BD12B-93FE-41D4-9E89-DB6F9BEC9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7607EA-1F3C-4DFD-A959-A42023771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6CEC9EA-6F7B-48E4-B716-CF7993C93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097CDB-E057-4F18-B1B3-1B8979271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4C05E4-2E0E-4AAB-8DC7-31CF07D707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7E290-23C3-454D-AE08-28F6CEDABB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CCF76-3A89-40D4-B026-5B8702BC5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BABFE-F3B5-4F30-AB28-6BB1147160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7E1B9-22E4-4514-B033-871B7EC9B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31D8E-6117-4F9F-860A-BE9F576D4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917A7-8F11-47FA-ACA2-BBF8E78F6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8149A-8109-4575-8219-C22E8E259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D66E6-4731-4C7B-BE40-F1F1C7C62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785A1-11F6-44B7-AB0C-DE629D5D3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35D60-B43F-49D6-9EC1-109E59887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A07AB-E786-4F0C-82CE-D3E00CE3E3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595D5F-3D92-49C4-8245-1D57EACCE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01F63A0-DB7B-4D34-BDEE-BE7518FC68C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9D21642-D794-44A5-A9ED-A736D9E3E2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761C6D3-A23A-48DA-9CCD-A29741F41D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4B826-822E-41CC-834F-901E05834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A535A70-ACD8-417E-A7F3-AC92FA0257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EFB9C62-4624-47DB-BA24-FC0A3214140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0AD5AD3-259C-4A45-AE2A-303DAB0FCD0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65C7096-66E1-4E72-9C30-5B2CF16DF3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748829D-6174-499B-A5DC-CE615B4717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C792A28-8CEF-4E7B-8BD5-A43781A295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A23911D-1570-45F4-98F1-45EBAD8B23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E784063-9DCE-4517-B814-6A9F3FC0A5D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282E7C5-77EA-469D-A12C-A0811D9E6A5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E509C95-63A5-4231-B19D-182689975E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935BC-EE5D-48DB-9315-3177A8064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ED92ED-6C74-4D7C-A1F7-A66061922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6C4345-DD43-455D-A91C-DA26A0500E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070556-236C-42BE-B4B3-C024E8A88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CFF40D-7473-4425-A5C0-7BFEF13B7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5C5BEB-6B94-43D0-BF48-A808B32A76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269DB4-674C-4EB5-9798-FCA14543B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8B2218-9403-442A-8450-0337ADAF1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3E0491-9E05-489B-AD53-0460F2050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86FDA6-D736-45B2-9B31-D9D1D8B34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9F8BFA4-D122-4DD8-AD04-CAD96156AE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CD611-2D51-462F-9A8C-40052C382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9B01E88-A486-408D-88C4-92C90FB187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81EB11F-85F3-4B9B-A9F6-577E88E000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B7D11D2-0168-4DE8-BBD0-29413D96A4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0B1CA1D-EDFA-4B4C-9364-6848883DCA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C88E29-CD48-4BD0-8D19-16E2F8230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E4261EF-5FC1-4451-B745-1C6EEDC39C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18F0459-5FCE-4980-8982-91D1383E8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6D8B2C8-0A09-4CC3-A528-00185B396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F78E4BB-DD4B-49E1-B636-E8DC54224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337EF18-8395-4527-B397-506939DCB9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C4FA-42A1-46B5-B579-2589F215C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B621462-BA30-4A90-9D0E-6E09A388F9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0654056-E398-457F-92B1-644E02A0D5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5FA02A6-F48B-455E-9393-181BB335C5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510C6-0C7D-486F-80AA-E3EAAAD1B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6D70-0B1C-4760-BD62-17FD87855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A6B9-BB26-4FD6-B33F-D0CD79B61B67}"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9869-8F7C-45B8-AE25-67E6D276F5D0}"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1DB5-373D-4073-B5EE-C1C80B97C3F4}"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99C8-9F89-42F7-9230-845C0563519C}"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0546-0E18-497E-A093-DBF88068CD8E}"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75D9-58D4-4D47-8C98-D812C57F6002}"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audio" Target="../media/drumroll.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amera.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Рисунок 9" descr="photo08.jpg"/>
          <p:cNvPicPr/>
          <p:nvPr/>
        </p:nvPicPr>
        <p:blipFill>
          <a:blip r:embed="rId2"/>
          <a:stretch/>
        </p:blipFill>
        <p:spPr>
          <a:xfrm>
            <a:off x="0" y="0"/>
            <a:ext cx="9144000" cy="6858000"/>
          </a:xfrm>
          <a:prstGeom prst="rect">
            <a:avLst/>
          </a:prstGeom>
          <a:ln w="0">
            <a:noFill/>
          </a:ln>
        </p:spPr>
      </p:pic>
      <p:pic>
        <p:nvPicPr>
          <p:cNvPr id="260" name="Заголовок 2" descr=""/>
          <p:cNvPicPr/>
          <p:nvPr/>
        </p:nvPicPr>
        <p:blipFill>
          <a:blip r:embed="rId3"/>
          <a:stretch/>
        </p:blipFill>
        <p:spPr>
          <a:xfrm>
            <a:off x="450720" y="23760"/>
            <a:ext cx="8242560" cy="1354320"/>
          </a:xfrm>
          <a:prstGeom prst="rect">
            <a:avLst/>
          </a:prstGeom>
          <a:ln w="0">
            <a:noFill/>
          </a:ln>
        </p:spPr>
      </p:pic>
      <p:pic>
        <p:nvPicPr>
          <p:cNvPr id="261" name="Содержимое 5" descr="067.jpg"/>
          <p:cNvPicPr/>
          <p:nvPr/>
        </p:nvPicPr>
        <p:blipFill>
          <a:blip r:embed="rId4"/>
          <a:stretch/>
        </p:blipFill>
        <p:spPr>
          <a:xfrm>
            <a:off x="7000920" y="0"/>
            <a:ext cx="2143080" cy="1608120"/>
          </a:xfrm>
          <a:prstGeom prst="rect">
            <a:avLst/>
          </a:prstGeom>
          <a:ln w="0">
            <a:noFill/>
          </a:ln>
        </p:spPr>
      </p:pic>
      <p:pic>
        <p:nvPicPr>
          <p:cNvPr id="262" name="Рисунок 8" descr="05701.jpg"/>
          <p:cNvPicPr/>
          <p:nvPr/>
        </p:nvPicPr>
        <p:blipFill>
          <a:blip r:embed="rId5"/>
          <a:stretch/>
        </p:blipFill>
        <p:spPr>
          <a:xfrm>
            <a:off x="0" y="0"/>
            <a:ext cx="2190600" cy="1643040"/>
          </a:xfrm>
          <a:prstGeom prst="rect">
            <a:avLst/>
          </a:prstGeom>
          <a:ln w="0">
            <a:noFill/>
          </a:ln>
        </p:spPr>
      </p:pic>
    </p:spTree>
  </p:cSld>
  <p:transition spd="slow">
    <p:dissolve/>
    <p:sndAc>
      <p:stSnd>
        <p:snd r:embed="rId6"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Рисунок 10" descr="lion.jpg"/>
          <p:cNvPicPr/>
          <p:nvPr/>
        </p:nvPicPr>
        <p:blipFill>
          <a:blip r:embed="rId2"/>
          <a:stretch/>
        </p:blipFill>
        <p:spPr>
          <a:xfrm>
            <a:off x="6429240" y="142920"/>
            <a:ext cx="2443320" cy="1874880"/>
          </a:xfrm>
          <a:prstGeom prst="rect">
            <a:avLst/>
          </a:prstGeom>
          <a:ln w="0">
            <a:noFill/>
          </a:ln>
        </p:spPr>
      </p:pic>
      <p:sp>
        <p:nvSpPr>
          <p:cNvPr id="264" name=""/>
          <p:cNvSpPr txBox="1"/>
          <p:nvPr/>
        </p:nvSpPr>
        <p:spPr>
          <a:xfrm>
            <a:off x="-360" y="999720"/>
            <a:ext cx="8286840" cy="607212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ЛЕВ (Panthera leo) имеет наиболее своеобразный внешний вид среди кошачьих. Это очень крупный, могучего телосложения зверь. Его самцы достигают в длину 180—240 см, не считая хвоста (60—90 см). Масса льва от 180 до 227 кг. Тело льва мощное, а вместе с тем стройное, можно сказать, поджарое. Голова чрезвычайно массивная, с довольно длинной мордой. Лапы невысокие, очень сильные. Хвост длинный, с кисточкой на конце. Весьма характерна сильно развитая у взрослых самцов длинная грива, покрывающая шею, плечи и грудь, тогда как на всем остальном теле шерсть короткая, буровато-желтая. Грива окрашена значительно темнее. Лев — один из немногих видов хищных зверей, у которых резко выражен половой диморфизм. Он проявляется не только в меньших размерах львиц, но и в отсутствии у них гривы. Еще в VIII — Х вв. львы водились даже на юге Европы, в частности на Кавказе, но ареал этого замечательного зверя неуклонно сокращался. Если раньше он простирался по всей Африке и далее на восток до Индостана, то теперь лев сохранился только в Центральной Африке, а затем, в очень небольшом числе, в индийском штате Гуджарат, в Гирских лесах. Вопреки широко распространенному мнению, лев отнюдь не принадлежит к числу обитателей пустынь. Для него наиболее благоприятны саванны с их открытым ландшафтом, обилием разнообразных копытных животных, наличием водопоев. Последние совершенно необходимы для существования львов. В отличие от других крупных хищников львы встречаются не только в одиночку и парами, но и крупными группами, так называемыми прайдами. В прайд обычно входят 1—2 взрослых самца, несколько взрослых львиц и молодые звери. Всего их может быть 7—10 и больше особей. Однажды в прайде было насчитано даже 30 львов. В дневное время львы преимущественно отдыхают где-либо в тени, а вечером выходят на охоту. Основными добытчиками являются львицы. Добычей им служат различные антилопы, зебры и другие копытные средней величины, вплоть до молодых слонов, носорогов, бегемотов, а также домашнего скота. Лев ест падаль и всевозможных мелких животных (даже мышевидных грызунов). При охоте на крупную дичь хищник сперва осторожно подкрадывается к намеченной жертве, затем настигает ее несколькими огромными молниеносными прыжками и убивает с помощью своих могучих, вооруженных большими, острыми когтями лап и мощных зубов, способных раздробить любую кость. Насытившись, львы утоляют жажду и ложатся отдыхать. Считается, что прайд из четырех львов ограничивается одной достаточно успешной охотой в неделю. Отдельные, обычно больные или одряхлевшие звери, неспособные охотиться на копытных, могут пристраститься к нападениям на людей. Период спаривания у львов не приурочен к определенному времени года, вследствие чего одновременно можно наблюдать львиц со львятами самого разного возраста. Спаривание сопровождается кровавыми столкновениями самцов, иногда приводящими к гибели конкурентов. Беременность самки длится от 105 до 112 дней. В выводке чаще всего бывает 3 львенка, реже — 2, 4 или 5. Логовом им служит пещера, расщелина или яма, расположенная в труднодоступном месте. Новорожденные очень малы, около 30 см в длину, пятнистой окраски, которая потом заменяется одноцветной. Впрочем, иногда пятнистый рисунок сохраняется очень долго, когда уже имеется грива, а у отдельных животных остается на всю жизнь. Половая зрелость наступает на четвертом году, но самцы достигают полного развития в 6 лет. В неволе львы доживают до 20—30 лет. Иногда в природе происходит скрещивание льва и леопарда, однако рождающиеся при этом пятнистые гибриды неплодовиты. Лев считается в народном поверье «царём зверей».</a:t>
            </a:r>
            <a:endParaRPr b="0" lang="en-US" sz="1200" spc="-1" strike="noStrike">
              <a:solidFill>
                <a:srgbClr val="ffffff"/>
              </a:solidFill>
              <a:latin typeface="Constantia"/>
            </a:endParaRPr>
          </a:p>
        </p:txBody>
      </p:sp>
      <p:pic>
        <p:nvPicPr>
          <p:cNvPr id="265" name="Заголовок 3" descr=""/>
          <p:cNvPicPr/>
          <p:nvPr/>
        </p:nvPicPr>
        <p:blipFill>
          <a:blip r:embed="rId3"/>
          <a:stretch/>
        </p:blipFill>
        <p:spPr>
          <a:xfrm>
            <a:off x="219240" y="146160"/>
            <a:ext cx="8291520" cy="933480"/>
          </a:xfrm>
          <a:prstGeom prst="rect">
            <a:avLst/>
          </a:prstGeom>
          <a:ln w="0">
            <a:noFill/>
          </a:ln>
        </p:spPr>
      </p:pic>
    </p:spTree>
  </p:cSld>
  <p:transition spd="slow">
    <p:wedge/>
    <p:sndAc>
      <p:stSnd>
        <p:snd r:embed="rId4"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Рисунок 3" descr="59290_6_1176455598_17964.jpg"/>
          <p:cNvPicPr/>
          <p:nvPr/>
        </p:nvPicPr>
        <p:blipFill>
          <a:blip r:embed="rId2"/>
          <a:stretch/>
        </p:blipFill>
        <p:spPr>
          <a:xfrm>
            <a:off x="7358040" y="214200"/>
            <a:ext cx="1500120" cy="2286000"/>
          </a:xfrm>
          <a:prstGeom prst="rect">
            <a:avLst/>
          </a:prstGeom>
          <a:ln w="0">
            <a:noFill/>
          </a:ln>
        </p:spPr>
      </p:pic>
      <p:sp>
        <p:nvSpPr>
          <p:cNvPr id="267" name=""/>
          <p:cNvSpPr txBox="1"/>
          <p:nvPr/>
        </p:nvSpPr>
        <p:spPr>
          <a:xfrm>
            <a:off x="0" y="1000080"/>
            <a:ext cx="9144000" cy="5857920"/>
          </a:xfrm>
          <a:prstGeom prst="rect">
            <a:avLst/>
          </a:prstGeom>
          <a:noFill/>
          <a:ln w="0">
            <a:noFill/>
          </a:ln>
        </p:spPr>
        <p:txBody>
          <a:bodyPr lIns="90000" rIns="90000" tIns="46800" bIns="46800" anchor="t">
            <a:normAutofit fontScale="96000"/>
          </a:bodyPr>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уйволы — одни из самых крупных животных на Земле. Они бывают дикие и домашние. Дикие буйволы обитают в теплых странах. </a:t>
            </a:r>
            <a:endParaRPr b="0" lang="en-US" sz="12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а юге Азии, в заболоченных джунглях и в долинах рек, заросших кустарником, живет азиатский, или индийский, буйвол. Высота его достигает почти 2 м, а масса — одной тонны. Грузное туловище поставлено на короткие сильные ноги. Широкую голову украшают огромные, 2-метровые рога, загнутые назад. Длинный хвост с кисточкой на конце. Таким хвостом очень удобно отгонять насекомых. Тело покрыто редкой грубой черно-бурой шерстью. Кожа у буйвола очень толстая и прочная. Недаром говорят, когда имеют в виду что-то очень прочное: как буйволова кожа. </a:t>
            </a:r>
            <a:endParaRPr b="0" lang="en-US" sz="12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 сразу можно поверить, что тяжеловесный африканский буйвол проворен и быстр. Но это действительно так. На бегу буйвол развивает скорость до 57 км/ч. Взрослые самцы, живущие в одиночку, предпочитают индивидуальный участок, к которому очень привязаны. Если в пределы участка заходит стадо посторонних буйволов, владелец не проявляет агрессивности, а примыкает к нему и даже играет роль вожака. Однако, когда стадо уходит, он снова остается на участке. Буйволы живут обычно рядом с водоемами. Питаются растениями. Очень любят и прибрежные травы. Пасутся они обычно ночью. А весь день спасаются от жары в жидкой прохладной грязи болот. Азиатские буйволы собираются в небольшие стада. Так им легче защищаться от врагов. А враг буйвола в джунглях — тигр, который нападает обычно на молодых, отбившихся от стада животных. Когда же буйволы выставляют навстречу тигру свои огромные рога и преследуют его сомкнутым строем, то полосатому хищнику приходится нелегко. </a:t>
            </a:r>
            <a:endParaRPr b="0" lang="en-US" sz="12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Африке водится африканский, или кафрский, буйвол. Он живет в саваннах, тропических лесах. Обитает и в горах. Однако везде живет вблизи водоемов и рек. Питается, так же как и его азиатский сородич, травой, редко ест ветки и листья деревьев. Днем отдыхает в тени или лежит в воде. Пасется тоже ночью. На Африканском континенте есть два типа буйволов. Буйволы саванн почти такие же крупные, как и индийские буйволы. Кожа у них черная или чернобурая, почти не прикрыта шерстью. Лесные же буйволы мельче, тело их покрыто ярко-рыжей шерстью, рога небольшие. Африканские буйволы также живут небольшими стадами. Старые животные держатся в одиночку или парами. Буйволы очень осторожны, хотя врагов у них немного. Только львы могут напасть на молодых и слабых животных. Изредка на отставший от стада молодняк нападают леопарды. Однако известно немало случаев, когда дружное стадо буйволов обращало львов в бегство. Со своими соседями носорогами буйволы живут в мире. </a:t>
            </a:r>
            <a:endParaRPr b="0" lang="en-US" sz="12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еловек давно охотится на диких буйволов, У этих животных вкусное мясо и прочная кожа. Раньше из буйволовой кожи делали боевые щиты. Охотники обычно рассказывали о коварстве буйволов, их свирепости и хитрости. В Индонезии, на острове Сулавеси, живет карликовый буйвол, или аноа. Представьте себе маленькую корову, чуть выше барана, с короткими, но стройными ногами и массивным туловищем. Морда у аноа удлиненная, уши длинные и широкие. Рога почти прямые, длиной до 40 см. Аноа ведут такой же образ жизни, как и другие буйволы. И характер у них такой же строптивый. Только живут они чаще в одиночку или парами. Аноа осталось очень мало на Земле. Поэтому карликовый буйвол занесен в Международную Красную книгу, его нужно охранять. Аноа разводят в зоопарках. Люди приручили дикого буйвола очень давно, несколько тысяч лет назад. Домашние буйволы — важнейшие сельскохозяйственные животные тропиков. Их разводят в Азии, Африке. </a:t>
            </a:r>
            <a:endParaRPr b="0" lang="en-US" sz="12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Заголовок 2" descr=""/>
          <p:cNvPicPr/>
          <p:nvPr/>
        </p:nvPicPr>
        <p:blipFill>
          <a:blip r:embed="rId3"/>
          <a:stretch/>
        </p:blipFill>
        <p:spPr>
          <a:xfrm>
            <a:off x="255600" y="85680"/>
            <a:ext cx="8437680" cy="779400"/>
          </a:xfrm>
          <a:prstGeom prst="rect">
            <a:avLst/>
          </a:prstGeom>
          <a:ln w="0">
            <a:noFill/>
          </a:ln>
        </p:spPr>
      </p:pic>
    </p:spTree>
  </p:cSld>
  <p:transition spd="slow">
    <p:wedge/>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Рисунок 3" descr="800px-Jaguar_tier_2.jpg"/>
          <p:cNvPicPr/>
          <p:nvPr/>
        </p:nvPicPr>
        <p:blipFill>
          <a:blip r:embed="rId2"/>
          <a:stretch/>
        </p:blipFill>
        <p:spPr>
          <a:xfrm>
            <a:off x="5500800" y="285840"/>
            <a:ext cx="2928960" cy="1958760"/>
          </a:xfrm>
          <a:prstGeom prst="rect">
            <a:avLst/>
          </a:prstGeom>
          <a:ln w="0">
            <a:noFill/>
          </a:ln>
        </p:spPr>
      </p:pic>
      <p:sp>
        <p:nvSpPr>
          <p:cNvPr id="270" name=""/>
          <p:cNvSpPr txBox="1"/>
          <p:nvPr/>
        </p:nvSpPr>
        <p:spPr>
          <a:xfrm>
            <a:off x="428760" y="1500120"/>
            <a:ext cx="8229600" cy="457200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ЯГУАР (Panthera onca) представитель группы крупных кошек в фауне Северной и Южной Америки. Он несколько крупнее леопарда: тело равно 150—180 см, хвост — 70—91 см, масса — 68—136 кг. Тело ягуара более коренастое, массивное, хвост и ноги относительно короче, чем у леопарда, и скорее он походит на тигра. Ягуар распространен почти по всей Южной и Центральной Америке и на юге Северной Америки. Для него наиболее характерны дремучие тропические леса, в меньшей мере — засушливые заросли кустарников. Иногда ягуары появляются даже в пампасах. Они ведут бродячую жизнь и нередко преодолевают широкие реки, так как отлично, а главное, охотно плавают. Добычей ягуару служат олени, пекари, агути, водосвинки. Он нападает на крупных тапиров, когда те приходят на водопой, похищает собак и домашний скот, ловит аллигаторов, черепах, рыбу, мелких животных. Размножаются ягуары круглый год. Беременность длится 100 — 110 дней. В выводке насчитывается до 4 детенышей. Растут они быстро, но половой зрелости достигают в три года.</a:t>
            </a:r>
            <a:endParaRPr b="0" lang="en-US" sz="1800" spc="-1" strike="noStrike">
              <a:solidFill>
                <a:srgbClr val="ffffff"/>
              </a:solidFill>
              <a:latin typeface="Constantia"/>
            </a:endParaRPr>
          </a:p>
        </p:txBody>
      </p:sp>
      <p:pic>
        <p:nvPicPr>
          <p:cNvPr id="271" name="Заголовок 2" descr=""/>
          <p:cNvPicPr/>
          <p:nvPr/>
        </p:nvPicPr>
        <p:blipFill>
          <a:blip r:embed="rId3"/>
          <a:stretch/>
        </p:blipFill>
        <p:spPr>
          <a:xfrm>
            <a:off x="353880" y="-66600"/>
            <a:ext cx="8339400" cy="1359000"/>
          </a:xfrm>
          <a:prstGeom prst="rect">
            <a:avLst/>
          </a:prstGeom>
          <a:ln w="0">
            <a:noFill/>
          </a:ln>
        </p:spPr>
      </p:pic>
    </p:spTree>
  </p:cSld>
  <p:transition spd="slow">
    <p:wedge/>
    <p:sndAc>
      <p:stSnd>
        <p:snd r:embed="rId4"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Рисунок 3" descr="0275_302.jpg"/>
          <p:cNvPicPr/>
          <p:nvPr/>
        </p:nvPicPr>
        <p:blipFill>
          <a:blip r:embed="rId2"/>
          <a:stretch/>
        </p:blipFill>
        <p:spPr>
          <a:xfrm>
            <a:off x="6357960" y="285840"/>
            <a:ext cx="2503440" cy="1643040"/>
          </a:xfrm>
          <a:prstGeom prst="rect">
            <a:avLst/>
          </a:prstGeom>
          <a:ln w="0">
            <a:noFill/>
          </a:ln>
        </p:spPr>
      </p:pic>
      <p:sp>
        <p:nvSpPr>
          <p:cNvPr id="273" name=""/>
          <p:cNvSpPr txBox="1"/>
          <p:nvPr/>
        </p:nvSpPr>
        <p:spPr>
          <a:xfrm>
            <a:off x="0" y="1285920"/>
            <a:ext cx="9144000" cy="557208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onstantia"/>
              </a:rPr>
              <a:t>самый крупный современный зверь семейства кошачьих (отряд хищных). Характерный внешний признак – шкура с контрастными черными или бурыми вертикальными полосами на красновато-оранжевом или рыжевато-желтом фоне. Нижняя часть тела обычно белая или кремовая. Хорошо известны белые тигры – полуальбиносы с коричневыми полосами на белом фоне и голубыми  глазами, но настоящие альбиносы с разовыми глазами и полосами, различимыми только при особом освещении, очень редки. </a:t>
            </a:r>
            <a:endParaRPr b="0" lang="en-US" sz="1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onstantia"/>
              </a:rPr>
              <a:t>Тигр – вид исключительно азиатский. Он сформировался на севере Китая в начале плейстоцена, т.е. примерно 2 млн. лет назад. Еще в конце прошлого века тигры водились от востока Турции и севера Ирана до Ост-Индии и юго-востока Сибири. Сейчас на большей части этого ареала они истреблены, а там, где остались, как правило редки, хотя относительно крупные популяции сохранились в Индии, Непале и Малайзии. Общее поголовье вида в природе оценивается в 4000–6500 особей. </a:t>
            </a:r>
            <a:endParaRPr b="0" lang="en-US" sz="1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onstantia"/>
              </a:rPr>
              <a:t>Тигры населяют различные местообитания, включая мангровые болота и бамбуковые чащи в тропиках, густые закустаренные леса в более прохладных областях, голые каменистые сопки и тайгу на севере. В горах они поднимаются выше 3000 м над у.м. В зависимости от местообитания, обилия добычи и пола тигра индивидуальный участок взрослого зверя занимает от 200 до 3000 км2. </a:t>
            </a:r>
            <a:endParaRPr b="0" lang="en-US" sz="1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onstantia"/>
              </a:rPr>
              <a:t>Охотятся тигры в основном на крупных млекопитающих, например кабанов, оленей, антилоп, буйволов, гауров и тапиров, но едят также птиц, лягушек и других мелких животных. В Манчжурии и Сибири они регулярно нападают на бурых и гималайских медведей. Довольно часто их добычей становится домашний скот, но человеческие жертвы сейчас очень редки. </a:t>
            </a:r>
            <a:endParaRPr b="0" lang="en-US" sz="1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onstantia"/>
              </a:rPr>
              <a:t>Тигр может одним прыжком покрыть 9 м, но старается подкрасться как можно ближе и одним ударом сбить жертву с ног. Крупным зверям он обычно перекусывает клыками глотку и не отпускает, пока они не задохнутся; мелким тигр обычно перегрызает сверху шею. </a:t>
            </a:r>
            <a:endParaRPr b="0" lang="en-US" sz="1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onstantia"/>
              </a:rPr>
              <a:t>Тигрицы мельче самцов, а северные животные намного крупнее южных. Самым мелким подвидом был уже вымерший балийский – самки его весили всего 65 кг. Самые крупные тигры – амурские: масса самцов превышает 300 кг. Длина тела без хвоста (с учетом недавно вымерших популяций) колеблется от 1,3 у самок до 2,3 м у самцов; хвост примерно втрое короче. Высота в холке от 0,6 у самок до 1,1 м у самцов. На передних лапах по 5 пальцев, на задних – по четыре, все с втяжными когтями. Диплоидное число хромосом – 38.</a:t>
            </a:r>
            <a:endParaRPr b="0" lang="en-US" sz="1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onstantia"/>
              </a:rPr>
              <a:t>Если не считать короткого брачного сезона и периода ухода матери за потомством, тигры ведут одиночный образ жизни. Спаривание происходит без определенного графика, но чаще зимой. Беременность длится 102–106 дней, а в помете обычно от одного до четырех тигрят. Рожает тигрица, как правило, раз в два года. Половая зрелость наступает в возрасте 3–4 лет у самок и 4–5 лет у самцов, хотя в зоопарках допускают к размножению и двухлетних животных. В неволе тигры живут до 26 лет; в природе, по-видимому, столько же. </a:t>
            </a:r>
            <a:endParaRPr b="0" lang="en-US" sz="1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onstantia"/>
              </a:rPr>
              <a:t>Выделено 8 подвидов тигра: бенгальский, или индийский (P. t. tigris), ныне вымерший туранский (P. t. virgata) из Западной Азии, индокитайский (P. t. corbetti), китайский (P. t. amoyensis), от которого осталось всего ок. 30 особей, амурский (P. t. altaica), суматранский (P. t. sumatrae), вымершие яванский (P. t. sondaica) и балийский (P. t. balica).</a:t>
            </a:r>
            <a:endParaRPr b="0" lang="en-US" sz="1000" spc="-1" strike="noStrike">
              <a:solidFill>
                <a:srgbClr val="ffffff"/>
              </a:solidFill>
              <a:latin typeface="Constantia"/>
            </a:endParaRPr>
          </a:p>
        </p:txBody>
      </p:sp>
      <p:pic>
        <p:nvPicPr>
          <p:cNvPr id="274" name="Заголовок 2" descr=""/>
          <p:cNvPicPr/>
          <p:nvPr/>
        </p:nvPicPr>
        <p:blipFill>
          <a:blip r:embed="rId3"/>
          <a:stretch/>
        </p:blipFill>
        <p:spPr>
          <a:xfrm>
            <a:off x="255600" y="12600"/>
            <a:ext cx="8437680" cy="779400"/>
          </a:xfrm>
          <a:prstGeom prst="rect">
            <a:avLst/>
          </a:prstGeom>
          <a:ln w="0">
            <a:noFill/>
          </a:ln>
        </p:spPr>
      </p:pic>
    </p:spTree>
  </p:cSld>
  <p:transition spd="slow">
    <p:wedge/>
    <p:sndAc>
      <p:stSnd>
        <p:snd r:embed="rId4"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Рисунок 4" descr="0230_301.jpg"/>
          <p:cNvPicPr/>
          <p:nvPr/>
        </p:nvPicPr>
        <p:blipFill>
          <a:blip r:embed="rId2"/>
          <a:stretch/>
        </p:blipFill>
        <p:spPr>
          <a:xfrm>
            <a:off x="6886440" y="285840"/>
            <a:ext cx="1917720" cy="1428840"/>
          </a:xfrm>
          <a:prstGeom prst="rect">
            <a:avLst/>
          </a:prstGeom>
          <a:ln w="0">
            <a:noFill/>
          </a:ln>
        </p:spPr>
      </p:pic>
      <p:sp>
        <p:nvSpPr>
          <p:cNvPr id="276" name=""/>
          <p:cNvSpPr txBox="1"/>
          <p:nvPr/>
        </p:nvSpPr>
        <p:spPr>
          <a:xfrm>
            <a:off x="0" y="1213920"/>
            <a:ext cx="9144000" cy="5643720"/>
          </a:xfrm>
          <a:prstGeom prst="rect">
            <a:avLst/>
          </a:prstGeom>
          <a:noFill/>
          <a:ln w="0">
            <a:noFill/>
          </a:ln>
        </p:spPr>
        <p:txBody>
          <a:bodyPr lIns="90000" rIns="90000" tIns="46800" bIns="46800" anchor="t">
            <a:normAutofit fontScale="96000"/>
          </a:bodyPr>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ЛЕОПАРД, барс (Panthera pardus), крупный хищник семейства кошачьих, обитающий на большей части Африки к югу от Сахары и в отдельных районах Азии – от Израиля до Индонезии, юго-востока Сибири и Кореи. Когда-то этот зверь был широко распространен и в Европе, но вымер там к концу плейстоцена, ок. 10 000 лет назад. Древнейшие известные остатки леопарда, найденные в Индии и Южной Африке, датируются поздним плиоценом (примерно 2 млн. лет). </a:t>
            </a:r>
            <a:endParaRPr b="0" lang="en-US" sz="14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Для леопарда характерны мелкие и средние черные пятна и розетки (круги или группы пятен) по фону, цвет которого варьирует от бледно-соломенного или серого до ржаво-бурого. Нижние части и внутренние стороны ног белые. В тропиках встречаются звери-меланисты, называемые черными пантерами. Если присмотреться, на них можно различить типичный узор в виде пятен более насыщенного цвета. </a:t>
            </a:r>
            <a:endParaRPr b="0" lang="en-US" sz="14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Размеры леопардов зависят от географической области и сильно варьируют, но в среднем самцы крупнее самок. Максимальная длина тела леопарда без хвоста 1,8 м, а масса 90 кг, но у среднего самца в Южной Африке длина 1,4 м (плюс хвост 78 см), высота в холке 75 см, а масса 60 кг. </a:t>
            </a:r>
            <a:endParaRPr b="0" lang="en-US" sz="14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Леопарды легко приспосабливаются и живут в тропических лесах, горах и даже пустынях, причем площадь индивидуального участка варьирует от 8 до 400 кв.км в зависимости от региона, рельефа и обилия добычи. Это звери преимущественно ночные, но могут охотиться в любое время суток. Предпочтение отдают парнокопытным средних размеров, например импале в Африке или пятнистому оленю в Азии, но нападают также на обезьян, грызунов и птиц, домашних коз и овец, собак, изредка даже на людей, не брезгуют падалью и крадут добычу у других хищников, в том числе у своих собратьев – леопардов. Часто леопарды прячут недоеденные туши на деревьях, чтобы их не нашли гиены, львы и тигры. </a:t>
            </a:r>
            <a:endParaRPr b="0" lang="en-US" sz="14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Размножаются леопарды круглый год. Беременность длится 98–106 дней, рождается обычно от одного до трех детенышей. Они сосут мать примерно 100 дней, но начинают есть мясо уже с 70-дневного возраста. Примерно в 10 месяцев молодые в первый раз отправляются с матерью на охоту, а вскоре после этого начинают самостоятельно убивать добычу. Половая зрелость наступает в возрасте 2,5–4 года; живут леопарды 10–11 лет в природе и до 21 года в неволе. </a:t>
            </a:r>
            <a:endParaRPr b="0" lang="en-US" sz="14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По всему ареалу леопард охраняется и внесен в международную Красную книгу; главная угроза для него связана с изменением естественных местообитаний и сокращением кормовой базы. Торговля леопардовыми шкурами, когда-то представлявшая собой серьезную проблему, сейчас отошла на второй план, и главную озабоченность вызывает браконьерский отстрел животных для нужд восточной медицины. Выживание вида могут гарантировать только крупные заповедники.</a:t>
            </a:r>
            <a:endParaRPr b="0" lang="en-US" sz="1400" spc="-1" strike="noStrike">
              <a:solidFill>
                <a:srgbClr val="ffffff"/>
              </a:solidFill>
              <a:latin typeface="Constantia"/>
            </a:endParaRPr>
          </a:p>
        </p:txBody>
      </p:sp>
      <p:pic>
        <p:nvPicPr>
          <p:cNvPr id="277" name="Заголовок 2" descr=""/>
          <p:cNvPicPr/>
          <p:nvPr/>
        </p:nvPicPr>
        <p:blipFill>
          <a:blip r:embed="rId3"/>
          <a:stretch/>
        </p:blipFill>
        <p:spPr>
          <a:xfrm>
            <a:off x="255600" y="-55440"/>
            <a:ext cx="8437680" cy="774720"/>
          </a:xfrm>
          <a:prstGeom prst="rect">
            <a:avLst/>
          </a:prstGeom>
          <a:ln w="0">
            <a:noFill/>
          </a:ln>
        </p:spPr>
      </p:pic>
    </p:spTree>
  </p:cSld>
  <p:transition spd="slow">
    <p:wedge/>
    <p:sndAc>
      <p:stSnd>
        <p:snd r:embed="rId4"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2-03-05T13:25:46Z</dcterms:modified>
  <cp:revision>14</cp:revision>
  <dc:subject/>
  <dc:title>Слайд 1</dc:title>
</cp:coreProperties>
</file>