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58F-AD2A-4E59-A7EE-B281270C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6AF-AF2E-43D2-A423-A52B0ADC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398-7374-449A-8D99-13DD039D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7DD-8BF6-4B24-886C-3DF7340E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EE9-ACD4-47D2-A504-6D20EBD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5D5-7AC3-47A3-A3D5-0B67AA9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A06-B13C-4C76-9B1B-9966E778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FED-9D58-459D-B0D7-6138FD7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B5B-5E02-4815-AB9B-55F2E572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7B2-C06F-40D1-B645-5AE93332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DBE-9774-4B34-BC36-1017FB99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8EA-FF6B-45AB-82F0-F0E44B84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105-DD28-46A7-8B92-31847989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оединенные Штаты Амер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1628280"/>
            <a:ext cx="4788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ая Ам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еление 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 8 клас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(коррекционная) школ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6216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еголихина Мари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СОШ №30 специальные (коррекционные) классы г. Пен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Промышлен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59500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легкая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800160" cy="48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59280" y="1052640"/>
            <a:ext cx="5688000" cy="426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08360" y="2133720"/>
            <a:ext cx="5064120" cy="3801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547640" y="1052640"/>
            <a:ext cx="65516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Промышлен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877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пищевая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632040" cy="468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076640" cy="3200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32000" y="2349360"/>
            <a:ext cx="6119640" cy="2104920"/>
          </a:xfrm>
          <a:prstGeom prst="rect">
            <a:avLst/>
          </a:prstGeom>
          <a:solidFill>
            <a:srgbClr val="33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Что производ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Сельское хозяйст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5040360" cy="3803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671640" cy="489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Сельское хозяйст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5256000" cy="394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5040000" cy="3943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Крупные горо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398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1197000"/>
            <a:ext cx="46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Нью-Йорк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Лос-Анджелес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Чикаго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Хьюстон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Филадельфия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Феникс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Даллас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Детройт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Сан-Францис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1916280"/>
            <a:ext cx="6120000" cy="3110400"/>
          </a:xfrm>
          <a:prstGeom prst="rect">
            <a:avLst/>
          </a:prstGeom>
          <a:solidFill>
            <a:srgbClr val="33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Назовите крупные города СШ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480360" cy="448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4816440"/>
            <a:ext cx="856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Капитолий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- самое высокое здание американской столицы, ни одно здание в Вашингтоне не должно превышать его по высоте. (Вашингто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802640" cy="5851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Белый дом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(Вашингт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29600" cy="5523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Пентагон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(Вашингт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Бруклинский мост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(Нью-Йор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296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5508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Статуя Свободы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(Нью-Йор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Государство –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580000" cy="380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72000" y="4365720"/>
            <a:ext cx="547200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Столица – Вашингтон</a:t>
            </a:r>
            <a:br>
              <a:rPr sz="3200"/>
            </a:b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Население – американцы Язык - англи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16720" y="2637000"/>
            <a:ext cx="1762200" cy="2187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19640" y="2421000"/>
            <a:ext cx="1512720" cy="431640"/>
          </a:xfrm>
          <a:prstGeom prst="wedgeRectCallout">
            <a:avLst>
              <a:gd name="adj1" fmla="val 41500"/>
              <a:gd name="adj2" fmla="val 10404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шинг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306864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281480" cy="5707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Штаб-квартира ООН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(Нью-Йор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27306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6912000" cy="5189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ff66"/>
                </a:solidFill>
                <a:uFillTx/>
                <a:latin typeface="Arial"/>
              </a:rPr>
              <a:t>Диснейленд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(Орланд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5729400"/>
            <a:ext cx="8642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Мост «Золотые ворота»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               (Сан-Францис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5504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5729400"/>
            <a:ext cx="8642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Ниагарский водопад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                      (граница США и Кана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561440" cy="5004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021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Голлив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559640" cy="5031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5667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ff66"/>
                </a:solidFill>
                <a:uFillTx/>
                <a:latin typeface="Arial"/>
              </a:rPr>
              <a:t>Национальный парк                   Большой Кань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3280" y="1844640"/>
            <a:ext cx="6120000" cy="3110400"/>
          </a:xfrm>
          <a:prstGeom prst="rect">
            <a:avLst/>
          </a:prstGeom>
          <a:solidFill>
            <a:srgbClr val="33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Назовите известных людей СШ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1341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Джордж Вашингтон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781360"/>
            <a:ext cx="288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государственный деятель, главнокомандующий американской армией во время Войны за независимость в Северной Америке, первый президент СШ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4437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1341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Авраам Линкольн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781360"/>
            <a:ext cx="2881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государственный деятель, 16-й президент США, освободитель американских рабов, национальный герой американского наро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460836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1341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Франклин Рузвельт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781360"/>
            <a:ext cx="28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политик, 32-й президент США, возглавлявший страну во время Второй Мировой войны.</a:t>
            </a: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46656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472000" cy="54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Гранич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234936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Кан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805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Мекс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700360" y="573408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724360" y="2708280"/>
            <a:ext cx="122400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1341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Марк Твен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133720"/>
            <a:ext cx="288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писатель, величайший американский юморист своего времен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46879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1341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Джек Лондон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133720"/>
            <a:ext cx="28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писатель, общественный деятель, автор приключенческих рассказов и рома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42973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1484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Томас Эдисон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220500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всемирно известный изобретатель и предприниматель, усовершенствовал телеграф, телефон, разработал один из первых вариантов электрической лампы накаливания, построил первые электровозы, положил начало электронике. Именно он предложил использовать в начале телефонного разговора слово «алло».</a:t>
            </a: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500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6360" y="1341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Генри Форд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213372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промышленник, владелец заводов по производству автомобилей по всему миру. Его автомобилестроительная компания существует и по сей ден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41749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5256360" cy="5135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256360" y="1341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Стив Джобс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13372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предприниматель и изобретатель, основатель компании 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Известные лю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1341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Билл Гейтс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5952960" cy="3972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651640" y="21337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предприниматель и общественный деятель, основатель компании Microsof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5564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1844640"/>
            <a:ext cx="7704000" cy="3110400"/>
          </a:xfrm>
          <a:prstGeom prst="rect">
            <a:avLst/>
          </a:prstGeom>
          <a:solidFill>
            <a:srgbClr val="33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Что запомнилось больше всег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Полезные ископаем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55736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197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каменный у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1916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бурый у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2637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357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железные ру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981000"/>
            <a:ext cx="4968720" cy="4123440"/>
          </a:xfrm>
          <a:prstGeom prst="rect">
            <a:avLst/>
          </a:prstGeom>
          <a:solidFill>
            <a:srgbClr val="ccff6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1197000"/>
            <a:ext cx="57600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916280"/>
            <a:ext cx="576000" cy="574560"/>
          </a:xfrm>
          <a:prstGeom prst="rect">
            <a:avLst/>
          </a:prstGeom>
          <a:blipFill rotWithShape="0">
            <a:blip r:embed="rId1">
              <a:alphaModFix amt="48000"/>
            </a:blip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1042560" y="2637000"/>
            <a:ext cx="358920" cy="576000"/>
          </a:xfrm>
          <a:custGeom>
            <a:avLst/>
            <a:gdLst>
              <a:gd name="textAreaLeft" fmla="*/ 78840 w 358920"/>
              <a:gd name="textAreaRight" fmla="*/ 280080 w 35892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357720"/>
            <a:ext cx="576000" cy="57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4221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медные ру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4437000"/>
            <a:ext cx="576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35640" y="3357720"/>
            <a:ext cx="32558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8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6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Промышлен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129440" cy="5496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95640" y="5877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добывающая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Промышлен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5950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металлургия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6985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Промышлен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59500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машиностроение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340000" y="1052640"/>
            <a:ext cx="6337440" cy="4216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050920" y="1052640"/>
            <a:ext cx="6697800" cy="5024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24000" y="1052640"/>
            <a:ext cx="5256000" cy="5051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32000" y="2349360"/>
            <a:ext cx="6119640" cy="3110400"/>
          </a:xfrm>
          <a:prstGeom prst="rect">
            <a:avLst/>
          </a:prstGeom>
          <a:solidFill>
            <a:srgbClr val="33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Какие еще машины производя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Промышлен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5877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химическая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553080" cy="4843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47640" y="1916280"/>
            <a:ext cx="6120000" cy="2104920"/>
          </a:xfrm>
          <a:prstGeom prst="rect">
            <a:avLst/>
          </a:prstGeom>
          <a:solidFill>
            <a:srgbClr val="33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Что производ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1c"/>
            </a:gs>
            <a:gs pos="50000">
              <a:srgbClr val="333399"/>
            </a:gs>
            <a:gs pos="100000">
              <a:srgbClr val="09091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66"/>
                </a:solidFill>
                <a:latin typeface="Arial"/>
              </a:rPr>
              <a:t>Промышлен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5877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деревообрабатывающая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719600" cy="496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1557360"/>
            <a:ext cx="7775280" cy="4115880"/>
          </a:xfrm>
          <a:prstGeom prst="rect">
            <a:avLst/>
          </a:prstGeom>
          <a:solidFill>
            <a:srgbClr val="3366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Что производится после обработки древесины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2:06:27Z</dcterms:created>
  <dc:creator>Марина</dc:creator>
  <dc:description/>
  <dc:language>en-US</dc:language>
  <cp:lastModifiedBy>Марина</cp:lastModifiedBy>
  <dcterms:modified xsi:type="dcterms:W3CDTF">2012-03-05T16:49:53Z</dcterms:modified>
  <cp:revision>18</cp:revision>
  <dc:subject/>
  <dc:title>Соединенные Штаты Америки</dc:title>
</cp:coreProperties>
</file>