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A7C-4156-412D-88F2-AC550354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D58-E1D1-432A-A465-88E48DD0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020-F75E-4493-BF7C-0EA5B90A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9ED-6EC9-49BD-88E1-38C9112A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BBBD2-18AD-4941-8D8E-7EAF5A46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2B9BE-68FF-4C13-93DC-AD6367E5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9A630-A9CD-448F-9073-0FB65A04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7D88F-B4B6-4905-8388-FED9BF7A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7E525-43AF-4716-B7C2-22848BCC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75923-2520-4438-A682-8E9C7437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F0355-082B-485B-A067-AAE34ACA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9F2-D2F6-4A4D-A198-AEA33197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351B2-269D-4E3A-8370-FDC20F1D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6BBC2-F871-404F-9939-F223FB38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6307A-2F68-47FE-8D26-E9DE065E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911CB-BDAD-40AE-A0AA-2754E878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3C1C8-8572-42C4-B934-15FC34B1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0297C-FFAA-4D4F-BD52-428C83DC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120A9-97F7-4D51-8EC7-2854EDCB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1CBA0-FEB9-46D8-9094-667A37E0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7FDDC-740F-4D0D-93A8-6369D91B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118FC-F62D-4733-B6E3-25043C4D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9F0-CFD9-4133-9113-BC80D3E6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BA82D-CD6A-4EFA-A6E6-2AB63ACE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C94DF-CF25-459A-8146-BD4F5809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6998C-BCBD-4537-9CF5-5C32B4AF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F43C5-ECB1-45EA-829A-AA58F8A7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69C32-A1B7-4063-9E85-65CD4BC6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EA447-B542-4EA8-A463-FDD73E04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9AE2C-551F-4E7A-BE94-1A345C41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20BC5-017A-4623-A6E2-392A7DB1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27F749-BD02-4363-8199-77622A99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60E5FB-63F0-41DC-803E-11B44F2E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1B6-F9BC-49AE-906E-93E479E5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D3555B-E57D-4BAF-A853-00D4EC2E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C4ECA8-5ADC-4BBB-8CE0-CB42CFDA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F8071-5BEC-42A6-8CD3-F83BA7EE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B91374-02DC-4A29-A367-5E2D5F06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52589B-4769-4284-9059-409BCE34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9BE6D3-31C9-4336-95D9-61FDDFA3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AC7FA7-2B25-4F82-883A-62EDFEFC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88B2FC-D44A-494C-8B2C-B83E1A99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1B9B83-1278-4132-AE26-6475B995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46E67-8228-44D8-994B-990BDA3C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F52-9548-4B00-B604-23CE9037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046294-FE71-4FA1-8008-01306A37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B80255-CB6E-40E3-8D0E-7AB53BAE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24664F-3F50-457C-8256-9E52357B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CB14A8-00BD-4618-8BEA-84D6DC7C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47CF6-2CF1-4DF0-9FEC-B8293C2A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0DB795-1D2A-4798-A63A-DF1F97F5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76A5E-57DB-4951-9D10-9EB5881B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73346-2AF7-4DAF-8533-B2D4AB76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ABCC7-78E4-405C-876C-06A93844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5866E-881F-49ED-A540-E9AA985A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657-E1FC-4978-A051-46892DE0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E1B059-4F12-427B-8341-4A895BAC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6FA4EB-B2B6-436E-8EFA-52FD7FF8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65619-E092-4FEE-9B7C-5357ED36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3C1476-ED9B-4897-8AB1-29275D00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0B8093-DD0C-4DDA-8142-D6868714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633BFE-FFFE-4B40-B3F5-72E71DF4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4998C6-6FA8-4786-A161-67521141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57FBE-9676-471C-97A9-7790C919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99348D-EC11-463A-B1B2-010AD171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78931F-450C-4A28-A1CC-FE9610B2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4BAD-562F-4EB3-86C4-9E2C6E9D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E8E6F-CEA8-4EA4-9C7F-7FFF2172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95545-FE44-440B-97B7-5DE0E6C4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744B5B-4311-4C68-976E-106A048D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8F5-C949-402A-9443-B742AE1B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726-6A00-4DF1-92E6-BDA72127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B2DF-F223-4A90-82F6-A07F8F11EDB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AEDC-D4EC-46A8-AF8E-8B00212138F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0718-001D-4458-B95A-3DA19531A91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B14B-4187-43A2-8017-4FADD136AE7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9C66-E5E2-4E4B-9861-0A33818CC27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AF2F-6A4C-425C-832C-CC248EEDA4B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450720" y="804960"/>
            <a:ext cx="8321760" cy="2614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Users\вадим\Desktop\занятие\архитектор.jpeg"/>
          <p:cNvPicPr/>
          <p:nvPr/>
        </p:nvPicPr>
        <p:blipFill>
          <a:blip r:embed="rId2"/>
          <a:stretch/>
        </p:blipFill>
        <p:spPr>
          <a:xfrm>
            <a:off x="609480" y="39625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Users\вадим\Desktop\занятие\7400c24b7df5cd5762780f8d42ef2962.media.300x370.jpg"/>
          <p:cNvPicPr/>
          <p:nvPr/>
        </p:nvPicPr>
        <p:blipFill>
          <a:blip r:embed="rId3"/>
          <a:stretch/>
        </p:blipFill>
        <p:spPr>
          <a:xfrm>
            <a:off x="5867280" y="2971800"/>
            <a:ext cx="28576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52880" y="3809520"/>
            <a:ext cx="3657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fac9"/>
                </a:solidFill>
                <a:latin typeface="Constantia"/>
              </a:rPr>
              <a:t>Останкинская башня в Москв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Picture 2" descr="C:\Users\вадим\Desktop\занятие\vendost2.jpg"/>
          <p:cNvPicPr/>
          <p:nvPr/>
        </p:nvPicPr>
        <p:blipFill>
          <a:blip r:embed="rId1"/>
          <a:stretch/>
        </p:blipFill>
        <p:spPr>
          <a:xfrm>
            <a:off x="533520" y="228600"/>
            <a:ext cx="43304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1231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C:\Users\вадим\Desktop\занятие\default.jpeg"/>
          <p:cNvPicPr/>
          <p:nvPr/>
        </p:nvPicPr>
        <p:blipFill>
          <a:blip r:embed="rId2"/>
          <a:stretch/>
        </p:blipFill>
        <p:spPr>
          <a:xfrm>
            <a:off x="533520" y="2514600"/>
            <a:ext cx="2590560" cy="3452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C:\Users\вадим\Desktop\занятие\220px-Tour_Eiffel_Wikimedia_Commons.jpg"/>
          <p:cNvPicPr/>
          <p:nvPr/>
        </p:nvPicPr>
        <p:blipFill>
          <a:blip r:embed="rId3"/>
          <a:stretch/>
        </p:blipFill>
        <p:spPr>
          <a:xfrm>
            <a:off x="3886200" y="2514600"/>
            <a:ext cx="1905120" cy="3429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C:\Users\вадим\Desktop\занятие\imageдубай.jpeg"/>
          <p:cNvPicPr/>
          <p:nvPr/>
        </p:nvPicPr>
        <p:blipFill>
          <a:blip r:embed="rId4"/>
          <a:stretch/>
        </p:blipFill>
        <p:spPr>
          <a:xfrm>
            <a:off x="6324480" y="2514600"/>
            <a:ext cx="2000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8:31:57Z</dcterms:created>
  <dc:creator>вадим</dc:creator>
  <dc:description/>
  <dc:language>en-US</dc:language>
  <cp:lastModifiedBy>вадим</cp:lastModifiedBy>
  <dcterms:modified xsi:type="dcterms:W3CDTF">2012-02-05T08:49:47Z</dcterms:modified>
  <cp:revision>2</cp:revision>
  <dc:subject/>
  <dc:title>Архитектор — это человек, который придумывает, проектирует и разрабатывает планы зданий, фасадов и внутренних пространств.</dc:title>
</cp:coreProperties>
</file>