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A6C-6CE7-44F4-B5FC-1389FC1F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9B1-3F0A-48A0-A398-8420652D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A66-396F-4DC8-9BC6-34C067DD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480-81ED-4840-9163-CE472640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413-DF44-4ED1-A1BC-ACEF0A39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37C-FDFC-49F4-B5C0-64AA3C76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3F6-D02F-4B10-A632-6915B191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352-66E6-41BA-BB87-09D7DA09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98F-351D-4EDA-9C58-8BE29E9B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66C-85B2-453D-AFD6-8DF5CBE7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417-916C-4400-9381-61EEC084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B2E-A199-4C70-BBFF-06E3149C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F0DE-5240-4A55-A9CC-1C1F17C32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060640"/>
            <a:ext cx="7772400" cy="1000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Животные лесной зон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3284640"/>
            <a:ext cx="85723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7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ая (коррекционная) шко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и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7"/>
          <p:cNvSpPr/>
          <p:nvPr/>
        </p:nvSpPr>
        <p:spPr>
          <a:xfrm>
            <a:off x="30592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ffff00">
              <a:alpha val="60000"/>
            </a:srgbClr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250920" y="652464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5730840"/>
            <a:ext cx="26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Щеголихина Мари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СОШ №30 специальные (коррекционные) классы г. Пен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  <a:ea typeface="Arial"/>
              </a:rPr>
              <a:t>К пушным зверям относятся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5148360" y="3141720"/>
            <a:ext cx="29509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12"/>
          <p:cNvSpPr/>
          <p:nvPr/>
        </p:nvSpPr>
        <p:spPr>
          <a:xfrm>
            <a:off x="1042920" y="198900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горност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3"/>
          <p:cNvSpPr/>
          <p:nvPr/>
        </p:nvSpPr>
        <p:spPr>
          <a:xfrm>
            <a:off x="5148360" y="1989000"/>
            <a:ext cx="29509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боб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4"/>
          <p:cNvSpPr/>
          <p:nvPr/>
        </p:nvSpPr>
        <p:spPr>
          <a:xfrm>
            <a:off x="1042920" y="314172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5"/>
          <p:cNvSpPr/>
          <p:nvPr/>
        </p:nvSpPr>
        <p:spPr>
          <a:xfrm>
            <a:off x="1042920" y="429264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6"/>
          <p:cNvSpPr/>
          <p:nvPr/>
        </p:nvSpPr>
        <p:spPr>
          <a:xfrm>
            <a:off x="5148360" y="429264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ё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  <a:ea typeface="Arial"/>
              </a:rPr>
              <a:t>Птицы, обитающие на реках и озерах, это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3"/>
          <p:cNvSpPr/>
          <p:nvPr/>
        </p:nvSpPr>
        <p:spPr>
          <a:xfrm>
            <a:off x="5076720" y="422100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2"/>
          <p:cNvSpPr/>
          <p:nvPr/>
        </p:nvSpPr>
        <p:spPr>
          <a:xfrm>
            <a:off x="1042920" y="299736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леб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13"/>
          <p:cNvSpPr/>
          <p:nvPr/>
        </p:nvSpPr>
        <p:spPr>
          <a:xfrm>
            <a:off x="5076720" y="191628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ку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14"/>
          <p:cNvSpPr/>
          <p:nvPr/>
        </p:nvSpPr>
        <p:spPr>
          <a:xfrm>
            <a:off x="1042920" y="184464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кук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5"/>
          <p:cNvSpPr/>
          <p:nvPr/>
        </p:nvSpPr>
        <p:spPr>
          <a:xfrm>
            <a:off x="1042920" y="414972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кедр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6"/>
          <p:cNvSpPr/>
          <p:nvPr/>
        </p:nvSpPr>
        <p:spPr>
          <a:xfrm>
            <a:off x="5076720" y="306864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дро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  <a:ea typeface="Arial"/>
              </a:rPr>
              <a:t>Исправь ошиб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51640" y="3789360"/>
            <a:ext cx="13683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  <a:ea typeface="Arial"/>
              </a:rPr>
              <a:t>Исправь ошиб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20000" y="2708280"/>
            <a:ext cx="86364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  <a:ea typeface="Arial"/>
              </a:rPr>
              <a:t>Исправь ошиб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8720" y="5300640"/>
            <a:ext cx="5745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  <a:ea typeface="Arial"/>
              </a:rPr>
              <a:t>Исправь ошиб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348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000" y="1988640"/>
            <a:ext cx="590076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41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4"/>
          <p:cNvSpPr/>
          <p:nvPr/>
        </p:nvSpPr>
        <p:spPr>
          <a:xfrm>
            <a:off x="6516720" y="558972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5"/>
          <p:cNvSpPr/>
          <p:nvPr/>
        </p:nvSpPr>
        <p:spPr>
          <a:xfrm>
            <a:off x="6516720" y="465300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  <a:ea typeface="Arial"/>
              </a:rPr>
              <a:t>В лесу обитает много животных, потому что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3"/>
          <p:cNvSpPr/>
          <p:nvPr/>
        </p:nvSpPr>
        <p:spPr>
          <a:xfrm>
            <a:off x="2484360" y="2852640"/>
            <a:ext cx="410364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много ко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4"/>
          <p:cNvSpPr/>
          <p:nvPr/>
        </p:nvSpPr>
        <p:spPr>
          <a:xfrm>
            <a:off x="2484360" y="1628640"/>
            <a:ext cx="410364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много друз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5"/>
          <p:cNvSpPr/>
          <p:nvPr/>
        </p:nvSpPr>
        <p:spPr>
          <a:xfrm>
            <a:off x="2484360" y="4076640"/>
            <a:ext cx="410364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много деревь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940360" y="5229360"/>
            <a:ext cx="125424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  <a:ea typeface="Arial"/>
              </a:rPr>
              <a:t>Самый грозный хищник леса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кругленный прямоугольник 3"/>
          <p:cNvSpPr/>
          <p:nvPr/>
        </p:nvSpPr>
        <p:spPr>
          <a:xfrm>
            <a:off x="6300720" y="2276640"/>
            <a:ext cx="23749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тиг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4"/>
          <p:cNvSpPr/>
          <p:nvPr/>
        </p:nvSpPr>
        <p:spPr>
          <a:xfrm>
            <a:off x="468360" y="2349360"/>
            <a:ext cx="237636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ры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5"/>
          <p:cNvSpPr/>
          <p:nvPr/>
        </p:nvSpPr>
        <p:spPr>
          <a:xfrm>
            <a:off x="3492360" y="3716280"/>
            <a:ext cx="23767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5300640"/>
            <a:ext cx="1272960" cy="12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  <a:ea typeface="Arial"/>
              </a:rPr>
              <a:t>Животные, которые питаются растительной пищ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кругленный прямоугольник 3"/>
          <p:cNvSpPr/>
          <p:nvPr/>
        </p:nvSpPr>
        <p:spPr>
          <a:xfrm>
            <a:off x="755640" y="5157720"/>
            <a:ext cx="331164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травоя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4"/>
          <p:cNvSpPr/>
          <p:nvPr/>
        </p:nvSpPr>
        <p:spPr>
          <a:xfrm>
            <a:off x="755640" y="3645000"/>
            <a:ext cx="331164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всея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5"/>
          <p:cNvSpPr/>
          <p:nvPr/>
        </p:nvSpPr>
        <p:spPr>
          <a:xfrm>
            <a:off x="755640" y="2205000"/>
            <a:ext cx="324000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хищ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flipH="1" rot="21343200">
            <a:off x="7164360" y="2565360"/>
            <a:ext cx="776160" cy="912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356000" y="3357720"/>
            <a:ext cx="257328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  <a:ea typeface="Arial"/>
              </a:rPr>
              <a:t>К травоядным животным относятся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2268360" y="38606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2"/>
          <p:cNvSpPr/>
          <p:nvPr/>
        </p:nvSpPr>
        <p:spPr>
          <a:xfrm>
            <a:off x="826920" y="22050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13"/>
          <p:cNvSpPr/>
          <p:nvPr/>
        </p:nvSpPr>
        <p:spPr>
          <a:xfrm>
            <a:off x="6227640" y="22050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ол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4"/>
          <p:cNvSpPr/>
          <p:nvPr/>
        </p:nvSpPr>
        <p:spPr>
          <a:xfrm>
            <a:off x="3564000" y="2205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каб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6"/>
          <p:cNvSpPr/>
          <p:nvPr/>
        </p:nvSpPr>
        <p:spPr>
          <a:xfrm>
            <a:off x="5148360" y="3789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ры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863640" cy="79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  <a:ea typeface="Arial"/>
              </a:rPr>
              <a:t>Хищники – это звери, питающиеся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3"/>
          <p:cNvSpPr/>
          <p:nvPr/>
        </p:nvSpPr>
        <p:spPr>
          <a:xfrm>
            <a:off x="5292720" y="314172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Живот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4"/>
          <p:cNvSpPr/>
          <p:nvPr/>
        </p:nvSpPr>
        <p:spPr>
          <a:xfrm>
            <a:off x="539640" y="314172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Расте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708360" y="4365720"/>
            <a:ext cx="112248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  <a:ea typeface="Arial"/>
              </a:rPr>
              <a:t>К хищникам относятся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900000" y="2492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тиг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12"/>
          <p:cNvSpPr/>
          <p:nvPr/>
        </p:nvSpPr>
        <p:spPr>
          <a:xfrm>
            <a:off x="2195640" y="3933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соб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3"/>
          <p:cNvSpPr/>
          <p:nvPr/>
        </p:nvSpPr>
        <p:spPr>
          <a:xfrm>
            <a:off x="3635280" y="2492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4"/>
          <p:cNvSpPr/>
          <p:nvPr/>
        </p:nvSpPr>
        <p:spPr>
          <a:xfrm>
            <a:off x="5003640" y="3933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каб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5"/>
          <p:cNvSpPr/>
          <p:nvPr/>
        </p:nvSpPr>
        <p:spPr>
          <a:xfrm>
            <a:off x="6300720" y="24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косу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  <a:ea typeface="Arial"/>
              </a:rPr>
              <a:t>Звери с ценным мехом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5580000" y="234936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пуш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4"/>
          <p:cNvSpPr/>
          <p:nvPr/>
        </p:nvSpPr>
        <p:spPr>
          <a:xfrm>
            <a:off x="468360" y="234936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пухов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5"/>
          <p:cNvSpPr/>
          <p:nvPr/>
        </p:nvSpPr>
        <p:spPr>
          <a:xfrm>
            <a:off x="2987640" y="3716280"/>
            <a:ext cx="3097080" cy="114300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80"/>
                </a:solidFill>
                <a:latin typeface="Arial"/>
                <a:ea typeface="Arial"/>
              </a:rPr>
              <a:t>пушист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Марина</cp:lastModifiedBy>
  <dcterms:modified xsi:type="dcterms:W3CDTF">2012-02-25T17:30:24Z</dcterms:modified>
  <cp:revision>727</cp:revision>
  <dc:subject/>
  <dc:title>животные лесной зоны</dc:title>
</cp:coreProperties>
</file>