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426-24AA-4892-B2A4-20E8B6C8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7D3-7724-4F76-8C0C-BB525432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FDC-4E36-49B6-99E7-BE90A865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353-57A8-4CE4-A0F0-03941023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38A-FBB6-4D48-80E9-4C1A7759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A7F-2D9D-4D7E-82D4-D8FF5940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26F-FCF2-424A-B1F2-898639DD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4A5-02E4-4416-91F2-1D5FD59D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A29-C52F-455E-A2E7-9602027C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38E-FC51-4E8B-92D7-198FC69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FB9-0114-4AAE-B84B-E398BD3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3E1-9413-4778-A3A0-252AFE0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1F8-B679-421A-9427-3C032DA17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6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4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7.wmf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wmf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hyperlink" Target="file:///&#1087;&#1072;&#1079;&#1083;%20&#1074;%20&#1087;&#1088;&#1077;&#1079;&#1077;&#1085;&#1090;&#1072;&#1094;&#1080;&#1080;.doc" TargetMode="Externa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9900"/>
                </a:solidFill>
                <a:latin typeface="Courier New"/>
              </a:rPr>
              <a:t>CLOTHE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5052960" cy="533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91320" y="2285640"/>
            <a:ext cx="1752480" cy="609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06000" y="457200"/>
            <a:ext cx="58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wint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4456080" cy="4867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58280" y="457200"/>
            <a:ext cx="58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wint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MCj02307550000[1]"/>
          <p:cNvPicPr/>
          <p:nvPr/>
        </p:nvPicPr>
        <p:blipFill>
          <a:blip r:embed="rId1"/>
          <a:stretch/>
        </p:blipFill>
        <p:spPr>
          <a:xfrm>
            <a:off x="3733920" y="2286000"/>
            <a:ext cx="2939760" cy="3468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2880" y="19810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ur-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06000" y="380880"/>
            <a:ext cx="58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wint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 winter  we  wear  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884240" cy="213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259092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1905120" y="42670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MCj02307550000[1]"/>
          <p:cNvPicPr/>
          <p:nvPr/>
        </p:nvPicPr>
        <p:blipFill>
          <a:blip r:embed="rId4"/>
          <a:stretch/>
        </p:blipFill>
        <p:spPr>
          <a:xfrm>
            <a:off x="5257800" y="3809880"/>
            <a:ext cx="21002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4351320" cy="4905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612000" y="533520"/>
            <a:ext cx="37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 put  o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210280" cy="4867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535680" y="457200"/>
            <a:ext cx="37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 put  o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367160" cy="4867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33520" y="5335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 put  o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057400" y="68580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 put  o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3429000" y="3581280"/>
            <a:ext cx="2286000" cy="20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24820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27120" y="641160"/>
            <a:ext cx="805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er we wear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blo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andal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h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-shi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winter we wear warm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ro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oo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wea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ur-coa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put on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glov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mitt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our h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 put  on 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ha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on ou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иложение 2(звук для презентации).wav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471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Pj04329820000[1]"/>
          <p:cNvPicPr/>
          <p:nvPr/>
        </p:nvPicPr>
        <p:blipFill>
          <a:blip r:embed="rId1"/>
          <a:stretch/>
        </p:blipFill>
        <p:spPr>
          <a:xfrm>
            <a:off x="609480" y="609480"/>
            <a:ext cx="1447920" cy="982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13399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rcRect l="0" t="0" r="0" b="3855"/>
          <a:stretch/>
        </p:blipFill>
        <p:spPr>
          <a:xfrm>
            <a:off x="3733920" y="380880"/>
            <a:ext cx="139068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486400" y="533520"/>
            <a:ext cx="12952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5"/>
          <a:stretch/>
        </p:blipFill>
        <p:spPr>
          <a:xfrm>
            <a:off x="731520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MPj04340740000[1]"/>
          <p:cNvPicPr/>
          <p:nvPr/>
        </p:nvPicPr>
        <p:blipFill>
          <a:blip r:embed="rId6"/>
          <a:stretch/>
        </p:blipFill>
        <p:spPr>
          <a:xfrm>
            <a:off x="609480" y="2057400"/>
            <a:ext cx="1371600" cy="109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7"/>
          <a:stretch/>
        </p:blipFill>
        <p:spPr>
          <a:xfrm>
            <a:off x="2286000" y="190512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8"/>
          <a:stretch/>
        </p:blipFill>
        <p:spPr>
          <a:xfrm>
            <a:off x="3809880" y="2057400"/>
            <a:ext cx="1676520" cy="108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9"/>
          <a:stretch/>
        </p:blipFill>
        <p:spPr>
          <a:xfrm>
            <a:off x="5334120" y="1981080"/>
            <a:ext cx="1523880" cy="1270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MCj02307550000[1]"/>
          <p:cNvPicPr/>
          <p:nvPr/>
        </p:nvPicPr>
        <p:blipFill>
          <a:blip r:embed="rId10"/>
          <a:stretch/>
        </p:blipFill>
        <p:spPr>
          <a:xfrm>
            <a:off x="7238880" y="1828800"/>
            <a:ext cx="116388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11"/>
          <a:stretch/>
        </p:blipFill>
        <p:spPr>
          <a:xfrm>
            <a:off x="1295280" y="3733920"/>
            <a:ext cx="1362240" cy="124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12"/>
          <a:stretch/>
        </p:blipFill>
        <p:spPr>
          <a:xfrm>
            <a:off x="3657600" y="3581280"/>
            <a:ext cx="137808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13"/>
          <a:stretch/>
        </p:blipFill>
        <p:spPr>
          <a:xfrm>
            <a:off x="2743200" y="5105520"/>
            <a:ext cx="1523880" cy="138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MCj04303450000[1]"/>
          <p:cNvPicPr/>
          <p:nvPr/>
        </p:nvPicPr>
        <p:blipFill>
          <a:blip r:embed="rId14"/>
          <a:stretch/>
        </p:blipFill>
        <p:spPr>
          <a:xfrm>
            <a:off x="5943600" y="3505320"/>
            <a:ext cx="1447920" cy="140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MCj04316010000[1]"/>
          <p:cNvPicPr/>
          <p:nvPr/>
        </p:nvPicPr>
        <p:blipFill>
          <a:blip r:embed="rId15"/>
          <a:stretch/>
        </p:blipFill>
        <p:spPr>
          <a:xfrm>
            <a:off x="4495680" y="5181480"/>
            <a:ext cx="2210040" cy="12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MPj04329820000[1]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060640" y="5410080"/>
            <a:ext cx="497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t is summ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80880" y="15228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season is it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133720" y="380880"/>
          <a:ext cx="4800600" cy="4710240"/>
        </p:xfrm>
        <a:graphic>
          <a:graphicData uri="http://schemas.openxmlformats.org/drawingml/2006/table">
            <a:tbl>
              <a:tblPr/>
              <a:tblGrid>
                <a:gridCol w="434880"/>
                <a:gridCol w="438120"/>
                <a:gridCol w="434880"/>
                <a:gridCol w="438120"/>
                <a:gridCol w="435240"/>
                <a:gridCol w="438120"/>
                <a:gridCol w="434880"/>
                <a:gridCol w="438120"/>
                <a:gridCol w="434880"/>
                <a:gridCol w="438120"/>
                <a:gridCol w="435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675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992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76" descr=""/>
          <p:cNvPicPr/>
          <p:nvPr/>
        </p:nvPicPr>
        <p:blipFill>
          <a:blip r:embed="rId2"/>
          <a:srcRect l="0" t="0" r="0" b="3855"/>
          <a:stretch/>
        </p:blipFill>
        <p:spPr>
          <a:xfrm>
            <a:off x="0" y="1828800"/>
            <a:ext cx="169560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77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78" descr=""/>
          <p:cNvPicPr/>
          <p:nvPr/>
        </p:nvPicPr>
        <p:blipFill>
          <a:blip r:embed="rId4"/>
          <a:stretch/>
        </p:blipFill>
        <p:spPr>
          <a:xfrm>
            <a:off x="228600" y="53341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79" descr=""/>
          <p:cNvPicPr/>
          <p:nvPr/>
        </p:nvPicPr>
        <p:blipFill>
          <a:blip r:embed="rId5"/>
          <a:stretch/>
        </p:blipFill>
        <p:spPr>
          <a:xfrm>
            <a:off x="1600200" y="5181480"/>
            <a:ext cx="121140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80" descr=""/>
          <p:cNvPicPr/>
          <p:nvPr/>
        </p:nvPicPr>
        <p:blipFill>
          <a:blip r:embed="rId6"/>
          <a:stretch/>
        </p:blipFill>
        <p:spPr>
          <a:xfrm>
            <a:off x="3048120" y="5410080"/>
            <a:ext cx="167616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81" descr=""/>
          <p:cNvPicPr/>
          <p:nvPr/>
        </p:nvPicPr>
        <p:blipFill>
          <a:blip r:embed="rId7"/>
          <a:stretch/>
        </p:blipFill>
        <p:spPr>
          <a:xfrm>
            <a:off x="4952880" y="525780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82" descr="MCj02307550000[1]"/>
          <p:cNvPicPr/>
          <p:nvPr/>
        </p:nvPicPr>
        <p:blipFill>
          <a:blip r:embed="rId8"/>
          <a:stretch/>
        </p:blipFill>
        <p:spPr>
          <a:xfrm>
            <a:off x="7315200" y="38862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83" descr=""/>
          <p:cNvPicPr/>
          <p:nvPr/>
        </p:nvPicPr>
        <p:blipFill>
          <a:blip r:embed="rId9"/>
          <a:stretch/>
        </p:blipFill>
        <p:spPr>
          <a:xfrm>
            <a:off x="7543800" y="2666880"/>
            <a:ext cx="1362240" cy="12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84" descr=""/>
          <p:cNvPicPr/>
          <p:nvPr/>
        </p:nvPicPr>
        <p:blipFill>
          <a:blip r:embed="rId10"/>
          <a:stretch/>
        </p:blipFill>
        <p:spPr>
          <a:xfrm>
            <a:off x="7086600" y="1295280"/>
            <a:ext cx="137808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85" descr=""/>
          <p:cNvPicPr/>
          <p:nvPr/>
        </p:nvPicPr>
        <p:blipFill>
          <a:blip r:embed="rId11"/>
          <a:stretch/>
        </p:blipFill>
        <p:spPr>
          <a:xfrm>
            <a:off x="7238880" y="0"/>
            <a:ext cx="1524240" cy="13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34320" y="57146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76520" y="609480"/>
          <a:ext cx="5753160" cy="5553360"/>
        </p:xfrm>
        <a:graphic>
          <a:graphicData uri="http://schemas.openxmlformats.org/drawingml/2006/table">
            <a:tbl>
              <a:tblPr/>
              <a:tblGrid>
                <a:gridCol w="520560"/>
                <a:gridCol w="525600"/>
                <a:gridCol w="520560"/>
                <a:gridCol w="525600"/>
                <a:gridCol w="522000"/>
                <a:gridCol w="524160"/>
                <a:gridCol w="522000"/>
                <a:gridCol w="525600"/>
                <a:gridCol w="520560"/>
                <a:gridCol w="525600"/>
                <a:gridCol w="52092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  <a:ea typeface="MS Mincho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Arial"/>
              </a:rPr>
              <a:t>Well done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5137200" cy="4940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04920" y="304920"/>
            <a:ext cx="64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summ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5257800" cy="4724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380880"/>
            <a:ext cx="64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summ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4907160" cy="5176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04920" y="380880"/>
            <a:ext cx="64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summ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4554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04920" y="457200"/>
            <a:ext cx="64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summ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5800" y="4572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 summer  we  we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rcRect l="0" t="0" r="0" b="3855"/>
          <a:stretch/>
        </p:blipFill>
        <p:spPr>
          <a:xfrm>
            <a:off x="5257800" y="1523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1905120" y="4114800"/>
            <a:ext cx="189072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5410080" y="40384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season is it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MPj04340740000[1]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8"/>
          <p:cNvSpPr/>
          <p:nvPr/>
        </p:nvSpPr>
        <p:spPr>
          <a:xfrm>
            <a:off x="1143000" y="556272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t is wint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194080" cy="5007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48160" y="3048120"/>
            <a:ext cx="1904760" cy="457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29680" y="457200"/>
            <a:ext cx="58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 winter  we  wear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40:47Z</dcterms:created>
  <dc:creator>Natasha</dc:creator>
  <dc:description/>
  <dc:language>en-US</dc:language>
  <cp:lastModifiedBy>Наталья</cp:lastModifiedBy>
  <dcterms:modified xsi:type="dcterms:W3CDTF">2012-03-05T18:50:32Z</dcterms:modified>
  <cp:revision>44</cp:revision>
  <dc:subject/>
  <dc:title>CLOTHERS</dc:title>
</cp:coreProperties>
</file>