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5FF-9307-4BAD-9EF6-AB8B7E09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1A1-1322-4035-9DD2-C62E919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0DA-F635-41A2-AC90-2E62D6C7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BAA-E9D0-4219-B936-147237E1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8BC-2A20-4AB5-A39E-7DE5D9EC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035-CE93-42B2-80D9-AC545D6E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D7A-BE82-4AEF-92BE-4DE4EF7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0802-267C-4714-94F1-63644B7D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15B4-07F9-495E-969E-147154F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961A-3BA8-41A8-98CD-2BC16B20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A8A9-5B90-4E14-9F7E-2DCCAD1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D68-BA83-4135-930C-F6890F90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8206-0088-421C-8D44-3FA2F37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51F3-9235-4E54-BB46-970E34E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F2A0-60EB-4A9F-A15B-F1A9DDF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BEE-CFE5-4B1E-B672-25D38A8F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A742-07B7-46DE-BDDB-898B9F2D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A0C6-519C-4F6E-9119-14486CD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C8B6-C95A-491C-B566-793B2A5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807A-95EE-4582-B1D9-71EE1FC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AF53-EAE7-4A8A-9307-3F1B134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022A-46E3-4C1A-AF3C-9065E152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93-B074-42F0-B11D-871F400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9A69-4367-4C83-AC68-52B4E2E8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FB6A-F49B-44BA-8791-5ED9819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D2D6-27D1-4BC7-9C3E-3C8E93E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2344-DA55-43F4-A1B8-2526ABC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FC00-49DB-477A-886F-1173723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B295-DC10-4291-988B-700898EB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E142-D63F-43DC-B6EE-A0493709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1803-D0B3-45F1-9894-2AB68228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9A8A-1511-472F-A614-9DB31917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8CE4-6E77-4E4D-933C-844AA761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D8B-813D-4482-8D73-9BFF1E57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BB45-E568-4902-ACFA-F8B8D14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D12A-F221-42A2-AA33-B565330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8E42-BAD0-4595-9023-A99610F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27AF-D3E8-4972-871A-EA2D7068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3CA0-E43B-42A9-81DD-19D181D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BFFC-E2E2-47F9-9635-D1BECC7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B169-E34E-4FA4-ADBF-9C5035FA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1361-4799-4586-B3AA-1EF49E76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FACF-E7A9-4CAE-81E2-A133FB33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AA97-B1A1-4C7C-A4B5-102282C3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E7A-91F8-44F6-ADAD-562E522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2F1B-8138-4ABC-9D7B-580FD86A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C649-52DF-417A-9007-A0831F5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3013-98FA-4035-B20E-3AEEB187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9C03-6377-4868-8240-75EC7218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34F2-5420-48A2-999A-3B82723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5A4A-2FC6-410C-99D6-EF228D2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9D99-DEBC-4562-A275-A5A572D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BD4F-02B4-4FF8-860F-C6FB97E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9BDD-EDB0-451A-AB27-3C4BF569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3DDD-2802-4A69-959B-2D4FEF89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B14-2B51-40BA-92CC-9C89B37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49EC-8C70-466E-8CA6-11121344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F9F1-E720-4A89-B430-CB864411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653D-FC47-4644-A396-6DFC115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5A74-D6EA-4C9C-8A15-0B05AC9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F58D-D965-42BD-9C53-50D82367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63475-E11B-4A1E-9E5C-AE8C113D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2CC8-9FA1-4171-BD59-1455A9E6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C7EE-F81F-4F37-AA70-8BA945C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557EE-9E90-4C04-9BBF-F256393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6AFA-0A0D-4D37-8CCC-046E5A5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71A-CD0E-4470-B759-8D2CEE04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4BAB-F493-406B-A083-D47D719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10EB-2333-4B05-8D78-2A75CFBA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9924-F7DC-42E1-9CDE-81B7EBB6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60E-AA8D-47C6-9470-9CD7230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2B3-C5F2-4B76-8987-4AF2EEF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B4F-D7C5-4FE8-9E10-B486B8C04AAD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0B96-1EBF-4FC6-92C9-D3873B060479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7C5-975D-4D0E-8F8E-BF046028A6B1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853-E7F7-4DB4-932E-3009A89FC002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9B77-B919-4C85-A225-D8E3FB49105E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E72-643F-4306-8F26-AD0EDD2D11E6}" type="slidenum">
              <a:rPr b="0" lang="ru-RU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зовите типы принтеро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1428840" y="3643200"/>
            <a:ext cx="5429160" cy="7146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500200" y="178596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уйные принтеры (37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2500200" y="242892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зерные принтеры (3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2500200" y="3071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ричные принтеры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2500200" y="37148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ые принтеры для цветной печати (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зовите области применения компьютерной графи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2500200" y="178596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ая графика (27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2500200" y="24289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вая графика ( 29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2500200" y="30718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ская графика (13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2500200" y="371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люстрационная графика (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7680" y="2500200"/>
            <a:ext cx="392904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гра наобор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зовите одно из устройств ввода информа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Скругленный прямоугольник 7"/>
          <p:cNvSpPr/>
          <p:nvPr/>
        </p:nvSpPr>
        <p:spPr>
          <a:xfrm>
            <a:off x="1428840" y="428616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500200" y="178596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фон (1 человек, 32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2500200" y="242892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вое перо (2 человека, 16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кбол (3 человека, 8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2500200" y="3714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жойстик (6 человек, 4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2500200" y="435780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виатура (18 человек, 1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зовите одно из устройств вывода информа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500200" y="17859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намики (10 человек, 32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2500200" y="2428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тер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еловек, 16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2500200" y="3071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итор (18 человек, 80 оч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7680" y="2500200"/>
            <a:ext cx="392904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ольшая иг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 чем можно печатать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8"/>
          <p:cNvSpPr/>
          <p:nvPr/>
        </p:nvSpPr>
        <p:spPr>
          <a:xfrm>
            <a:off x="2500200" y="17859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лавиатуре (40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2500200" y="242892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бумаге (3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мпьютере (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2500200" y="3714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чатной машинке (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Что такое винт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2500200" y="17859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кий диск (10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2500200" y="242892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тилятор (7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ллер (3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2500200" y="37148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ройство для закручивания (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Курсор мыши медленно передвигается по экрану. Почему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2500200" y="17859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шь плох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арая (12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9"/>
          <p:cNvSpPr/>
          <p:nvPr/>
        </p:nvSpPr>
        <p:spPr>
          <a:xfrm>
            <a:off x="2500200" y="242892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язный шар (9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«висит» (3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2500200" y="3714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мался компьютер (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Что вредно компьютеру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7"/>
          <p:cNvSpPr/>
          <p:nvPr/>
        </p:nvSpPr>
        <p:spPr>
          <a:xfrm>
            <a:off x="1428840" y="428616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2500200" y="178596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ль (1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2500200" y="242892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ы (7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тка (4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1"/>
          <p:cNvSpPr/>
          <p:nvPr/>
        </p:nvSpPr>
        <p:spPr>
          <a:xfrm>
            <a:off x="2500200" y="3714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 (4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2"/>
          <p:cNvSpPr/>
          <p:nvPr/>
        </p:nvSpPr>
        <p:spPr>
          <a:xfrm>
            <a:off x="2500200" y="435780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мка (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7680" y="2500200"/>
            <a:ext cx="392904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стая иг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Что можно делать с информацией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7"/>
          <p:cNvSpPr/>
          <p:nvPr/>
        </p:nvSpPr>
        <p:spPr>
          <a:xfrm>
            <a:off x="1428840" y="428616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2500200" y="17859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батывать (26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2500200" y="2428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авать (10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2500200" y="30718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ть (7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2500200" y="3714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есть (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2500200" y="435780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рить (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Какие виды антивирусных программ вы знает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2500200" y="1785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рожа (26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2500200" y="2428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визоры (13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2500200" y="3071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екторы (8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Файлы с каким расширением не может заразить вирус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28840" y="428616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785960" y="17859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ые, не содержащие программ (2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2500200" y="242892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9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00200" y="30718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M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8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2500200" y="3714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2500200" y="4357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3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Чем отличается друг от друга накопители на жёстком диске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500200" y="17859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мкостью (32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2500200" y="242892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действием (1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2500200" y="30718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фейсом (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7680" y="2500200"/>
            <a:ext cx="392904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войная иг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Компьютер включен, но вдруг погас монитор. Почему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7"/>
          <p:cNvSpPr/>
          <p:nvPr/>
        </p:nvSpPr>
        <p:spPr>
          <a:xfrm>
            <a:off x="1428840" y="428616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2500200" y="17859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 электроэнергии (11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2500200" y="2428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загрузка (9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10"/>
          <p:cNvSpPr/>
          <p:nvPr/>
        </p:nvSpPr>
        <p:spPr>
          <a:xfrm>
            <a:off x="2500200" y="30718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мался (8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1"/>
          <p:cNvSpPr/>
          <p:nvPr/>
        </p:nvSpPr>
        <p:spPr>
          <a:xfrm>
            <a:off x="2500200" y="371484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горел (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2500200" y="43578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заставка (3 челов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Franklin Gothic Book"/>
              </a:rPr>
              <a:t>Назовите одно из указательных устройст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Скругленный прямоугольник 3"/>
          <p:cNvSpPr/>
          <p:nvPr/>
        </p:nvSpPr>
        <p:spPr>
          <a:xfrm>
            <a:off x="1428840" y="171468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кругленный прямоугольник 4"/>
          <p:cNvSpPr/>
          <p:nvPr/>
        </p:nvSpPr>
        <p:spPr>
          <a:xfrm>
            <a:off x="1428840" y="2357280"/>
            <a:ext cx="5429160" cy="500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5"/>
          <p:cNvSpPr/>
          <p:nvPr/>
        </p:nvSpPr>
        <p:spPr>
          <a:xfrm>
            <a:off x="1428840" y="300024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1428840" y="364320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2500200" y="1785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шь (3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2500200" y="24289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кбол (26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2500200" y="307188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рная панель (13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2500200" y="3714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кпойнт (5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5:47:22Z</dcterms:created>
  <dc:creator>BRAIN</dc:creator>
  <dc:description/>
  <dc:language>en-US</dc:language>
  <cp:lastModifiedBy>BRAIN</cp:lastModifiedBy>
  <dcterms:modified xsi:type="dcterms:W3CDTF">2007-05-21T10:50:50Z</dcterms:modified>
  <cp:revision>9</cp:revision>
  <dc:subject/>
  <dc:title>Игра сто к одному</dc:title>
</cp:coreProperties>
</file>