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DDE-D6B9-45D2-A2AC-B40CC829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E6F-E1AF-4A15-889F-E69B579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CD4-6690-4A09-94D7-A2C4C9EE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CF4-88F2-4ACB-BD8F-DEE2A304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A90-C9B1-499F-924D-FD9E067C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301-0590-4183-B96E-539F4AB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667C-D633-43C6-AEB2-7D8FE26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1B07-5254-4C83-A6AE-3638E24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2419-A4E1-4CEE-9F87-9B3D384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65E4-9ED5-41CF-99E9-B1E20D1E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2D19-4DC9-4A8B-8295-79C6C997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ED8-E406-4F65-8FF2-4EEBAEF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BE73-FF4C-4C22-82CD-16ED491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4206-6F92-42DB-9178-AF1F000E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A1AC-6292-4237-85B3-B582B14B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125-F388-4F30-AA7E-4927C31C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88DD-F9BC-4845-897C-A60486D3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2F3-1C43-4C3C-8493-CB267562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49A-5209-41A1-813E-C949C53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CB1-00C8-417C-8F4F-3CDF49D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38D-4F3C-4B6F-8317-62F7CA02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8BB-3B2E-4175-9A5B-BBC8AB2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92B-BE68-4A2D-A5C4-4293C03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7D9-7264-41D2-BDC0-F5B4CAE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066-EC3D-49A0-916A-14A8BBA56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0563-171B-4D32-BAB1-E8BCE58A4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Использование здоровьесберегающих технологий на уроках иностранного языка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75931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рцева Юли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ы-пантомим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6985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веты по проведению игр на английском языке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ясняйте правила игры на английском языке, но короткими фразами, помогая себе жестами и мими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износите достаточно медленно, ритмично, мажорно меняя высоту тон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ждитесь ответного жеста ученика как знака понима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ивок головы, взмах рук, хлопки в ладоши, движения друг к друг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eec94"/>
                </a:solidFill>
                <a:latin typeface="Adine Kirnberg"/>
              </a:rPr>
              <a:t>Спасибо за внимание!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613080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 этом фон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dantino script"/>
              </a:rPr>
              <a:t>снижается успеваемост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dantino script"/>
              </a:rPr>
              <a:t>ухудшается дисциплина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dantino script"/>
              </a:rPr>
              <a:t>усиливается состояние тревожност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Здоровьесбережение реализуется через оптимизацию содержания и целенаправленной организации урока английского языка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а моих уроках я использую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тоды позитивной  психологической поддержки ученик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ёт индивидуальных особенностей учащегося и дифференцированный подход к детям с разными возможностя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ддержание познавательного интереса к изучению английского язык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нцип двигательной активности на уро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релаксации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нять умственное напря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ать детям небольшой отдых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звать положительные эмоции, что ведёт к улучшению усвоения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ды релаксаций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личные виды движен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левые игр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ни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гры-соревнова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гры с предмета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алоги с героями сказ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мотр мультфильмо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раматизация небольших сцен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Hands up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Hands down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Hands at side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it d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11640" y="1844640"/>
            <a:ext cx="493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0384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Clap, clap, clap your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hand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Clap your hand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Stamp, stamp, stamp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your  fee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Stamp your feet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Turn, turn, turn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aroun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Turn around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Clap, clap, clap yo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hand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Clap your hand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Adventure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dventure"/>
              </a:rPr>
              <a:t>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495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чевая заряд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284720" cy="388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84720" y="2732040"/>
            <a:ext cx="48592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6a3"/>
                </a:solidFill>
                <a:latin typeface="Ariac"/>
              </a:rPr>
              <a:t>Зарядка для глаз.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Look left, look right, </a:t>
            </a:r>
            <a:br>
              <a:rPr sz="2600"/>
            </a:b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Look up, look down, </a:t>
            </a:r>
            <a:br>
              <a:rPr sz="2600"/>
            </a:b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Look around. </a:t>
            </a:r>
            <a:br>
              <a:rPr sz="2600"/>
            </a:b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Look at your nose, </a:t>
            </a:r>
            <a:br>
              <a:rPr sz="2600"/>
            </a:b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Look at that rose, </a:t>
            </a:r>
            <a:br>
              <a:rPr sz="2600"/>
            </a:b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Close your eyes, </a:t>
            </a:r>
            <a:br>
              <a:rPr sz="2600"/>
            </a:br>
            <a:r>
              <a:rPr b="1" lang="en-US" sz="2600" spc="-1" strike="noStrike">
                <a:solidFill>
                  <a:srgbClr val="ffc000"/>
                </a:solidFill>
                <a:latin typeface="Ariac"/>
              </a:rPr>
              <a:t>Open, wink, </a:t>
            </a:r>
            <a:r>
              <a:rPr b="1" lang="ru-RU" sz="2600" spc="-1" strike="noStrike">
                <a:solidFill>
                  <a:srgbClr val="ffc000"/>
                </a:solidFill>
                <a:latin typeface="Ariac"/>
              </a:rPr>
              <a:t>о</a:t>
            </a:r>
            <a:r>
              <a:rPr b="1" lang="en-US" sz="2600" spc="-1" strike="noStrike">
                <a:solidFill>
                  <a:srgbClr val="ffc000"/>
                </a:solidFill>
                <a:latin typeface="Ariac"/>
              </a:rPr>
              <a:t>pen and smile. </a:t>
            </a:r>
            <a:br>
              <a:rPr sz="2600"/>
            </a:br>
            <a:r>
              <a:rPr b="1" lang="en-US" sz="2600" spc="-1" strike="noStrike">
                <a:solidFill>
                  <a:srgbClr val="ffc000"/>
                </a:solidFill>
                <a:latin typeface="Ariac"/>
              </a:rPr>
              <a:t>Your eyes are happy again. </a:t>
            </a:r>
            <a:br>
              <a:rPr sz="30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39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5:05:15Z</dcterms:created>
  <dc:creator>Ярцева-ЮМ</dc:creator>
  <dc:description/>
  <dc:language>en-US</dc:language>
  <cp:lastModifiedBy>Любовь Александровна</cp:lastModifiedBy>
  <dcterms:modified xsi:type="dcterms:W3CDTF">2012-03-06T09:29:54Z</dcterms:modified>
  <cp:revision>11</cp:revision>
  <dc:subject/>
  <dc:title>  Использование здоровьесберегающих технологий на уроках иностранного языка.   </dc:title>
</cp:coreProperties>
</file>