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F902C-A413-4EB6-85A5-9A358EDF3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77C2F-9D2B-4075-9173-C906F4C2B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56CA4-723E-464E-826D-CD7A8CEC9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46696-1DD2-4600-BFF4-2C145E165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CD77B-FC25-4A2B-A8D5-E7C6C9ECA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C6640-862D-4504-A5B4-248ADC19E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9425F-17D9-4607-9C42-7C152F911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31937-F1E0-4BE2-BDCF-95E5B8D8E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B2FAD-5CF1-452C-8640-1390F086F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4D26A-4687-41D8-B03E-AA97C73AD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F9A94-D6AE-42AE-A2FA-8075B1B9C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2C5C1-2C02-4F96-80A9-E7C77DA9C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5D07D-6623-46CD-BF2A-9C60DE52B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72A95-FBFD-4280-BA45-2D7456832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0FB6E-6F54-4B86-B5A5-F8FE83B5E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2F9E6-87DF-4A6C-A384-79F110CDF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18009-CD5A-4B2C-BB7C-E4F7CD19F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00E4BD1-C548-436D-AF6B-2B26F49DD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305DA46-C786-44C8-B970-F6C7FF10F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817A2B4-1F86-4844-B012-51BF874AD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BA50474-8509-4E56-932D-981C4A452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799887D-4D9E-4928-AD8C-7412693BE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9086F-E09A-447F-B281-2FD75FF91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9AB2C8C-4FAA-4D65-90ED-B346DE17B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18F8A87-C986-4CB4-9161-E4BA6F072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3C1750F-67D8-4133-B75F-D5A8119F9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93FA8E7-D8D2-4F61-BEBE-D589FCF42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2FBA502-E66D-42FF-95D6-5D44B368A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C60BFE8-74AD-4C9B-AB36-520B9DE63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919DF5-DD1D-4237-863C-5E93235BC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FBDA2A-418C-4233-8FEA-A109D7269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BB89C7-1B7A-4DDA-8C5C-9D629FF49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2785A7-2ACA-471C-B6E3-2E1C92A59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9B0AE-1068-4007-ABBB-823DC29EC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58BE60-7095-4646-AC9A-EB4B1CF80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45D89B-A2B4-4B47-A863-36EA08701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FA0D92-AE7B-49CA-AA15-CF9177B5B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F78204-818E-4184-BD5D-3F7BB4973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B9AFA5-6784-40AB-92C2-43E94B6A2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482168-029F-4D5A-84E0-BDB66BA2B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B693FD-A5CB-412E-8FC4-235BBF957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383D1C-8642-4E12-BD56-058082B14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8EE1B2-B14B-40C0-930A-0A67FD9BC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FB77871-0053-4166-A7AE-9D42D8E98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62D0B-DAA1-4C8E-B3E4-CCEC847EC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4306AC7-420C-48A8-887B-DFA567E67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AE1247E-FA09-4061-A67C-872F185BB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1A4E9B5-F0D9-4D6F-950E-866A9497A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63454D3-DC5A-4201-B4CA-0FC6584D2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0A4C54F-E155-472A-8DE7-F5B3EEFDA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F88FF29-62B7-49CA-8367-4AD753E15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72E0FE8-31B1-426F-B96B-6814687D6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FE35B1B-8428-4B8E-AFB8-E3F4BAFEC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2B02EC9-11DD-4A16-992E-4BBEA95CC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DD4CAE3-A175-42BA-A147-257983A0F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89D5A-12D9-41CA-BAD1-7D80D8F77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C636322-98E4-4A8D-A7E9-9D95AE180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6207F39-31D9-4867-930E-D6AC29E14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4832B14-026D-43DF-A223-93EF931CE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50783E3-276C-4EC5-9624-820A659CF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3202856-1563-41EC-866F-8B5EB312B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59AAE0F-8422-46DF-9B15-AE8A4DCF0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289C710-51D7-427B-A073-5EA9BA407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7BB4727-A966-456E-AC90-EE88F4D9E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1F50C30-715A-4A80-90F5-CDF013291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6F45279-2BBA-4624-98A0-9ABA7E94D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E6DFA-8E0B-444D-B4F9-0A5AE0FB2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6C45C39-1C0B-4F17-914E-3733C388C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392F340-D71F-4798-B064-19024B2E0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F11E2F7-AAF7-4F7D-B560-2F97EF384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AFB04AE-64D8-4D58-A9F3-C17806A6E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E1BE31B-A837-4665-B307-6565963C1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A6C6FFA-6073-4A47-A064-1CF71DA23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7778397-4ABF-46B2-BA66-54D674F51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323B51E-9C6A-45F6-A62F-78B72E2A9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34BA71C-5E24-4E09-A71E-4F4260C50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E70E0F6-8369-4AC5-B3DF-393479F28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9045B-63DE-4B62-A4F6-0571ED890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8986C1F-36F3-49B8-9DC5-1379A14DB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905AE11-40CE-4171-996F-061D70891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17DBF5E-C00B-4BE8-98A9-4FC99DDB8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ECEAFB6-FDB5-4896-A4F1-1DEF7BFAB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14AC89B-F074-472B-9C3D-AF5B767D1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33AFF-C6E2-4E1A-ABC6-B3977A8A6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4C7DE-3529-40A1-B51A-2B9CBED02C62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FB08E-7790-475C-B806-DBBEAB01AE40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B5962-6A1E-47FE-96E1-8C9C8D9B23F7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69449-92B1-4EFD-A36A-5FDA4F21A7A0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3B504-5FDF-404A-B486-BE84C100A823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547E9-66B1-4FE3-B8B3-66C7DB516F3E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2318B-F45B-4446-B593-F67DC3D5DAFB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642960"/>
            <a:ext cx="7772400" cy="55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700"/>
            </a:br>
            <a:r>
              <a:rPr b="1" lang="ru-RU" sz="2700" spc="-1" strike="noStrike">
                <a:solidFill>
                  <a:srgbClr val="575f6d"/>
                </a:solidFill>
                <a:latin typeface="Century Schoolbook"/>
              </a:rPr>
              <a:t>СОВЕРШЕНСТВОВАНИЕ НАВЫКА ЧТЕНИЯ</a:t>
            </a:r>
            <a:br>
              <a:rPr sz="2700"/>
            </a:br>
            <a:br>
              <a:rPr sz="2700"/>
            </a:br>
            <a:r>
              <a:rPr b="1" i="1" lang="ru-RU" sz="3600" spc="-1" strike="noStrike">
                <a:solidFill>
                  <a:srgbClr val="575f6d"/>
                </a:solidFill>
                <a:latin typeface="Century Schoolbook"/>
              </a:rPr>
              <a:t>РЕКОМЕНДАЦИИ ЛОГОПЕДА УЧИТЕЛЮ</a:t>
            </a:r>
            <a:r>
              <a:rPr b="1" lang="ru-RU" sz="3600" spc="-1" strike="noStrike">
                <a:solidFill>
                  <a:srgbClr val="575f6d"/>
                </a:solidFill>
                <a:latin typeface="Century Schoolbook"/>
              </a:rPr>
              <a:t>: </a:t>
            </a:r>
            <a:r>
              <a:rPr b="1" i="1" lang="ru-RU" sz="3600" spc="-1" strike="noStrike">
                <a:solidFill>
                  <a:srgbClr val="575f6d"/>
                </a:solidFill>
                <a:latin typeface="Century Schoolbook"/>
              </a:rPr>
              <a:t>ПРИЕМЫ И МЕТОДЫ РАБОТЫ</a:t>
            </a:r>
            <a:br>
              <a:rPr sz="3600"/>
            </a:br>
            <a:r>
              <a:rPr b="1" i="1" lang="ru-RU" sz="2900" spc="-1" strike="noStrike">
                <a:solidFill>
                  <a:srgbClr val="0070c0"/>
                </a:solidFill>
                <a:latin typeface="Century Schoolbook"/>
              </a:rPr>
              <a:t>ПОДГОТОВИЛА: ЛОГОПЕД АРАПОВА Е.А.</a:t>
            </a:r>
            <a:br>
              <a:rPr sz="2900"/>
            </a:br>
            <a:br>
              <a:rPr sz="3600"/>
            </a:br>
            <a:br>
              <a:rPr sz="3600"/>
            </a:br>
            <a:br>
              <a:rPr sz="2700"/>
            </a:br>
            <a:endParaRPr b="0" lang="en-US" sz="29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 txBox="1"/>
          <p:nvPr/>
        </p:nvSpPr>
        <p:spPr>
          <a:xfrm>
            <a:off x="457200" y="428760"/>
            <a:ext cx="8229600" cy="56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668c4"/>
                </a:solidFill>
                <a:latin typeface="Century Schoolbook"/>
              </a:rPr>
              <a:t>«Ловушка» </a:t>
            </a: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- учитель читает, заменяя одно слово синонимом. Ученики должны найти замену.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668c4"/>
                </a:solidFill>
                <a:latin typeface="Century Schoolbook"/>
              </a:rPr>
              <a:t>Выборочное чтение</a:t>
            </a: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: найти описание природы, героя и т.п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668c4"/>
                </a:solidFill>
                <a:latin typeface="Century Schoolbook"/>
              </a:rPr>
              <a:t>Восстановление логической  последовательности: </a:t>
            </a: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небольшой текст разрезается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При чтении учителем пропускаются слова. </a:t>
            </a:r>
            <a:r>
              <a:rPr b="0" lang="ru-RU" sz="2200" spc="-1" strike="noStrike">
                <a:solidFill>
                  <a:srgbClr val="3668c4"/>
                </a:solidFill>
                <a:latin typeface="Century Schoolbook"/>
              </a:rPr>
              <a:t>Найти синоним </a:t>
            </a: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к пропущенному слову.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668c4"/>
                </a:solidFill>
                <a:latin typeface="Century Schoolbook"/>
              </a:rPr>
              <a:t>Фантограммы</a:t>
            </a: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: различные фантазии при работе с текстом: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1. в хорошо знакомом тексте изменяется одно условие: время, герой, место. Ученики фантазируют, как изменится содержание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2. Придумать продолжение к прочитанному отрывку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668c4"/>
                </a:solidFill>
                <a:latin typeface="Century Schoolbook"/>
              </a:rPr>
              <a:t>Распространение предложений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668c4"/>
                </a:solidFill>
                <a:latin typeface="Century Schoolbook"/>
              </a:rPr>
              <a:t>Составление кроссвордов по тексту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668c4"/>
                </a:solidFill>
                <a:latin typeface="Century Schoolbook"/>
              </a:rPr>
              <a:t>Подбор пословиц, поговорок, загадок к тексту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668c4"/>
                </a:solidFill>
                <a:latin typeface="Century Schoolbook"/>
              </a:rPr>
              <a:t>Составление ребусов к словам из текста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 txBox="1"/>
          <p:nvPr/>
        </p:nvSpPr>
        <p:spPr>
          <a:xfrm>
            <a:off x="457200" y="500040"/>
            <a:ext cx="8229600" cy="56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668c4"/>
                </a:solidFill>
                <a:latin typeface="Century Schoolbook"/>
              </a:rPr>
              <a:t>Упражнения, направленные на выразительность выразительность чтения: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668c4"/>
                </a:solidFill>
                <a:latin typeface="Century Schoolbook"/>
              </a:rPr>
              <a:t>Ролевое чтение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Упражнение  на различие </a:t>
            </a:r>
            <a:r>
              <a:rPr b="0" lang="ru-RU" sz="2200" spc="-1" strike="noStrike">
                <a:solidFill>
                  <a:srgbClr val="3668c4"/>
                </a:solidFill>
                <a:latin typeface="Century Schoolbook"/>
              </a:rPr>
              <a:t>ритма и громкости</a:t>
            </a: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: “Читай шепотом и медленно”,  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“</a:t>
            </a: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Читай громко и уверенно” “Читай громко и уверенно”,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Чтение по </a:t>
            </a:r>
            <a:r>
              <a:rPr b="0" lang="ru-RU" sz="2200" spc="-1" strike="noStrike">
                <a:solidFill>
                  <a:srgbClr val="3668c4"/>
                </a:solidFill>
                <a:latin typeface="Century Schoolbook"/>
              </a:rPr>
              <a:t>«эмоциональным маячкам»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668c4"/>
                </a:solidFill>
                <a:latin typeface="Century Schoolbook"/>
              </a:rPr>
              <a:t>Выделение интонацией </a:t>
            </a: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главного слова в предложении, выделение голосом то одного, то другого слова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668c4"/>
                </a:solidFill>
                <a:latin typeface="Century Schoolbook"/>
              </a:rPr>
              <a:t>«Эхо»: </a:t>
            </a: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учитель читает вслух, ученики повторяют с той же интонацией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668c4"/>
                </a:solidFill>
                <a:latin typeface="Century Schoolbook"/>
              </a:rPr>
              <a:t>«Голоса»: </a:t>
            </a: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чтение подражанию голосов (старушки, ребенка, гномика, великана и т.п)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668c4"/>
                </a:solidFill>
                <a:latin typeface="Century Schoolbook"/>
              </a:rPr>
              <a:t>Чтение – пение</a:t>
            </a: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: Стихотворение поется на мотив знакомой песни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668c4"/>
                </a:solidFill>
                <a:latin typeface="Century Schoolbook"/>
              </a:rPr>
              <a:t>Разметка текста</a:t>
            </a: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: пауза, логическое ударение, усиление или ослабление голоса.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 txBox="1"/>
          <p:nvPr/>
        </p:nvSpPr>
        <p:spPr>
          <a:xfrm>
            <a:off x="457200" y="500040"/>
            <a:ext cx="8229600" cy="56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668c4"/>
                </a:solidFill>
                <a:latin typeface="Century Schoolbook"/>
              </a:rPr>
              <a:t>На этапе обучения чтению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668c4"/>
                </a:solidFill>
                <a:latin typeface="Century Schoolbook"/>
              </a:rPr>
              <a:t>Режим щадящего чтения: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чтение «слайдами»: ребенок читает одну- две строчки - взгляд на картинку, повторяет прочитанное про себя. Вновь читает по такому же алгоритму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Чтение со сменой деятельности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 txBox="1"/>
          <p:nvPr/>
        </p:nvSpPr>
        <p:spPr>
          <a:xfrm>
            <a:off x="571680" y="428760"/>
            <a:ext cx="8229600" cy="60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Эксперименты показали, что быстрое чтение </a:t>
            </a:r>
            <a:r>
              <a:rPr b="0" lang="ru-RU" sz="2400" spc="-1" strike="noStrike">
                <a:solidFill>
                  <a:srgbClr val="3668c4"/>
                </a:solidFill>
                <a:latin typeface="Century Schoolbook"/>
              </a:rPr>
              <a:t>активизирует процессы мышления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и является </a:t>
            </a:r>
            <a:r>
              <a:rPr b="0" lang="ru-RU" sz="2400" spc="-1" strike="noStrike">
                <a:solidFill>
                  <a:srgbClr val="3668c4"/>
                </a:solidFill>
                <a:latin typeface="Century Schoolbook"/>
              </a:rPr>
              <a:t>одним из средств совершенствования учебного процесс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668c4"/>
                </a:solidFill>
                <a:latin typeface="Century Schoolbook"/>
              </a:rPr>
              <a:t>Выявленная закономерность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Те, кто стали </a:t>
            </a:r>
            <a:r>
              <a:rPr b="0" lang="ru-RU" sz="2400" spc="-1" strike="noStrike">
                <a:solidFill>
                  <a:srgbClr val="3668c4"/>
                </a:solidFill>
                <a:latin typeface="Century Schoolbook"/>
              </a:rPr>
              <a:t>отличниками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в пятом классе, имели на конец бучения в начальной школе </a:t>
            </a:r>
            <a:r>
              <a:rPr b="0" lang="ru-RU" sz="2400" spc="-1" strike="noStrike">
                <a:solidFill>
                  <a:srgbClr val="3668c4"/>
                </a:solidFill>
                <a:latin typeface="Century Schoolbook"/>
              </a:rPr>
              <a:t>130- 170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слов в мин., те, кто стал хорошистом: </a:t>
            </a:r>
            <a:r>
              <a:rPr b="0" lang="ru-RU" sz="2400" spc="-1" strike="noStrike">
                <a:solidFill>
                  <a:srgbClr val="3668c4"/>
                </a:solidFill>
                <a:latin typeface="Century Schoolbook"/>
              </a:rPr>
              <a:t>100- 140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слов в мин, те, кто стал троечником- </a:t>
            </a:r>
            <a:r>
              <a:rPr b="0" lang="ru-RU" sz="2400" spc="-1" strike="noStrike">
                <a:solidFill>
                  <a:srgbClr val="3668c4"/>
                </a:solidFill>
                <a:latin typeface="Century Schoolbook"/>
              </a:rPr>
              <a:t>80- 90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слов в мин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СКОРОЧТЕНИЕ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Поскольку в детстве все (или почти все) начинали с чтения вслух, привычка проговаривать про себя читаемый текст укоренилась и является существенным ограничителем скорости - предел речевого канала составляет примерно 150 слов (900 знаков) в минуту. При обучении технике скорочтения в первую очередь пытаются исключить речевой канал (речедвигательный и речеслуховой анализатор) из процесса обработки информации. Это также называют подавлением артикуляции или скрытого произношения. Один из способов подавления - принудительное постепенное увеличение скорости чтения. С ростом скорости речевой канал не будет успевать пропускать весь объем информации и перестанет участвовать в обработке - информация из зрительного анализатора сразу будет направляться в смысловой.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 txBox="1"/>
          <p:nvPr/>
        </p:nvSpPr>
        <p:spPr>
          <a:xfrm>
            <a:off x="457200" y="214200"/>
            <a:ext cx="8229600" cy="59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Исследования показывают, что для понимания смысла при чтении и запоминании информации вполне достаточно только видеть слово и передать его в зрительный образ, в анализатор мозга для обработки информации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ри низкой скорости чтения все слова мысленно проговариваются. Чем выше скорость чтения, тем меньше слов проговаривается, тем больше слов воспринимается только глазами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 txBox="1"/>
          <p:nvPr/>
        </p:nvSpPr>
        <p:spPr>
          <a:xfrm>
            <a:off x="457200" y="356760"/>
            <a:ext cx="8229600" cy="57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Следующий резерв для повышения скорости чтения - увеличение поля зрения. Обычно при чтении в поле зрения попадает одно-два слова, средняя ширина поля обычного читателя зрения составляет 10-12 символов. Это означает, что для прочтения одной строки текста необходимо сделать от пяти до десяти движений глазами с фиксацией взгляда. 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С помощью упражнений для развития периферического зрения за небольшой период времени можно увеличить поле зрения с 10-12 до 30-35 знаков. Теперь для прочтения строки потребуется две-три фиксации, что при той же скорости перемещения взгляда между фиксациями даст трёхкратный рост скорости(  работа с таблицами Шульте)</a:t>
            </a:r>
            <a:br>
              <a:rPr sz="1900"/>
            </a:b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Если устранить всего две из причин медленного чтения, а именно: подавить скрытое произношение (артикуляцию) и увеличить ширину поля зрения с помощью простых упражнений, то возможно в довольно короткий срок (10-15 дней) заметно повысить скорость чтения.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 txBox="1"/>
          <p:nvPr/>
        </p:nvSpPr>
        <p:spPr>
          <a:xfrm>
            <a:off x="457200" y="356760"/>
            <a:ext cx="8229600" cy="57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Технику чтения составляют 4 компонента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668c4"/>
                </a:solidFill>
                <a:latin typeface="Century Schoolbook"/>
              </a:rPr>
              <a:t>осознанность, беглость( техника чтения) , выразительность, правильность,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каждый из которых сначала   формируется, отрабатывается как умение и </a:t>
            </a:r>
            <a:r>
              <a:rPr b="0" lang="ru-RU" sz="2400" spc="-1" strike="noStrike">
                <a:solidFill>
                  <a:srgbClr val="3668c4"/>
                </a:solidFill>
                <a:latin typeface="Century Schoolbook"/>
              </a:rPr>
              <a:t>посредством упражнений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остепенно поднимается на уровень навык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500040" y="285480"/>
            <a:ext cx="8143920" cy="60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Упражнения,  направленные на совершенствование техники чтения (</a:t>
            </a:r>
            <a:r>
              <a:rPr b="1" lang="ru-RU" sz="1800" spc="-1" strike="noStrike">
                <a:solidFill>
                  <a:srgbClr val="3668c4"/>
                </a:solidFill>
                <a:latin typeface="Century Schoolbook"/>
              </a:rPr>
              <a:t>беглость чтения</a:t>
            </a: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):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Чтение </a:t>
            </a:r>
            <a:r>
              <a:rPr b="1" lang="ru-RU" sz="1800" spc="-1" strike="noStrike">
                <a:solidFill>
                  <a:srgbClr val="3668c4"/>
                </a:solidFill>
                <a:latin typeface="Century Schoolbook"/>
              </a:rPr>
              <a:t>«с карандашом»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ru-RU" sz="1800" spc="-1" strike="noStrike">
                <a:solidFill>
                  <a:srgbClr val="3668c4"/>
                </a:solidFill>
                <a:latin typeface="Century Schoolbook"/>
              </a:rPr>
              <a:t>«Спринт» </a:t>
            </a: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Дети одновременно по команде учителя начинают чтение, по команде «стоп» прекращают, показывают, кто где остановился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Чтение</a:t>
            </a:r>
            <a:r>
              <a:rPr b="1" lang="ru-RU" sz="1800" spc="-1" strike="noStrike">
                <a:solidFill>
                  <a:srgbClr val="3668c4"/>
                </a:solidFill>
                <a:latin typeface="Century Schoolbook"/>
              </a:rPr>
              <a:t> по диагонали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Чтение </a:t>
            </a:r>
            <a:r>
              <a:rPr b="1" lang="ru-RU" sz="1800" spc="-1" strike="noStrike">
                <a:solidFill>
                  <a:srgbClr val="3668c4"/>
                </a:solidFill>
                <a:latin typeface="Century Schoolbook"/>
              </a:rPr>
              <a:t>перевернутого текста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Чтение </a:t>
            </a:r>
            <a:r>
              <a:rPr b="1" lang="ru-RU" sz="1800" spc="-1" strike="noStrike">
                <a:solidFill>
                  <a:srgbClr val="3668c4"/>
                </a:solidFill>
                <a:latin typeface="Century Schoolbook"/>
              </a:rPr>
              <a:t>«Глаза- губы». </a:t>
            </a: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Чередование чтения вслух с чтением молча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668c4"/>
                </a:solidFill>
                <a:latin typeface="Century Schoolbook"/>
              </a:rPr>
              <a:t>«Буксир» </a:t>
            </a: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– учитель или хорошо читающий ученик читаю на максимальной скорости. Задача остальных- стараться не отстать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ru-RU" sz="1800" spc="-1" strike="noStrike">
                <a:solidFill>
                  <a:srgbClr val="3668c4"/>
                </a:solidFill>
                <a:latin typeface="Century Schoolbook"/>
              </a:rPr>
              <a:t>«Бросок- засечка». </a:t>
            </a: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Одновременно начинают чтение, по команде учителя «засечка» останавливаются, поднимают глаза от текста. По команде «Бросок» продолжают  чтение с того слова, на котором остановились.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457200" y="356760"/>
            <a:ext cx="8229600" cy="57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3668c4"/>
                </a:solidFill>
                <a:latin typeface="Century Schoolbook"/>
              </a:rPr>
              <a:t>«Молния» </a:t>
            </a: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Начинают читать одновременно, по команде учителя «Молния» начинают читать в максимальном темпе молча на продолжении от 20 сек.  (вначале) до 2 мин( после освоения упражнения). Чередовать условия: начинают читать молча, по команде учителя- вслух в максимальном темпе.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3668c4"/>
                </a:solidFill>
                <a:latin typeface="Century Schoolbook"/>
              </a:rPr>
              <a:t>«Игра в прятки».</a:t>
            </a: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Ведущий начинает читать не с начала, а где попало, называя только страницу, ученики должны найти и подстроиться под чтение ведущего.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3668c4"/>
                </a:solidFill>
                <a:latin typeface="Century Schoolbook"/>
              </a:rPr>
              <a:t>«Отыщи слово». </a:t>
            </a: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Учитель показывает (или называет звук». По команде ищем ученики должны поставить карандаш на слово, начинающееся с заданного звука. 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Чтение </a:t>
            </a:r>
            <a:r>
              <a:rPr b="0" lang="ru-RU" sz="1900" spc="-1" strike="noStrike">
                <a:solidFill>
                  <a:srgbClr val="3668c4"/>
                </a:solidFill>
                <a:latin typeface="Century Schoolbook"/>
              </a:rPr>
              <a:t>с линейкой</a:t>
            </a: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. Строка закрывается линейкой, открывая по слову. Учитель может задавать ритм: скорость движения линейки, открывающей новые слова. 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Чтение </a:t>
            </a:r>
            <a:r>
              <a:rPr b="0" lang="ru-RU" sz="1900" spc="-1" strike="noStrike">
                <a:solidFill>
                  <a:srgbClr val="3668c4"/>
                </a:solidFill>
                <a:latin typeface="Century Schoolbook"/>
              </a:rPr>
              <a:t>с условием: чтение согласных</a:t>
            </a: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( на выдохе после глубокого вдоха), чтение слов на заданный звук, чтение слов с конца, чтение предложений с конца к началу, «первый и последний»  и т.п. 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3668c4"/>
                </a:solidFill>
                <a:latin typeface="Century Schoolbook"/>
              </a:rPr>
              <a:t>«Прыжки»: </a:t>
            </a: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чтение через слово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3668c4"/>
                </a:solidFill>
                <a:latin typeface="Century Schoolbook"/>
              </a:rPr>
              <a:t>«Счет слов» - одновременно читают и считают прочитанные слова. Перед чтением задается вопрос. На который должны ответить после работы.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 txBox="1"/>
          <p:nvPr/>
        </p:nvSpPr>
        <p:spPr>
          <a:xfrm>
            <a:off x="457200" y="356760"/>
            <a:ext cx="8229600" cy="57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Упражнения направленные на совершенствование понимания прочитанного </a:t>
            </a:r>
            <a:r>
              <a:rPr b="0" lang="ru-RU" sz="2000" spc="-1" strike="noStrike">
                <a:solidFill>
                  <a:srgbClr val="3668c4"/>
                </a:solidFill>
                <a:latin typeface="Century Schoolbook"/>
              </a:rPr>
              <a:t>(осознанность чтения): 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Свести содержание текста к коротким и существенным логическим формулам, отметить в каждой формуле центральное по смыслу понятие, ассоциировать понятия между собой и образовать таким путем единую логическую цепь идей – вот сущность понимания текста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Чтение с </a:t>
            </a:r>
            <a:r>
              <a:rPr b="0" lang="ru-RU" sz="2000" spc="-1" strike="noStrike">
                <a:solidFill>
                  <a:srgbClr val="3668c4"/>
                </a:solidFill>
                <a:latin typeface="Century Schoolbook"/>
              </a:rPr>
              <a:t>прикрытой верхней частью 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строчки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668c4"/>
                </a:solidFill>
                <a:latin typeface="Century Schoolbook"/>
              </a:rPr>
              <a:t>Игры со словами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: превращения слов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Упражнение </a:t>
            </a:r>
            <a:r>
              <a:rPr b="0" lang="ru-RU" sz="2000" spc="-1" strike="noStrike">
                <a:solidFill>
                  <a:srgbClr val="3668c4"/>
                </a:solidFill>
                <a:latin typeface="Century Schoolbook"/>
              </a:rPr>
              <a:t>“Прочти, спроси, ответь!”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“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Составь предложения”, “Закончи рассказ”, “Поставь знаки препинания”, Корректировка деформированных предложений, неоконченных предложений – на уроках русского языка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Упражнение “</a:t>
            </a:r>
            <a:r>
              <a:rPr b="0" lang="ru-RU" sz="2000" spc="-1" strike="noStrike">
                <a:solidFill>
                  <a:srgbClr val="3668c4"/>
                </a:solidFill>
                <a:latin typeface="Century Schoolbook"/>
              </a:rPr>
              <a:t>Чтение – разведка”. 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Оно заключается в том, что дети на максимальной скорости просматривают текст и находят ответы на вопросы, поставленные перед чтением учителем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Подчеркивание непонятных слов, </a:t>
            </a:r>
            <a:r>
              <a:rPr b="0" lang="ru-RU" sz="2000" spc="-1" strike="noStrike">
                <a:solidFill>
                  <a:srgbClr val="3668c4"/>
                </a:solidFill>
                <a:latin typeface="Century Schoolbook"/>
              </a:rPr>
              <a:t>объяснение лексического значения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AH4EC</cp:lastModifiedBy>
  <dcterms:modified xsi:type="dcterms:W3CDTF">2012-03-06T11:20:04Z</dcterms:modified>
  <cp:revision>32</cp:revision>
  <dc:subject/>
  <dc:title>Слайд 1</dc:title>
</cp:coreProperties>
</file>