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04C-EC26-4C4E-A211-764241CD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E82-C88D-46E8-9165-E5EDDC8E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B3E-EEA7-494C-A8E8-05DF385A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2EC-939E-47C8-9A03-0BD7FC98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7574-6968-41B4-8B71-9BDC5C20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E23A-2634-4554-96E9-4C7E004E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2D8-D97F-45D3-B39D-4555BCA8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85A6-FBB7-46BB-90F4-480C77B5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D6F8-2CCA-4F4B-A506-6B3CBA64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75F1-EFF5-4FED-8A44-D465D882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229D-DA26-48DB-971A-2F1818E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FEF-72E9-4F1E-9229-9ED8DDB3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2F07-D305-4040-BC73-8DA25D24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9694-8ECD-4AD5-9EA2-0887BD50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717B-0459-4520-ACCB-218CC46D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60DC-E108-466E-AE87-4ADF2EB3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D9D7-E7FB-4E5B-8F3F-8613D9EF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C12-DD52-45B0-A65F-F3705BCD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A60-9ACE-4B16-9AEA-E357BBE4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BE7-ACF6-44FA-A8D3-7356E03C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2CC-8D5A-4960-963F-EDEC6F47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451-1D93-4BAD-A62D-24B4286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0FE-261D-464D-A5D9-463C7D25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4FC-16DD-4864-B2B4-0818B8F2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9B93-95F3-4246-AEAC-0A81C5DFA8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177B-E91F-4C6A-8563-8697635D867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0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 школе прозвенел звонок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Начинаем наш урок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Сядьте вы за парты тихо,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Руки- палочкой красиво,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На меня вы посмотрите,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немного улыбнитесь!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Ребята, послушайте, какая тишина!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Это везде начались уроки.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ы не будем тратить время зря,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приступим все к работ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208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ecff"/>
                </a:solidFill>
                <a:latin typeface="Arial"/>
              </a:rPr>
              <a:t>Второй этап </a:t>
            </a:r>
            <a:br>
              <a:rPr sz="5000"/>
            </a:br>
            <a:r>
              <a:rPr b="0" lang="en-US" sz="5000" spc="-1" strike="noStrike">
                <a:solidFill>
                  <a:srgbClr val="ccecff"/>
                </a:solidFill>
                <a:latin typeface="Arial"/>
              </a:rPr>
              <a:t>Готовность к гонк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41360"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ecff"/>
                </a:solidFill>
                <a:latin typeface="Arial"/>
              </a:rPr>
              <a:t>1834-у=753</a:t>
            </a:r>
            <a:br>
              <a:rPr sz="2700"/>
            </a:br>
            <a:r>
              <a:rPr b="0" lang="en-US" sz="2700" spc="-1" strike="noStrike">
                <a:solidFill>
                  <a:srgbClr val="ccecff"/>
                </a:solidFill>
                <a:latin typeface="Arial"/>
              </a:rPr>
              <a:t>у=1834-753</a:t>
            </a:r>
            <a:br>
              <a:rPr sz="2700"/>
            </a:br>
            <a:r>
              <a:rPr b="0" lang="en-US" sz="2700" spc="-1" strike="noStrike">
                <a:solidFill>
                  <a:srgbClr val="ccecff"/>
                </a:solidFill>
                <a:latin typeface="Arial"/>
              </a:rPr>
              <a:t>у=1081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ecff"/>
                </a:solidFill>
                <a:latin typeface="Arial"/>
              </a:rPr>
              <a:t>2. 5500 – 375+1182=4043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ecff"/>
                </a:solidFill>
                <a:latin typeface="Arial"/>
              </a:rPr>
              <a:t>3. 150+150(10-10)=300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ecff"/>
                </a:solidFill>
                <a:latin typeface="Arial"/>
              </a:rPr>
              <a:t>4.Составьте выражение и найдите его значение: «сумма произведения 24х11 и частного 96:3»</a:t>
            </a:r>
            <a:br>
              <a:rPr sz="2700"/>
            </a:br>
            <a:r>
              <a:rPr b="0" lang="en-US" sz="2700" spc="-1" strike="noStrike">
                <a:solidFill>
                  <a:srgbClr val="ccecff"/>
                </a:solidFill>
                <a:latin typeface="Arial"/>
              </a:rPr>
              <a:t>24х11+96:3=286</a:t>
            </a:r>
            <a:br>
              <a:rPr sz="2700"/>
            </a:br>
            <a:r>
              <a:rPr b="0" lang="en-US" sz="2700" spc="-1" strike="noStrike">
                <a:solidFill>
                  <a:srgbClr val="ccecff"/>
                </a:solidFill>
                <a:latin typeface="Arial"/>
              </a:rPr>
              <a:t>1. 24х11=254</a:t>
            </a:r>
            <a:br>
              <a:rPr sz="2700"/>
            </a:br>
            <a:r>
              <a:rPr b="0" lang="en-US" sz="2700" spc="-1" strike="noStrike">
                <a:solidFill>
                  <a:srgbClr val="ccecff"/>
                </a:solidFill>
                <a:latin typeface="Arial"/>
              </a:rPr>
              <a:t>2. 96:3=32</a:t>
            </a:r>
            <a:br>
              <a:rPr sz="2700"/>
            </a:br>
            <a:r>
              <a:rPr b="0" lang="en-US" sz="2700" spc="-1" strike="noStrike">
                <a:solidFill>
                  <a:srgbClr val="ccecff"/>
                </a:solidFill>
                <a:latin typeface="Arial"/>
              </a:rPr>
              <a:t>3. 254+32=286</a:t>
            </a:r>
            <a:endParaRPr b="0" lang="en-US" sz="27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374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А теперь представьте , детки,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удто руки наши – ветки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качаем ими дружно,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ловно ветер дует южный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етер стих. Вздохнули дружно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ам урок продолжить нужно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дровнялись, тихо сели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 на доску посмотре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2915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Третий этап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Гонка по пересечённой местности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Найдите числа в ребусе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а+в=всс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2. В выражении расставьте скобки так, чтобы выполнялось равенство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4+32:8+4х3=3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92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Четвёртый  этап</a:t>
            </a: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Шоссейная гонка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бота у дос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шите задачу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стр.34  дидактических материалов   №95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ФИНИШ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Решить примеры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на 1 жетон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(1272-768)х7+472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на 2 жетона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(18+12х27):(327-156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на 3 жетона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67392:(3504-3408)+19232:601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ема урока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се действия с натуральными числ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тоги урока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ашняя работа: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дготовиться к контрольной рабо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Окончен урок и выполнен план.</a:t>
            </a:r>
            <a:br>
              <a:rPr sz="3500"/>
            </a:b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Спасибо, ребята, огромное вам.</a:t>
            </a:r>
            <a:br>
              <a:rPr sz="3500"/>
            </a:b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За то, что упорно и дружно трудились,</a:t>
            </a:r>
            <a:br>
              <a:rPr sz="3500"/>
            </a:b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И знания точно уж вам пригодились</a:t>
            </a:r>
            <a:br>
              <a:rPr sz="3500"/>
            </a:b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К математике способность проявляй,</a:t>
            </a:r>
            <a:br>
              <a:rPr sz="3500"/>
            </a:b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Не ленись, а ежедневно развивай.</a:t>
            </a:r>
            <a:br>
              <a:rPr sz="3500"/>
            </a:b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Умножай, дели, трудись, соображай,</a:t>
            </a:r>
            <a:br>
              <a:rPr sz="3500"/>
            </a:b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С математикой дружить не забывай 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сторический материал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полнительные задач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-обобщение знаний по данной теме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-Умение применять полученные знания на практике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-подготовиться к контрольной рабо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евиз урока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«Повторение-мать учения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тапы урока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.Расшифровка названия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.Готовность к гонке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3.Гонка на пересечённой местности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Шоссейная гонка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5.Финиш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ервый этап</a:t>
            </a: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сшифровка названия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Устная работа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8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25х76х4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79х69-169х69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25х39х8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57х68-47х68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43х27+57х27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20х84х5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87х97+13х97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(63+89)-52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48+67+52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49-(57+49)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45+(297+55)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4х37х25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08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                          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7600   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Ш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690   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Л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39000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Б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680  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Г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2700 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Е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8400  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О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9700  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 В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100  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К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267  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И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43    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Н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497 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О</a:t>
            </a:r>
            <a:br>
              <a:rPr sz="3300"/>
            </a:b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3700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ccecff"/>
                </a:solidFill>
                <a:latin typeface="Arial"/>
              </a:rPr>
              <a:t>    И                                 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«Большие гонки»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2428920"/>
            <a:ext cx="68421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5:16:33Z</dcterms:created>
  <dc:creator>Nabster</dc:creator>
  <dc:description/>
  <dc:language>en-US</dc:language>
  <cp:lastModifiedBy>Nabster</cp:lastModifiedBy>
  <dcterms:modified xsi:type="dcterms:W3CDTF">2010-11-14T14:23:33Z</dcterms:modified>
  <cp:revision>24</cp:revision>
  <dc:subject/>
  <dc:title>         В школе прозвенел звонок Начинаем наш урок Сядьте вы за парты тихо, Руки- палочкой красиво, На меня вы посмотрите, И немного улыбнитесь! Ребята, послушайте, какая тишина! Это везде начались уроки. Мы не будем тратить время зря, И приступим все к работе.</dc:title>
</cp:coreProperties>
</file>