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DD3-DB30-4F6A-BCF1-26F7D1CF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219-4FD7-4E03-B375-DCB431EB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6C9-2E00-49CA-A347-CCE23B35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CEB-1A40-44B4-A7D4-AC249B77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491-5E8C-4E54-B14A-DC84FFAC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904-6C12-49DE-8A7E-BD896697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E4E-8CB9-47AB-9786-54A479B7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624-E8CB-4C7D-9E0C-1707C8C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B05-67E4-4E30-8F5B-3A2C9627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1DD-3270-4F2C-BDE7-6C3EDE4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7CB-8527-40B1-BFD5-8806445B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87F-C655-47F6-A780-1C682E04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6923-0562-45B7-8C96-55539059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002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МБОУ «Хову-Аксы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Учитель биологии: Дирчин С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1143000"/>
            <a:ext cx="6019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емлетрясени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вулкан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682560"/>
            <a:ext cx="8229600" cy="6175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ая со стрелкой 7" descr=""/>
          <p:cNvPicPr/>
          <p:nvPr/>
        </p:nvPicPr>
        <p:blipFill>
          <a:blip r:embed="rId2"/>
          <a:stretch/>
        </p:blipFill>
        <p:spPr>
          <a:xfrm rot="20817600">
            <a:off x="3428640" y="2285640"/>
            <a:ext cx="4421160" cy="884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469640" y="1523880"/>
            <a:ext cx="15051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а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7880" y="0"/>
            <a:ext cx="54932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аг землетряс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895480" y="1522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о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бласть на поверхности земли, расположенная над очагом землетряс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2743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цен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Гриша\Мои документы\Мои рисунки\землетресение\seism.gif"/>
          <p:cNvPicPr/>
          <p:nvPr/>
        </p:nvPicPr>
        <p:blipFill>
          <a:blip r:embed="rId1"/>
          <a:stretch/>
        </p:blipFill>
        <p:spPr>
          <a:xfrm>
            <a:off x="1143000" y="2000160"/>
            <a:ext cx="7143840" cy="3643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292400" y="390600"/>
            <a:ext cx="70531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кала землетрясений по шкале Рих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685800"/>
          <a:ext cx="3657600" cy="5867280"/>
        </p:xfrm>
        <a:graphic>
          <a:graphicData uri="http://schemas.openxmlformats.org/drawingml/2006/table">
            <a:tbl>
              <a:tblPr/>
              <a:tblGrid>
                <a:gridCol w="897120"/>
                <a:gridCol w="276048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не чувству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ие движения люстр, звон посу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ают небольшие предме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ются трещины на стенах дом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постро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аются многие построй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28656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88936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0600" y="2895480"/>
            <a:ext cx="2871720" cy="944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3809880"/>
            <a:ext cx="285912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876920" y="4724280"/>
            <a:ext cx="287172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486400" y="5715000"/>
            <a:ext cx="287172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Гриша\Мои документы\Мои рисунки\мектепте  жәнеуйде ӨМІР ҚАУІПСІЗДІГІ мен ДЕНСАУЛЫҚТЫ САҚТАУ\Изображение 041.jpg"/>
          <p:cNvPicPr/>
          <p:nvPr/>
        </p:nvPicPr>
        <p:blipFill>
          <a:blip r:embed="rId1"/>
          <a:stretch/>
        </p:blipFill>
        <p:spPr>
          <a:xfrm>
            <a:off x="3286080" y="2500200"/>
            <a:ext cx="1901880" cy="21211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" descr=""/>
          <p:cNvPicPr/>
          <p:nvPr/>
        </p:nvPicPr>
        <p:blipFill>
          <a:blip r:embed="rId2"/>
          <a:stretch/>
        </p:blipFill>
        <p:spPr>
          <a:xfrm>
            <a:off x="23760" y="-176040"/>
            <a:ext cx="917568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Гриша\Мои документы\Мои рисунки\мектепте  жәнеуйде ӨМІР ҚАУІПСІЗДІГІ мен ДЕНСАУЛЫҚТЫ САҚТАУ\Изображение 085.jpg"/>
          <p:cNvPicPr/>
          <p:nvPr/>
        </p:nvPicPr>
        <p:blipFill>
          <a:blip r:embed="rId3"/>
          <a:stretch/>
        </p:blipFill>
        <p:spPr>
          <a:xfrm>
            <a:off x="5643720" y="1928880"/>
            <a:ext cx="1609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Гриша\Мои документы\Мои рисунки\мектепте  жәнеуйде ӨМІР ҚАУІПСІЗДІГІ мен ДЕНСАУЛЫҚТЫ САҚТАУ\Изображение 086.jpg"/>
          <p:cNvPicPr/>
          <p:nvPr/>
        </p:nvPicPr>
        <p:blipFill>
          <a:blip r:embed="rId4"/>
          <a:stretch/>
        </p:blipFill>
        <p:spPr>
          <a:xfrm>
            <a:off x="5715000" y="4929120"/>
            <a:ext cx="1609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Гриша\Мои документы\Мои рисунки\мектепте  жәнеуйде ӨМІР ҚАУІПСІЗДІГІ мен ДЕНСАУЛЫҚТЫ САҚТАУ\Изображение 087.jpg"/>
          <p:cNvPicPr/>
          <p:nvPr/>
        </p:nvPicPr>
        <p:blipFill>
          <a:blip r:embed="rId5"/>
          <a:srcRect l="27908" t="12958" r="16287" b="20094"/>
          <a:stretch/>
        </p:blipFill>
        <p:spPr>
          <a:xfrm>
            <a:off x="2357280" y="514368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Гриша\Мои документы\Мои рисунки\мектепте  жәнеуйде ӨМІР ҚАУІПСІЗДІГІ мен ДЕНСАУЛЫҚТЫ САҚТАУ\Изображение 088.jpg"/>
          <p:cNvPicPr/>
          <p:nvPr/>
        </p:nvPicPr>
        <p:blipFill>
          <a:blip r:embed="rId6"/>
          <a:stretch/>
        </p:blipFill>
        <p:spPr>
          <a:xfrm>
            <a:off x="785880" y="3714840"/>
            <a:ext cx="117000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Documents and Settings\Гриша\Мои документы\Мои рисунки\мектепте  жәнеуйде ӨМІР ҚАУІПСІЗДІГІ мен ДЕНСАУЛЫҚТЫ САҚТАУ\Изображение 091.jpg"/>
          <p:cNvPicPr/>
          <p:nvPr/>
        </p:nvPicPr>
        <p:blipFill>
          <a:blip r:embed="rId7"/>
          <a:stretch/>
        </p:blipFill>
        <p:spPr>
          <a:xfrm>
            <a:off x="5786280" y="3071880"/>
            <a:ext cx="1536840" cy="153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Documents and Settings\Гриша\Мои документы\Мои рисунки\мектепте  жәнеуйде ӨМІР ҚАУІПСІЗДІГІ мен ДЕНСАУЛЫҚТЫ САҚТАУ\Изображение 090.jpg"/>
          <p:cNvPicPr/>
          <p:nvPr/>
        </p:nvPicPr>
        <p:blipFill>
          <a:blip r:embed="rId8"/>
          <a:stretch/>
        </p:blipFill>
        <p:spPr>
          <a:xfrm>
            <a:off x="1143000" y="1643040"/>
            <a:ext cx="2193840" cy="168264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10"/>
          <p:cNvCxnSpPr/>
          <p:nvPr/>
        </p:nvCxnSpPr>
        <p:spPr>
          <a:xfrm flipV="1">
            <a:off x="4875840" y="2818800"/>
            <a:ext cx="1143720" cy="12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11"/>
          <p:cNvSpPr/>
          <p:nvPr/>
        </p:nvSpPr>
        <p:spPr>
          <a:xfrm>
            <a:off x="7151400" y="228600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-конечная звезда 12"/>
          <p:cNvSpPr/>
          <p:nvPr/>
        </p:nvSpPr>
        <p:spPr>
          <a:xfrm>
            <a:off x="5286240" y="1643040"/>
            <a:ext cx="2500560" cy="155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14"/>
          <p:cNvCxnSpPr/>
          <p:nvPr/>
        </p:nvCxnSpPr>
        <p:spPr>
          <a:xfrm>
            <a:off x="4857480" y="4000680"/>
            <a:ext cx="114372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TextBox 18"/>
          <p:cNvSpPr/>
          <p:nvPr/>
        </p:nvSpPr>
        <p:spPr>
          <a:xfrm>
            <a:off x="7220160" y="3571920"/>
            <a:ext cx="163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д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3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9"/>
          <p:cNvCxnSpPr/>
          <p:nvPr/>
        </p:nvCxnSpPr>
        <p:spPr>
          <a:xfrm>
            <a:off x="4856760" y="4000320"/>
            <a:ext cx="1143720" cy="128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TextBox 23"/>
          <p:cNvSpPr/>
          <p:nvPr/>
        </p:nvSpPr>
        <p:spPr>
          <a:xfrm>
            <a:off x="7365600" y="550080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пте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24"/>
          <p:cNvCxnSpPr/>
          <p:nvPr/>
        </p:nvCxnSpPr>
        <p:spPr>
          <a:xfrm flipH="1">
            <a:off x="3928680" y="4000680"/>
            <a:ext cx="929520" cy="1429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27"/>
          <p:cNvSpPr/>
          <p:nvPr/>
        </p:nvSpPr>
        <p:spPr>
          <a:xfrm>
            <a:off x="4008960" y="585792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п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28"/>
          <p:cNvCxnSpPr/>
          <p:nvPr/>
        </p:nvCxnSpPr>
        <p:spPr>
          <a:xfrm flipH="1">
            <a:off x="1928520" y="4000680"/>
            <a:ext cx="292968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32"/>
          <p:cNvSpPr/>
          <p:nvPr/>
        </p:nvSpPr>
        <p:spPr>
          <a:xfrm>
            <a:off x="11160" y="4857840"/>
            <a:ext cx="24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Элект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он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3"/>
          <p:cNvCxnSpPr/>
          <p:nvPr/>
        </p:nvCxnSpPr>
        <p:spPr>
          <a:xfrm flipH="1" flipV="1">
            <a:off x="3142440" y="3214080"/>
            <a:ext cx="1786680" cy="786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" name="TextBox 36"/>
          <p:cNvSpPr/>
          <p:nvPr/>
        </p:nvSpPr>
        <p:spPr>
          <a:xfrm>
            <a:off x="5040" y="307188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ежду по сез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66880" y="228600"/>
            <a:ext cx="3886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800" y="175248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2760" y="175248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и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7760" y="1143000"/>
            <a:ext cx="144756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143000"/>
            <a:ext cx="1676520" cy="609480"/>
          </a:xfrm>
          <a:prstGeom prst="line">
            <a:avLst/>
          </a:prstGeom>
          <a:ln w="572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4267440" cy="34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4197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онический вул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29200" cy="411480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10"/>
          <p:cNvCxnSpPr/>
          <p:nvPr/>
        </p:nvCxnSpPr>
        <p:spPr>
          <a:xfrm flipV="1">
            <a:off x="2895120" y="2209320"/>
            <a:ext cx="3048840" cy="1067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1" name="Прямая со стрелкой 10"/>
          <p:cNvCxnSpPr/>
          <p:nvPr/>
        </p:nvCxnSpPr>
        <p:spPr>
          <a:xfrm flipV="1">
            <a:off x="2895120" y="3276360"/>
            <a:ext cx="3125160" cy="7624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2" name="Прямая со стрелкой 10"/>
          <p:cNvCxnSpPr/>
          <p:nvPr/>
        </p:nvCxnSpPr>
        <p:spPr>
          <a:xfrm>
            <a:off x="2971440" y="5409720"/>
            <a:ext cx="1981800" cy="762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>
            <a:off x="3657600" y="4114440"/>
            <a:ext cx="2286720" cy="762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94" name=""/>
          <p:cNvSpPr/>
          <p:nvPr/>
        </p:nvSpPr>
        <p:spPr>
          <a:xfrm>
            <a:off x="6098760" y="170964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1400" y="2895480"/>
            <a:ext cx="16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р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51400" y="42670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10560" y="586728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чаг маг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Шкала землетрясений по шкале Рих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4120" y="4162320"/>
            <a:ext cx="3170160" cy="109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4241880"/>
            <a:ext cx="320040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3252960" cy="106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480" y="2438280"/>
            <a:ext cx="3240360" cy="113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3200400" cy="112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181480" y="838080"/>
            <a:ext cx="3429000" cy="1163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7600" y="60357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не чувствует. 1-2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6035760"/>
            <a:ext cx="41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большие движения люстр, звон посуды. 3-4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6035760"/>
            <a:ext cx="31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дают небольшие предметы. 5-6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35760"/>
            <a:ext cx="38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мечаются трещины на стенах домов. 7-8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6035760"/>
            <a:ext cx="27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ушение построек. 9-10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603576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ушаются многие постройки. 11-12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7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67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240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67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50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87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1175E-006 L -0.2901 -0.71716 E">
                                      <p:cBhvr>
                                        <p:cTn id="17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1175E-006 L -0.24965 -0.49515 E">
                                      <p:cBhvr>
                                        <p:cTn id="18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1175E-006 L 0.24809 -0.70606 E">
                                      <p:cBhvr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1175E-006 L -0.26267 -0.22873 E">
                                      <p:cBhvr>
                                        <p:cTn id="19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1175E-006 L 0.2559 -0.49515 E">
                                      <p:cBhvr>
                                        <p:cTn id="20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1175E-006 L 0.2375 -0.23983 E">
                                      <p:cBhvr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1-18T14:44:4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