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97E-2FC4-4E0F-ACF7-598075C0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894-A677-45EE-97C0-C8CC75F2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8C0-68B3-4DB4-8139-C0827E19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77D2-1347-4138-ADAE-2214CC11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BEF-CC46-4519-9425-44A419DC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BA8F-18F3-4104-9EB9-D6C56919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C14-866D-482A-95A2-083D6C4D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E507-FF1D-490C-B81D-03559C02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F73-FA61-400B-A598-59FC38DA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5CA-787A-4EDF-B539-DB63B7E2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A10-3818-46DA-AB11-3903A6FF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0F07-6E47-4D39-A9A1-8E182F99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E2E6-B5CB-4F36-9998-DA5CC58853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2060"/>
                </a:solidFill>
                <a:latin typeface="Calibri"/>
              </a:rPr>
              <a:t>ПРЕСВЯТАЯ ТРОИЦ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214960" y="4642920"/>
            <a:ext cx="34718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втор: Мелихова Ю.А.,педагог доп. образования МОУ Центр «Истоки» г. Волгогр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bc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c005e"/>
                </a:solidFill>
                <a:latin typeface="Calibri"/>
              </a:rPr>
              <a:t>«Любовью должен соединяться человек с Богом и с ближними, тогда уподобится он Святой Троице», </a:t>
            </a:r>
            <a:r>
              <a:rPr b="1" lang="ru-RU" sz="3200" spc="-1" strike="noStrike">
                <a:solidFill>
                  <a:srgbClr val="ff158a"/>
                </a:solidFill>
                <a:latin typeface="Calibri"/>
              </a:rPr>
              <a:t>- сказал преподобный Сергий Радонежский в видении Андрею Рублев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000"/>
                </a:solidFill>
                <a:latin typeface="Calibri"/>
              </a:rPr>
              <a:t>Троица – это не только образ триипостасного Бога, но и символ единства и Божественной любв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ВОЗАВЕТНАЯ ТРО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360" y="1213920"/>
            <a:ext cx="47862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c7000"/>
                </a:solidFill>
                <a:latin typeface="Calibri"/>
              </a:rPr>
              <a:t>Встречаются и другие иконы Святой Троицы, на которых Бог-Отец изображен в виде Старца. Господь Иисус Христос восседает рядом с Богом-Отцом. В левой руке Спаситель держит Евангелие, в правой – крест. Бог-Дух Святой изображен в виде голубя, парящего над Ними. Такие иконы называются «Новозаветной Троицей». Но такое изображение Троицы  является неканоническ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F:\иллюстрации для иконовед\18. Вопросы церковного искусства на Стоглавом соборе\4 Отечество НЗ Троица.jpg"/>
          <p:cNvPicPr/>
          <p:nvPr/>
        </p:nvPicPr>
        <p:blipFill>
          <a:blip r:embed="rId1"/>
          <a:stretch/>
        </p:blipFill>
        <p:spPr>
          <a:xfrm>
            <a:off x="5572080" y="1857240"/>
            <a:ext cx="27100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F:\иллюстрации для иконовед\15. Исихазм\Троица преп. Андрея Рублёва, 1422-27 г.jpg"/>
          <p:cNvPicPr/>
          <p:nvPr/>
        </p:nvPicPr>
        <p:blipFill>
          <a:blip r:embed="rId1"/>
          <a:stretch/>
        </p:blipFill>
        <p:spPr>
          <a:xfrm>
            <a:off x="500040" y="1285920"/>
            <a:ext cx="3427560" cy="4357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48320" y="499680"/>
            <a:ext cx="40384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4f"/>
                </a:solidFill>
                <a:latin typeface="Calibri"/>
              </a:rPr>
              <a:t>«Пресвятая Троица, Боже наш, слава Тебе!»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4f"/>
                </a:solidFill>
                <a:latin typeface="Calibri"/>
              </a:rPr>
              <a:t>молятся христиане перед иконой Святой Троицы, на которой изображен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4f"/>
                </a:solidFill>
                <a:latin typeface="Calibri"/>
              </a:rPr>
              <a:t>три Лица Единого Бог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4f"/>
                </a:solidFill>
                <a:latin typeface="Calibri"/>
              </a:rPr>
              <a:t>Бог Отец, Бог Сын и Бог Дух Свят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e00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ЕТХОЗАВЕТНАЯ ТРОИЦ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Изображение  Пресвятой Троицы в виде трех Ангелов основано на библейском повествовании о том, как Бог явился к праотцу Аврааму в виде трех Странников и пообещал, что от Авраама произойдет великий наро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СТЕПРИИМСТВО АВРАА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F:\иллюстрации для иконовед\18. Вопросы церковного искусства на Стоглавом соборе\Гостеприимство Авраама.jpg"/>
          <p:cNvPicPr/>
          <p:nvPr/>
        </p:nvPicPr>
        <p:blipFill>
          <a:blip r:embed="rId1"/>
          <a:stretch/>
        </p:blipFill>
        <p:spPr>
          <a:xfrm>
            <a:off x="5302080" y="1785960"/>
            <a:ext cx="3245040" cy="37148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0" y="1571760"/>
            <a:ext cx="4143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Святая Троица изображается в виде трех Ангелов, сидящих под дубом. На столе перед ними – угощение, предложенное Авраамом, который стоит рядом. Сарра находится здесь с Авраамом или в шат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32968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тхозаветна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оица поздне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ла изобра-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аться без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раама и ег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ен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F:\иллюстрации для иконовед\19. XVII век\Симон Ушаков Троица 176в.tif"/>
          <p:cNvPicPr/>
          <p:nvPr/>
        </p:nvPicPr>
        <p:blipFill>
          <a:blip r:embed="rId1"/>
          <a:stretch/>
        </p:blipFill>
        <p:spPr>
          <a:xfrm>
            <a:off x="5000760" y="493560"/>
            <a:ext cx="335736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F:\иллюстрации для иконовед\15. Исихазм\Троица преп. Андрея Рублёва, 1422-27 г.jpg"/>
          <p:cNvPicPr/>
          <p:nvPr/>
        </p:nvPicPr>
        <p:blipFill>
          <a:blip r:embed="rId1"/>
          <a:stretch/>
        </p:blipFill>
        <p:spPr>
          <a:xfrm>
            <a:off x="709560" y="928800"/>
            <a:ext cx="3370320" cy="4286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648320" y="1071720"/>
            <a:ext cx="4038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Икона Ветхозаветной Троицы </a:t>
            </a:r>
            <a:r>
              <a:rPr b="1" lang="ru-RU" sz="2800" spc="-1" strike="noStrike">
                <a:solidFill>
                  <a:srgbClr val="004200"/>
                </a:solidFill>
                <a:latin typeface="Calibri"/>
              </a:rPr>
              <a:t>Андрея Рублева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особенно глубока по смыслу.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Это не сцена посещения Господом Авраама и Сарры,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это божественный совет Святой Троицы</a:t>
            </a: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"/>
                            </p:stCondLst>
                            <p:childTnLst>
                              <p:par>
                                <p:cTn id="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-360"/>
            <a:ext cx="49291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За столом – обращенные друг к другу в тихой беседе три Ангела. Все трое как будто вписаны в невидимый круг: смотришь на среднего Ангела, а взгляд переходит к левому, от него – к правому, и опять к центру. Так Андрей выразил единство и нераздельность самой Троицы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Расположение Ангелов представляет еще и крест, основанием которого является стоящий перед иконой человек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F:\иллюстрации для иконовед\15. Исихазм\Троица преп. Андрея Рублёва, 1422-27 г.jpg"/>
          <p:cNvPicPr/>
          <p:nvPr/>
        </p:nvPicPr>
        <p:blipFill>
          <a:blip r:embed="rId1"/>
          <a:stretch/>
        </p:blipFill>
        <p:spPr>
          <a:xfrm>
            <a:off x="5450040" y="1357200"/>
            <a:ext cx="3089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мволы Тро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1196640"/>
            <a:ext cx="5003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Над левым Ангелом виднеется здание. Это – Отец. Его волей сотворен весь мир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buClr>
                <a:srgbClr val="b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00000"/>
                </a:solidFill>
                <a:latin typeface="Calibri"/>
              </a:rPr>
              <a:t>Над средним Ангелом – вечнозеленое дерево. Это символ Божьего Сына, потому что Христос дает нам жизнь вечную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Calibri"/>
              </a:rPr>
              <a:t>Над третьим Ангелом – горы, возвышенность – устремление в высь. Это Бог-Дух Святой, Который наполняет дух человека и направляет его к Бог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F:\иллюстрации для иконовед\15. Исихазм\Троица преп. Андрея Рублёва, 1422-27 г.jpg"/>
          <p:cNvPicPr/>
          <p:nvPr/>
        </p:nvPicPr>
        <p:blipFill>
          <a:blip r:embed="rId1"/>
          <a:stretch/>
        </p:blipFill>
        <p:spPr>
          <a:xfrm>
            <a:off x="5715000" y="1571760"/>
            <a:ext cx="293544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188640"/>
            <a:ext cx="50036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На иконе изображен диалог Лиц Пресвятой Троицы – предвечный совет: Бог-Отец обращается к Богу-Сыну и указывает на необходимость искупительной жертвы, а Сын отвечает согласием на волю От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5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c00"/>
                </a:solidFill>
                <a:latin typeface="Calibri"/>
              </a:rPr>
              <a:t>На столе – чаша с агнцем – образ жертвы Христа. Отец рукой благословляет чашу, т.е. Сына на крестные страдания ради спасения людей, Сын дает свое согласие принести Себя в жертву. Третий Ангел присутствует как Утешите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Крайние Ангелы образуют символическую чашу, а Бог-Сын – Христос – в центре ее – как Жер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F:\иллюстрации для иконовед\15. Исихазм\Троица преп. Андрея Рублёва, 1422-27 г.jpg"/>
          <p:cNvPicPr/>
          <p:nvPr/>
        </p:nvPicPr>
        <p:blipFill>
          <a:blip r:embed="rId1"/>
          <a:stretch/>
        </p:blipFill>
        <p:spPr>
          <a:xfrm>
            <a:off x="5643720" y="1714680"/>
            <a:ext cx="283356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07T09:27:56Z</dcterms:modified>
  <cp:revision>31</cp:revision>
  <dc:subject/>
  <dc:title>Слайд 1</dc:title>
</cp:coreProperties>
</file>