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198-497B-4510-990D-DA469BAC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1520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1520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28B4-8341-48CF-9F85-314F044B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4122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28E-FDC5-49BE-83F6-B664CCA2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49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980720"/>
            <a:ext cx="26449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980720"/>
            <a:ext cx="26449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49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4122720"/>
            <a:ext cx="26449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4122720"/>
            <a:ext cx="26449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B9E-6A06-4E38-B86A-8618C129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4CFD-3C77-4AA7-8542-2DEC6F9F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15200" cy="41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4086-0087-4002-A821-2671C674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1520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E7D1-6982-48E4-9554-8C4B1357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0896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400896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9E9A-718F-4875-B05E-D12197A3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01A8-3180-4729-8481-755F1DC6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8380-55C5-411D-B2E7-73E445D9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400896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6578-18B5-4D6A-B063-0D1D2EDD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15200" cy="41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167-B5DE-4429-9103-D683A46D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0896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040" y="4122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3A97-0CA5-49CC-BA46-81C858B3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1520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9B70-F756-4727-AEB8-585C3079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1520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1520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D67A-D108-4982-AB77-044AE3C4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040" y="4122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6FAF-22B6-42E7-9018-1D6A0460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49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4600" y="1980720"/>
            <a:ext cx="26449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2360" y="1980720"/>
            <a:ext cx="26449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49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4600" y="4122720"/>
            <a:ext cx="26449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2360" y="4122720"/>
            <a:ext cx="26449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DA23-3C22-4E50-8B12-F5FAB6BB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1520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76F-C41E-4FE5-8515-D9152E4E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0896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400896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176F-B02F-47DA-AAB7-899EDBE1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9B92-B6D5-47CE-A4BE-C4B02381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8BA-623E-42D9-95A4-68DD0218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400896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37F-0BE1-4204-8F5A-60FFC8BD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0896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4122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D8DB-B0F4-4EB5-8524-3BB9EDD6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40089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1520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F004-E700-4EFD-B197-78FB1ED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1520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14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3DAB0-FB8D-4D36-ABF7-98562CDC1C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58000" cy="18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814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461E3DC-8643-4EDB-8F3C-F008FEF8A5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152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763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Муниципаль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Средняя общеобразовательная школа №9 им. В.Т. Степанченко</a:t>
            </a:r>
            <a:br>
              <a:rPr sz="20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Научно - практическая конференция</a:t>
            </a:r>
            <a:br>
              <a:rPr sz="2400"/>
            </a:br>
            <a:br>
              <a:rPr sz="18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сследовательская работа на тему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: </a:t>
            </a:r>
            <a:r>
              <a:rPr b="0" lang="en-US" sz="3200" spc="-1" strike="noStrike">
                <a:solidFill>
                  <a:srgbClr val="e5ffff"/>
                </a:solidFill>
                <a:latin typeface="Monotype Corsiva"/>
              </a:rPr>
              <a:t>’’</a:t>
            </a:r>
            <a:r>
              <a:rPr b="0" lang="ru-RU" sz="3200" spc="-1" strike="noStrike">
                <a:solidFill>
                  <a:srgbClr val="e5ffff"/>
                </a:solidFill>
                <a:latin typeface="Monotype Corsiva"/>
              </a:rPr>
              <a:t>История моего города в сборнике Г.В.. Степанченко </a:t>
            </a:r>
            <a:r>
              <a:rPr b="0" lang="en-US" sz="3200" spc="-1" strike="noStrike">
                <a:solidFill>
                  <a:srgbClr val="e5ffff"/>
                </a:solidFill>
                <a:latin typeface="Monotype Corsiva"/>
              </a:rPr>
              <a:t>’’</a:t>
            </a:r>
            <a:r>
              <a:rPr b="0" lang="ru-RU" sz="3200" spc="-1" strike="noStrike">
                <a:solidFill>
                  <a:srgbClr val="e5ffff"/>
                </a:solidFill>
                <a:latin typeface="Monotype Corsiva"/>
              </a:rPr>
              <a:t>Россия</a:t>
            </a:r>
            <a:r>
              <a:rPr b="0" lang="en-US" sz="3200" spc="-1" strike="noStrike">
                <a:solidFill>
                  <a:srgbClr val="e5ffff"/>
                </a:solidFill>
                <a:latin typeface="Monotype Corsiva"/>
              </a:rPr>
              <a:t>’’</a:t>
            </a:r>
            <a:r>
              <a:rPr b="0" lang="ru-RU" sz="3200" spc="-1" strike="noStrike">
                <a:solidFill>
                  <a:srgbClr val="e5ffff"/>
                </a:solidFill>
                <a:latin typeface="Monotype Corsiva"/>
              </a:rPr>
              <a:t>. Опыт лингвистического анализа»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90360" y="4190760"/>
            <a:ext cx="784836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ликина  Анастасия Александров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учающаяся 5 «Б» к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 Зуева Людмила Васил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. Рже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011г.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Мои наблюдени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45820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1840" indent="-321840" algn="ctr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3c917"/>
                </a:solidFill>
                <a:latin typeface="Georgia"/>
              </a:rPr>
              <a:t>Морфологические особенности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1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дпочтение 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ествительным и глагола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щ.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%, они называют предметы изображения: костёр, град, шатёр, брёвна, храм, мечи, колосья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1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6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% слов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го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, с помощью которых автор показывает, как строился город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зацепился», «застучали», «встаёт», «проплывают», «убегает», «льётс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 и др. На мой взгляд, стих – ие с большим количеством глаголов является динамичным, экспрессивным. Благодаря использованию глаголов интонация стих – ия характеризуется напряжённостью, большей чётк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1840" indent="-321840" algn="ctr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3c917"/>
                </a:solidFill>
                <a:latin typeface="Georgia"/>
              </a:rPr>
              <a:t>Синтаксический рисуно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тих – ия разнообразе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1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ще используются сложные предложени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(Примеры – в работе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се виды СП, но предпочтение отдаётся СПП и БСП. Они не производят впечатления тяжеловесности, нагромождённости. Напротив, эти виды пр – ий придают стих – ию выразительность и эмоциональ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1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Monotype Corsiva"/>
              </a:rPr>
              <a:t>’’</a:t>
            </a:r>
            <a:r>
              <a:rPr b="1" lang="ru-RU" sz="3200" spc="-1" strike="noStrike">
                <a:solidFill>
                  <a:srgbClr val="ccccff"/>
                </a:solidFill>
                <a:latin typeface="Monotype Corsiva"/>
              </a:rPr>
              <a:t>Ржева Володимирова</a:t>
            </a:r>
            <a:r>
              <a:rPr b="1" lang="en-US" sz="3200" spc="-1" strike="noStrike">
                <a:solidFill>
                  <a:srgbClr val="ccccff"/>
                </a:solidFill>
                <a:latin typeface="Monotype Corsiva"/>
              </a:rPr>
              <a:t>’’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3c917"/>
                </a:solidFill>
                <a:latin typeface="Tahoma"/>
              </a:rPr>
              <a:t>Был-де в городе князь- да лихой, удалой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Tahoma"/>
              </a:rPr>
              <a:t>Вряд ли сыщется где- то подобный такой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Tahoma"/>
              </a:rPr>
              <a:t>Он по городу ездит на белом ко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Tahoma"/>
              </a:rPr>
              <a:t>Он усы свои мочит в зеленом вине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3c917"/>
                </a:solidFill>
                <a:latin typeface="Tahoma"/>
              </a:rPr>
              <a:t>Водит ржевичей в бой, рубежи сторожи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 в светлице своей по ночам ворожит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-673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00720" y="1079640"/>
            <a:ext cx="4500360" cy="54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360" y="179280"/>
            <a:ext cx="86407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Дань уважения князю — основателю Ржева. В каждой строчке — преклонение перед князем Владимиром, безграничная любовь к нему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79280"/>
            <a:ext cx="4191120" cy="629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ahoma"/>
              </a:rPr>
              <a:t>Богатство лексики (эпитеты, сравнения, метафоры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ahoma"/>
              </a:rPr>
              <a:t>Авторское отношение к происходящему, передача эмоционального состоян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319640" y="1619280"/>
            <a:ext cx="46800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3c917"/>
                </a:solidFill>
                <a:latin typeface="Georgia"/>
              </a:rPr>
              <a:t>МОИ   НАБЛЮДЕ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Г.В.Степанченко изобретателен в выборе частей речи. Я обратила внимание, что  в этом стих – ии автор использовал краткие прилагательные («дорог», «люб», «удал»), которые создают особый интонационный рисунок - плавный, спокойны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В этом стих – ии меньше глаголов, но они очень выразительные. Я разделила их на две группы: в 1- глаголы, не несущие активного действия. Глаголы второй группы динамичны, они характеризуют действия княз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БОЛЕЕ ПОДРОБНО - В РАБОТ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280" y="4319640"/>
            <a:ext cx="234000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0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«Война», «Обелиски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32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19320" y="1465200"/>
            <a:ext cx="6933960" cy="50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-464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’’</a:t>
            </a: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Обелиски</a:t>
            </a: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’’</a:t>
            </a:r>
            <a:br>
              <a:rPr sz="4000"/>
            </a:b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д горизонтом в тяжких ризах ту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сплывает солнце раскален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иском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 падает литой звенящий лу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 плиты под высоким обелиск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 них скупые выбиты сл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 тех, кто пал на той вой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еликой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х золотит старательно ли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х обагряют трепетной  гвозди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округ- озер задумчивый простор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еревьев шум, холм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епокорен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еченье туч прослеживает взор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сознавая мира сотворенност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 под гранитным холодом п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Лежат сыны возлюблен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тчиз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лач матерей, кровавые бинты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ы слышите? Настало время тризны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овольно суетиться и ропта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овольно славить и негодова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стало время всей душой понят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ем мы должны во имя павших ста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464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’’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белиски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’’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орастает земля обелисками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ад холмами, у рек, у доро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Часовыми и стражами близки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бступили родимый поро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стрия их граненые, веч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т земли устремляются ввысь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Мы порою бываем беспечными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глянись же на них, оглянись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колько павших под ними схоронено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Только письма остались от ни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 еще- обелиски, и Родин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бессмертная память жив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колько правды от них нам завещан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колько самой прекрасной любв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колько глинистых пашен замеша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а живой их, горячей крови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колько надо трудиться и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ероват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любимых своих целоват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вставать за Отечество-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ервым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Чтоб пред ними себя оправд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3c917"/>
                </a:solidFill>
                <a:latin typeface="Georgia"/>
              </a:rPr>
              <a:t>Современный  РЖЕ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3760" y="1915920"/>
            <a:ext cx="35636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60360" y="1440000"/>
            <a:ext cx="792000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228600"/>
            <a:ext cx="4343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92160" y="228600"/>
            <a:ext cx="5497560" cy="6324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791320" y="2816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голуб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137160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Garamond"/>
              </a:rPr>
              <a:t>«Ржевск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143000"/>
            <a:ext cx="4244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От сизарей дымился небосво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От белых голубиц вскипала пена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112536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657600" y="1606680"/>
            <a:ext cx="548640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Вступл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1840" indent="-321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0099"/>
                </a:solidFill>
                <a:latin typeface="Tahoma"/>
              </a:rPr>
              <a:t>На карте нашей родины много городов</a:t>
            </a:r>
            <a:r>
              <a:rPr b="0" lang="en-US" sz="3200" spc="-1" strike="noStrike">
                <a:solidFill>
                  <a:srgbClr val="280099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280099"/>
                </a:solidFill>
                <a:latin typeface="Tahoma"/>
              </a:rPr>
              <a:t> больших и малых</a:t>
            </a:r>
            <a:r>
              <a:rPr b="0" lang="en-US" sz="3200" spc="-1" strike="noStrike">
                <a:solidFill>
                  <a:srgbClr val="280099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280099"/>
                </a:solidFill>
                <a:latin typeface="Tahoma"/>
              </a:rPr>
              <a:t> провинциальных и столичных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1840" indent="-321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0099"/>
                </a:solidFill>
                <a:latin typeface="Tahoma"/>
              </a:rPr>
              <a:t>Но есть городок в Тверской области</a:t>
            </a:r>
            <a:r>
              <a:rPr b="0" lang="en-US" sz="3200" spc="-1" strike="noStrike">
                <a:solidFill>
                  <a:srgbClr val="280099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280099"/>
                </a:solidFill>
                <a:latin typeface="Tahoma"/>
              </a:rPr>
              <a:t> который стал моей малой родиной. Это Ржев</a:t>
            </a:r>
            <a:r>
              <a:rPr b="0" lang="en-US" sz="3200" spc="-1" strike="noStrike">
                <a:solidFill>
                  <a:srgbClr val="280099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280099"/>
                </a:solidFill>
                <a:latin typeface="Tahoma"/>
              </a:rPr>
              <a:t>город Воинской славы</a:t>
            </a:r>
            <a:r>
              <a:rPr b="0" lang="en-US" sz="3200" spc="-1" strike="noStrike">
                <a:solidFill>
                  <a:srgbClr val="280099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280099"/>
                </a:solidFill>
                <a:latin typeface="Tahoma"/>
              </a:rPr>
              <a:t> в котором я живу и которым горжу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1840" indent="-321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0099"/>
                </a:solidFill>
                <a:latin typeface="Tahoma"/>
              </a:rPr>
              <a:t>Многие русские писатели и поэты рассказали о моем городе. Но кто скажет о нём лучше</a:t>
            </a:r>
            <a:r>
              <a:rPr b="0" lang="en-US" sz="3200" spc="-1" strike="noStrike">
                <a:solidFill>
                  <a:srgbClr val="280099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280099"/>
                </a:solidFill>
                <a:latin typeface="Tahoma"/>
              </a:rPr>
              <a:t>как ни живущие здесь поэты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899987611771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Голуби- примета Ржева!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4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о Ржеве всегда разводили голубей; городские мальчишки, выпуская их в небо, наблюдали за полетом этих красивых птиц. А город рос, хорошел, набирался сил. Подрастали дети, шли в школу, а перемены ,как всегда у всех поколений - пролетали незаметно. Детвора высыпала во двор и любовалась чудесными птицами. Даже гул пролетающих истребителей не заглушал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’’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гром крыл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’’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. Автор словно описывает себя, свое детство, свои ощущения, а вместе с тем, детство всего послевоенного поколения, с их радостями, с их горестя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8680" indent="-328680">
              <a:spcBef>
                <a:spcPts val="4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 жизнь набирала обороты. Все меняется, меняемся мы, меняются села, города… а вместе с тем -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8680" indent="-328680">
              <a:spcBef>
                <a:spcPts val="4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«вспорхнули в небо и исчезли птицы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’’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Новый мост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’’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т - новый мост поставил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бусы пустил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ПСС прославил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ра!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оголоси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оду-то, народу-то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то вдрызг, а кто вполпья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дет гульба по гор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 дружный стук стакан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шли-пошли, поехали!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рцует кавалька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реха ли, потеха ли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нам того и над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52880" y="914040"/>
            <a:ext cx="3733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еркает чья-то лыс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ают чьи-то шар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ьются-бьются исто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литры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мб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шкал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да-сюда пошаркае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ьшая, значит, польза нам!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харкаем, и шмякае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о асфальту полза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т новый мост отгрохал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т новый мост открыл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хлопали, потопал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выкли, позабы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тят себе автобус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гут автомобил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помнишь, как по глобус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нта  кастетом били??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21960" cy="71978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8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f3f6d6"/>
              </a:solidFill>
              <a:latin typeface="Monotype Corsi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4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Использование слов в разговорном стиле речи: 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’’</a:t>
            </a: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пустили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’’, ’’</a:t>
            </a: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пошаркаем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’’, ’’</a:t>
            </a: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отгрохали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’’, ’’</a:t>
            </a: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шмякаем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’’, ’’</a:t>
            </a: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ползаем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’’, ’’</a:t>
            </a: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похлопали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’’, ’’</a:t>
            </a: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потопали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’’, ’’</a:t>
            </a: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катят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’’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8680" indent="-328680">
              <a:spcBef>
                <a:spcPts val="4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Жаргонизмы: 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’’</a:t>
            </a: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бомбы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’’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(</a:t>
            </a: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бутылки),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’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’</a:t>
            </a: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по глобусу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’’ 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( </a:t>
            </a: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по голове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), 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’’</a:t>
            </a: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мент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’’ </a:t>
            </a: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8680" indent="-328680">
              <a:spcBef>
                <a:spcPts val="4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В отличие от других произведений Г.В. Степанченко, в стихотворении 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’’</a:t>
            </a: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Новый мост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’’ </a:t>
            </a: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нет возвышенной лексики, старославянизмов, эпитетов, удлиненной строки. Все обыденно и совсем не яр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56000" y="260280"/>
            <a:ext cx="36954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«НОВЫЙ  МОСТ»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965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Monotype Corsiva"/>
              </a:rPr>
              <a:t>’’</a:t>
            </a: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Храм Вознесения</a:t>
            </a:r>
            <a:r>
              <a:rPr b="0" lang="en-US" sz="4800" spc="-1" strike="noStrike">
                <a:solidFill>
                  <a:srgbClr val="ff0000"/>
                </a:solidFill>
                <a:latin typeface="Monotype Corsiva"/>
              </a:rPr>
              <a:t>’’</a:t>
            </a: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876560" y="180036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 сравнивает пустой кошелек с невзрачным городом. И в том и в другом случае появляется что – то новое, город растет и в кошельке серебро. Над обрывом старинным, над плакучей травой встает молодой храм, где тишина, покой и светится купол, где простой мужик становится священником, у которого нет ничего кроме в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72428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dur="indefinite" fill="hold">
                      <p:stCondLst>
                        <p:cond delay="0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024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Подведём  итоги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3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3c917"/>
                </a:solidFill>
                <a:latin typeface="Georgia"/>
              </a:rPr>
              <a:t>Что же я открыла для себ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3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3280" indent="-323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В. Степанченко – истинный ржевитянин, хотя и не коренной, это человек, любящий свой город, всей душой болеющий за не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3280" indent="-323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познакомилась с настоящим мастером своего дела, Поэтом с большой буквы, который не просто умело, а творчески использует все возможности языка. В его стих – ях смысловую и эмоциональную нагрузку несёт каждое слово, каждое предлож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3280" indent="-323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нгвистический  анализ некоторых стихотворений помог мне почувствовать красоту слова, выразительность поэтической речи, помог соприкоснуться с магией творчества Г.В. Степанченк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3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fill="hold">
                      <p:stCondLst>
                        <p:cond delay="0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примере сборник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с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’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следить творческую историю развития моего родного город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его прошлое и настояще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8680" indent="-328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вить отношение Г.В. Степанченко к малой родин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8680" indent="-328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ть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какие художественные средства использует автор в создании образа Рже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8680" indent="-328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ходе лингвистического анализа выявить лексическое своеобразие сборника, соотношение используемых в стихотворениях частей речи, выбор автором синтаксических конструк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0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69840"/>
            <a:ext cx="86104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Факты  биографии </a:t>
            </a:r>
            <a:br>
              <a:rPr sz="4400"/>
            </a:b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Г.В. Степанченк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 августа 1952 г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8680" indent="-328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разова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железнодорожная школа № 6, исторический факультет Калининского государственного университе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8680" indent="-328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дактор газеты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от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8680" indent="-328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лен Союза журналистов Росси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 9-и книг стихов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8680" indent="-328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ый сборник - это событие в культур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зни Рже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8680" indent="-328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10 г. – сборник «Шекспир и компания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е стихи и посвящения ржевским поэт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77120" y="3048120"/>
            <a:ext cx="25146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0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42920"/>
            <a:ext cx="8001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Monotype Corsiva"/>
              </a:rPr>
              <a:t>Сборник  «Россия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079280"/>
            <a:ext cx="84582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3c917"/>
                </a:solidFill>
                <a:latin typeface="Tahoma"/>
              </a:rPr>
              <a:t>                 </a:t>
            </a:r>
            <a:r>
              <a:rPr b="1" lang="ru-RU" sz="3200" spc="-1" strike="noStrike">
                <a:solidFill>
                  <a:srgbClr val="d8d300"/>
                </a:solidFill>
                <a:latin typeface="Tahoma"/>
              </a:rPr>
              <a:t>Для меня важны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-330120"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гляд автора на прошлое Ржева, его военную биографию и настояще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-330120"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ресно поэтическое мастерство Г.Степанчен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67080" y="4038480"/>
            <a:ext cx="434340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8080"/>
            <a:ext cx="91440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3c917"/>
                </a:solidFill>
                <a:latin typeface="Monotype Corsiva"/>
              </a:rPr>
              <a:t>«Здесь будет город заложён…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ctr"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Как всё  начиналос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0120" indent="-330120" algn="ctr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Monotype Corsiva"/>
              </a:rPr>
              <a:t>(</a:t>
            </a:r>
            <a:r>
              <a:rPr b="1" lang="en-US" sz="3600" spc="-1" strike="noStrike">
                <a:solidFill>
                  <a:srgbClr val="ccccff"/>
                </a:solidFill>
                <a:latin typeface="Monotype Corsiva"/>
              </a:rPr>
              <a:t>’’</a:t>
            </a:r>
            <a:r>
              <a:rPr b="1" lang="ru-RU" sz="3600" spc="-1" strike="noStrike">
                <a:solidFill>
                  <a:srgbClr val="ccccff"/>
                </a:solidFill>
                <a:latin typeface="Monotype Corsiva"/>
              </a:rPr>
              <a:t>Основание града</a:t>
            </a:r>
            <a:r>
              <a:rPr b="1" lang="en-US" sz="3600" spc="-1" strike="noStrike">
                <a:solidFill>
                  <a:srgbClr val="ccccff"/>
                </a:solidFill>
                <a:latin typeface="Monotype Corsiva"/>
              </a:rPr>
              <a:t>’’, ’’</a:t>
            </a:r>
            <a:r>
              <a:rPr b="1" lang="ru-RU" sz="3600" spc="-1" strike="noStrike">
                <a:solidFill>
                  <a:srgbClr val="ccccff"/>
                </a:solidFill>
                <a:latin typeface="Monotype Corsiva"/>
              </a:rPr>
              <a:t>Ржева Володимирова</a:t>
            </a:r>
            <a:r>
              <a:rPr b="1" lang="en-US" sz="3600" spc="-1" strike="noStrike">
                <a:solidFill>
                  <a:srgbClr val="ccccff"/>
                </a:solidFill>
                <a:latin typeface="Monotype Corsiva"/>
              </a:rPr>
              <a:t>’’</a:t>
            </a:r>
            <a:r>
              <a:rPr b="1" lang="ru-RU" sz="3600" spc="-1" strike="noStrike">
                <a:solidFill>
                  <a:srgbClr val="ccccff"/>
                </a:solidFill>
                <a:latin typeface="Monotype Corsiva"/>
              </a:rPr>
              <a:t>)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34120" y="4267080"/>
            <a:ext cx="3581280" cy="2503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’’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снование града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’’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371600"/>
            <a:ext cx="4038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стучали кругом топор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тела щепа золотая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д встает на вершине гор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н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башн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 церковь свя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23920" y="137160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7010280"/>
            <a:ext cx="45626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Льется брага в шелом золотой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се для буйного пира готов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стал над яствами князь удал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 промолв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заздрав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172360" y="6308640"/>
            <a:ext cx="57636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1752480" cy="4191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791320" y="1219320"/>
            <a:ext cx="335268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’’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Основание града</a:t>
            </a: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’’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усть стоит сей излюбленный град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усть живут в нем и множатся люди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00720" y="1260360"/>
            <a:ext cx="4500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Мои наблюдени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763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боте я попыталась дать лингвистический анализ стихотворения, остановившись на лексическом богатстве, экспрессивных возможностях частей речи, синтаксическом своеобразии произве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8680" indent="-328680" algn="ctr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3c917"/>
                </a:solidFill>
                <a:latin typeface="Georgia"/>
              </a:rPr>
              <a:t>Лексический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ст стих – ия: использование книжной и разговорной лекс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86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С</a:t>
            </a:r>
            <a:r>
              <a:rPr b="1" lang="ru-RU" sz="2400" spc="-1" strike="noStrike">
                <a:solidFill>
                  <a:srgbClr val="ccffff"/>
                </a:solidFill>
                <a:latin typeface="Tahoma"/>
              </a:rPr>
              <a:t>тарославянизм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их более 10): «брашно», «шелом», «шуйца», «десница», «град», «заздравное»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86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Э</a:t>
            </a:r>
            <a:r>
              <a:rPr b="1" lang="ru-RU" sz="2400" spc="-1" strike="noStrike">
                <a:solidFill>
                  <a:srgbClr val="ccffff"/>
                </a:solidFill>
                <a:latin typeface="Tahoma"/>
              </a:rPr>
              <a:t>питеты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«весёлые тени», «щепа золотая»). </a:t>
            </a:r>
            <a:r>
              <a:rPr b="1" lang="ru-RU" sz="2400" spc="-1" strike="noStrike">
                <a:solidFill>
                  <a:srgbClr val="ccffff"/>
                </a:solidFill>
                <a:latin typeface="Tahoma"/>
              </a:rPr>
              <a:t>Просторечные слов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«плюхает», «брага», «сей», «нахлебался» и др.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86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Georgia"/>
              </a:rPr>
              <a:t>РОЛЬ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тексте: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здают местный колорит, погружают читателя в атмосферу быта ржевич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0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8:21:47Z</dcterms:created>
  <dc:creator>User</dc:creator>
  <dc:description/>
  <dc:language>en-US</dc:language>
  <cp:lastModifiedBy>User</cp:lastModifiedBy>
  <dcterms:modified xsi:type="dcterms:W3CDTF">2011-04-07T14:58:06Z</dcterms:modified>
  <cp:revision>141</cp:revision>
  <dc:subject/>
  <dc:title>’’История моего города в сборнике Г.В. Степанченко ’’Россия’’.</dc:title>
</cp:coreProperties>
</file>