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841-081D-4CCE-8720-0B348A17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F4F-3411-4895-9DD3-C900B37D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E0A-2EF4-47E0-A548-3AFDA364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7D0-B68C-44F0-A98A-419EAFBC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1B29-494C-4B20-8500-FA9E69DC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962-1EB8-4F15-BE25-E40690E2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E2DF-F6F1-4FA3-AA21-E67F0C25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C301-D7B3-4749-899D-669E4FC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1984-C127-419A-9B7A-883A087A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AE5A-1E62-4FF6-9F0B-4F0E35BB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70B4-82F8-4144-87FA-7A95E95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46D-A89E-4087-A26B-A0DD7D86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BEA8-B32A-4222-BEB0-C4148AEE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5C7-EEEA-46B2-9DF5-E60D72F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3BAC-1E0C-4206-948E-BB7E1DE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F56-3663-4A7E-AD0D-EE9EEDB0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8E55-9908-43B7-9CF3-F1840302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E2DD-60B1-4B63-8820-CA747B01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CB5B-8F2D-4183-A0F8-C973F149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FDEF-AF77-488C-8AFF-73A4B2B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1A47-F0A1-4628-B974-29D85F0A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7227-6253-4E95-99B4-958CC296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A9D-A7F2-498C-A797-CC08AF7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6463-5560-4C35-ADE1-2CF52382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C393-FA2C-49C7-A51A-63A6716A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7D0F-00A6-4969-8470-9BE38AD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D926-0281-4FEA-9F77-C59FBC8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0F3D-D2BC-4C93-A93B-E72D0B6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4B55-064B-425E-8DA2-C104FD2F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CDDD-B285-4492-A05C-818F8F7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8893-AD08-4B0F-B762-50D6FAD8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F7E2-012A-4756-A716-41FF68B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3324-60A7-475A-A3D4-32602CA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C53-7BEC-4848-989B-7622AE0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77D7-E6D1-4978-8391-D27F1830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567B-64A0-427D-8686-103F8B71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7F2D-6B32-41CE-8A24-815296C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849F-73C5-4A06-97A3-70B3AB3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95A0-20F2-44EC-8898-3F64A41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B2CA-3F1F-4B93-9CB5-36AF90C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F372-1F5F-452B-B30B-5532F132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E9AFA-1D86-4093-B020-0AD18523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8E82F-0CE9-4685-8429-10D3D925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6612-85CC-4157-8593-6F9D7145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D51-7BEE-4E71-8D81-C0F4327E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9E8D0-4BB8-4557-92BC-DE2630F2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3F0CF-7C06-476C-B6EA-B509C623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A97D-F0B7-498B-96BF-6361EFAE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4E59-E07F-42F2-8118-4901168B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C6E6-F321-47DA-A1A1-9FA44C8F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3683-DD75-4817-BD66-BD578ED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71FC-98DD-4935-8552-365905D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D9E1-02A0-462B-B6DA-F7A39AA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6719-2AAE-4A9E-8B0E-59C55623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99FFF-6ADF-40DC-A690-022F68F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A2A-24EC-4843-AA7E-E392320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EFA5-BF2C-457B-BA99-84BB64C6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E44-4772-4F9A-945A-098480D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A74-8D8F-44F0-BE58-0DB09E01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716-0A19-40C4-B99E-7EBB093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FFD-8F9C-492F-9206-61A695268DBF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BECD-7A18-4932-9EB3-D81ACE7B282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D9D6-61AD-47BC-89E1-57BDAB0F8581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4C70-115C-4961-A351-6E39BF1BD0BF}" type="slidenum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6829-0F7D-4D22-9B2F-834C8D1A6135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706840" y="566640"/>
            <a:ext cx="5906880" cy="4151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86080" y="4642920"/>
            <a:ext cx="5114880" cy="138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Излучинская ОСШ№1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итель технологии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анюков Ю.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2084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214720"/>
            <a:ext cx="7238880" cy="42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иск информации в сети Интернет во внеурочное время (с использованием либо домашнего компьютера, либо школьной сети в регламентированное время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ование ЦОР, имеющихся в наличии в кабинете технологии, в урочное и внеурочное врем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353880"/>
            <a:ext cx="7255080" cy="243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2785680"/>
            <a:ext cx="72388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иск информации об аналогах в сети Интерн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ование ЦОР, имеющихся в наличии в кабинете технологии, в урочное и внеурочное врем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15200" cy="2114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3000240"/>
            <a:ext cx="72388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ование средств Microsoft Office для создания пояснительной запис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ование ЦОР и фотоархива кабинета, в урочное и внеурочное врем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760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2357280"/>
            <a:ext cx="72388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ние презентаций и рекламных проспектов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Point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blisher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obe Photoshop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 Studio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Мах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rel Draw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lash MX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ользование ЦОР и фотоархива кабинета, в урочное и внеурочное врем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3:25:49Z</dcterms:created>
  <dc:creator>1</dc:creator>
  <dc:description/>
  <dc:language>en-US</dc:language>
  <cp:lastModifiedBy>1</cp:lastModifiedBy>
  <dcterms:modified xsi:type="dcterms:W3CDTF">2010-11-03T03:37:06Z</dcterms:modified>
  <cp:revision>2</cp:revision>
  <dc:subject/>
  <dc:title>ИНФОРМАЦИОННО-КОММУНИКАЦИОННЫЕ ТЕХНОЛОГИИ И ЦИФРОВЫЕ ОБРАЗОВАТЕЛЬНЫЕ РЕСУРСЫ КАК СРЕДСТВО РЕАЛИЗАЦИИ ЦЕЛЕЙ ОБРАЗОВАНИЯ НА УРОКАХ ТЕХНОЛОГИИ </dc:title>
</cp:coreProperties>
</file>