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255A-DFB6-48A9-8DE0-5B98265842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DB12-D893-43C4-AFEF-28D5B163A0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75ED-02E4-4672-8903-3B52B164E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8449-3C8F-4D75-8152-6AB1614A28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4E32-666B-4F95-BBC7-F72E4C3AE3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93D6-6675-4C98-B7BD-992461DA1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8906-6626-4B09-B2DB-BBF4EEE398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42CE-8BAF-469F-9AE1-A6C82918C5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6ED0-1D44-439F-8051-69D3AAAF5F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534F-9057-4826-9EFF-394B3A28ED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098F-778C-4D4D-BCF6-24AE64309A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F3D8-095C-4199-816D-7CAFFD029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B710-80DC-433B-A964-2557437E47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9188-F108-41DF-B7CC-FFFF179705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2C2D-280B-4108-9D36-BC4AAFA514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7FC7-2377-4EE7-ACCD-8FDC38592F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1257-BC9F-40A7-9F20-817C2FEC5F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D497-D0EA-4AC3-B907-E5067E103C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34BB-1A12-489F-8354-E63DF4147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3973-C1C0-4C9B-86EB-610A0612F1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40C3-DD57-4D73-AA23-711C2E3BC7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4F0C-3754-4B1B-8733-961A1AB718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3EC6-C30A-4723-859C-696FBD56B6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2086-0296-4924-99B2-FBA18AE482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2AAB-EA35-4B49-ADE3-7DF11D4A67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79BC-108C-4342-A73F-16BC62B0D1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DE76-53AA-41BE-B1E9-1C638032D2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10BD-4E36-43AE-A836-70E63D6A2D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E8E-6127-49C3-B28C-00AB638B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968-7B32-4AD2-B3B4-5FA3DB63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AE5-72BC-47E9-AE47-19DAEBD5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9CE-8AAD-4F31-84BD-B69BC5AB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8C4-6133-44D9-9846-243987CD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3A2-5BCB-427F-A39D-C140966B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8BAD-275E-4F5F-A93E-15C43C6E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5B6-4407-4526-BEED-6A787E02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100-142C-459D-8161-E8713109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E42-3A18-408D-8692-FDB78596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CD6-9BB4-4B4B-BF3D-346F1BE5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739-8F3C-4181-89C1-3B1CB829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a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5E6A-3506-4B8B-9D29-27898A94D1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Готовимся к ГИА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04920" y="1371600"/>
            <a:ext cx="847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по теме:</a:t>
            </a:r>
            <a:r>
              <a:rPr b="1" lang="en-US" sz="3200" spc="-1" strike="noStrike">
                <a:solidFill>
                  <a:srgbClr val="505050"/>
                </a:solidFill>
                <a:latin typeface="Stencil"/>
              </a:rPr>
              <a:t> </a:t>
            </a: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Корни с чере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1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75920" y="5715000"/>
            <a:ext cx="60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ушина О.Н.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Павдинская СОШ Новолял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8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7. 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08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8. 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гр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м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иг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фа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2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9. 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ло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4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10. 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е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не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>
            <a:hlinkClick r:id="rId1" action="ppaction://hlinksldjump"/>
          </p:cNvPr>
          <p:cNvSpPr/>
          <p:nvPr/>
        </p:nvSpPr>
        <p:spPr>
          <a:xfrm>
            <a:off x="1295280" y="18828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>
            <a:hlinkClick r:id="rId2" action="ppaction://hlinksldjump"/>
          </p:cNvPr>
          <p:cNvSpPr/>
          <p:nvPr/>
        </p:nvSpPr>
        <p:spPr>
          <a:xfrm>
            <a:off x="1295280" y="3330720"/>
            <a:ext cx="7010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69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274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8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1.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ра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045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0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2. 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стя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о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льк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070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142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2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3.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ж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191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3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4.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мок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ху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312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58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9"/>
          <p:cNvSpPr/>
          <p:nvPr/>
        </p:nvSpPr>
        <p:spPr>
          <a:xfrm>
            <a:off x="22860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году тебе предстоит сдавать Единый государственный экзамен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 – проверочный тест по данной теме, за который ты получишь отм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емся, что эти занятия помогут тебе успешно подготовиться к ЕГЭ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елаем удачи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5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5.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ло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яс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361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433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7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6.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вня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ощ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л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яде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458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482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506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530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9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7.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г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рям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ят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555" nodeType="clickEffect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579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627" nodeType="clickEffect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1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8.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8"/>
          <p:cNvSpPr/>
          <p:nvPr/>
        </p:nvSpPr>
        <p:spPr>
          <a:xfrm>
            <a:off x="817560" y="2600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т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по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652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676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700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724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3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9.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мок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я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ча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749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773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797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821" nodeType="clickEffect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10.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а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епить серд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латить дол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ядить ружь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846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918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472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00"/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93"/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94"/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1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вторим 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609480" y="5943600"/>
            <a:ext cx="358164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3"/>
          <p:cNvSpPr/>
          <p:nvPr/>
        </p:nvSpPr>
        <p:spPr>
          <a:xfrm>
            <a:off x="6019920" y="5943600"/>
            <a:ext cx="28191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75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9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1. 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плот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а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ет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94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9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2. 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о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сло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ор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13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9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3. 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кош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х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32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9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4. 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ихомол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рос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и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51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5. 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еди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к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ир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7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6. Вопрос: Укажите слово с 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ж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о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ж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User</cp:lastModifiedBy>
  <dcterms:modified xsi:type="dcterms:W3CDTF">2012-02-14T14:23:57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