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70B-24A1-49A2-B9FB-E5E476B9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CC8-C2E7-4C8C-A969-3974944F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5AA-F350-4DED-A719-37E16F08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D06-6A27-473E-8B8A-E98B38D9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D18-ACD9-4BFF-8533-F9D979C7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E5C-349B-4CDC-A3FB-4752770F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4EC-BA85-4D4A-9114-E6867956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769-FEC4-4363-A607-25C90F3A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2C6-4B8F-4994-BC01-CE16C3E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250-8ADE-4B4A-B688-0D540343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DC1-F031-4473-9F52-5130B2D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D25-3528-425F-8072-0F846E10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73F6-3CEE-44EE-B657-5764CF0BD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11.nnm.ru/f/b/5/4/7/d71e8489e16dfe8e5324fc43b7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otab.ru/imajes/vinipux/vinipux01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biratelzvezd.ru/wp-content/uploads/2008/12/vinni_puh_idet_v_gosti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vira12edu.ucoz.ru/kartinki/krug_jpg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а 3 класс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Умножение и деление многозначного числ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однозначное»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«Школа 2000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495680"/>
            <a:ext cx="4419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разработала Подолинская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о. Лосино-Петр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-1638" t="2175" r="3279" b="6523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32004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столб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90 (ост.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340 (ост.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9 (ост.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05520" y="228600"/>
            <a:ext cx="40384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столб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06 (ост.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 (ост.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020 (ост.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с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859200" cy="44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001000" y="685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2057400" y="30492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дохнём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7955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Реш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Винни -Пуха в кошельке 90 руб. Сколько баночек мёда по цене 12 руб. он сможет куп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257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267080" y="43434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90:12 = 7(ост. 6 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Ответ: 7 баночек мёда сможет купить Винни-П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24280" cy="419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 один день на пасеке собр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 л мёда. Весь мёд нужно разлить в бидоны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литра. Какое минимальное количество таких бидонов для этого потребу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50:3=16 (Ост.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Ответ: 17 бидонов потреб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Картинка 259 из 532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76720" cy="3362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0" y="6171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(X+Xx2)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80880"/>
            <a:ext cx="289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В классе а мальчик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вочек.Они выстроились парами. Сколько           получилось пар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438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(a+b)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: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4495680"/>
            <a:ext cx="2362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С :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(3+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320040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овогодние подарки разложили с конфет, причём в каждый положили по 3 шоколадные конфеты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денцов. Сколько приготовили подар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4935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Расчёска стоит х руб., а заколка в 2 раза дороже. Сколько пятирублёвых монет надо отдать в кассу, чтобы заплатить 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чёску и заколку в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Картинка 2 из 532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62720" y="304920"/>
            <a:ext cx="1981080" cy="1676160"/>
          </a:xfrm>
          <a:prstGeom prst="wedgeRoundRectCallout">
            <a:avLst>
              <a:gd name="adj1" fmla="val -123796"/>
              <a:gd name="adj2" fmla="val 86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0492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бери задание на 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2286000" y="304920"/>
            <a:ext cx="5791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362320" y="2286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371600"/>
            <a:ext cx="815328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ерсон Л.Г. Математика. 3 класс. Учебник – тетрадь в 3-х ч. – М.: Издательство «Ювента», 2009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инки: http://images.yandex.ru/?lr=2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16200"/>
            <a:ext cx="89154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044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торить нумерацию и запись многозначных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вторить правила нахождения неизвестных компонентов умножения и д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епить навык умножения и деления многозначных  чисел на однозначное  число для различных случаев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пражняться в решении задач на деление с остатком, на части и по содерж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развивать навыки устного и письменного сч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развивать интерес к математике, активность и внимание    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развивать логическое мышление, память, речь,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457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38080" y="1447920"/>
            <a:ext cx="1523880" cy="642600"/>
            <a:chOff x="838080" y="1447920"/>
            <a:chExt cx="1523880" cy="642600"/>
          </a:xfrm>
        </p:grpSpPr>
        <p:sp>
          <p:nvSpPr>
            <p:cNvPr id="46" name=""/>
            <p:cNvSpPr/>
            <p:nvPr/>
          </p:nvSpPr>
          <p:spPr>
            <a:xfrm>
              <a:off x="838080" y="1523880"/>
              <a:ext cx="13716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66680" y="14479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838080" y="2743200"/>
            <a:ext cx="1523880" cy="642600"/>
            <a:chOff x="838080" y="2743200"/>
            <a:chExt cx="1523880" cy="642600"/>
          </a:xfrm>
        </p:grpSpPr>
        <p:grpSp>
          <p:nvGrpSpPr>
            <p:cNvPr id="49" name=""/>
            <p:cNvGrpSpPr/>
            <p:nvPr/>
          </p:nvGrpSpPr>
          <p:grpSpPr>
            <a:xfrm>
              <a:off x="838080" y="2743200"/>
              <a:ext cx="1523880" cy="641160"/>
              <a:chOff x="838080" y="2743200"/>
              <a:chExt cx="1523880" cy="641160"/>
            </a:xfrm>
          </p:grpSpPr>
          <p:sp>
            <p:nvSpPr>
              <p:cNvPr id="50" name=""/>
              <p:cNvSpPr/>
              <p:nvPr/>
            </p:nvSpPr>
            <p:spPr>
              <a:xfrm>
                <a:off x="838080" y="2819160"/>
                <a:ext cx="13716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66680" y="2743200"/>
                <a:ext cx="12952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67760" y="2743200"/>
              <a:ext cx="94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0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429000" y="1447920"/>
            <a:ext cx="1523880" cy="642600"/>
            <a:chOff x="3429000" y="1447920"/>
            <a:chExt cx="1523880" cy="642600"/>
          </a:xfrm>
        </p:grpSpPr>
        <p:sp>
          <p:nvSpPr>
            <p:cNvPr id="54" name=""/>
            <p:cNvSpPr/>
            <p:nvPr/>
          </p:nvSpPr>
          <p:spPr>
            <a:xfrm>
              <a:off x="3429000" y="1523880"/>
              <a:ext cx="13716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7600" y="14479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98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2743200"/>
            <a:ext cx="1523880" cy="642600"/>
            <a:chOff x="3429000" y="2743200"/>
            <a:chExt cx="1523880" cy="642600"/>
          </a:xfrm>
        </p:grpSpPr>
        <p:sp>
          <p:nvSpPr>
            <p:cNvPr id="57" name=""/>
            <p:cNvSpPr/>
            <p:nvPr/>
          </p:nvSpPr>
          <p:spPr>
            <a:xfrm>
              <a:off x="3429000" y="281952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7600" y="27432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80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019920" y="1447920"/>
            <a:ext cx="1523880" cy="642600"/>
            <a:chOff x="6019920" y="1447920"/>
            <a:chExt cx="1523880" cy="642600"/>
          </a:xfrm>
        </p:grpSpPr>
        <p:sp>
          <p:nvSpPr>
            <p:cNvPr id="60" name=""/>
            <p:cNvSpPr/>
            <p:nvPr/>
          </p:nvSpPr>
          <p:spPr>
            <a:xfrm>
              <a:off x="6019920" y="1523880"/>
              <a:ext cx="13716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248520" y="14479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05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19920" y="2666880"/>
            <a:ext cx="2100240" cy="642600"/>
            <a:chOff x="6019920" y="2666880"/>
            <a:chExt cx="2100240" cy="642600"/>
          </a:xfrm>
        </p:grpSpPr>
        <p:sp>
          <p:nvSpPr>
            <p:cNvPr id="63" name=""/>
            <p:cNvSpPr/>
            <p:nvPr/>
          </p:nvSpPr>
          <p:spPr>
            <a:xfrm>
              <a:off x="6019920" y="2743200"/>
              <a:ext cx="19810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8520" y="266688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675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1828800" y="449568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ы умница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3372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пиши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9907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сот.млн 3 ед.тыс 8 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9907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500.003.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00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ед.тыс.8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600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.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209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млрд.5тыс.4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209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.000.005.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819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8дес.т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2819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2.80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4290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е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3429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6.000.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962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 тыс.48 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4.0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5720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дес.млн.734ед.тыс.7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4572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500.734.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572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надцать тысяч триста 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5257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7.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5257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59436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сть миллионов д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6600" y="59436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.000.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943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029200" y="1676520"/>
          <a:ext cx="3429000" cy="4717800"/>
        </p:xfrm>
        <a:graphic>
          <a:graphicData uri="http://schemas.openxmlformats.org/drawingml/2006/table">
            <a:tbl>
              <a:tblPr/>
              <a:tblGrid>
                <a:gridCol w="2590920"/>
                <a:gridCol w="838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.3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.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00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.80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6.000.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0.003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0.734.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000.005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52280" y="228600"/>
            <a:ext cx="5181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вам спешил я на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успел, надеюсь, в с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йте, как меня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ю на это 5 мин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59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2578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астное 450 и 9 равно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22860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Произведение 15 и 9 равно 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1430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умма 36  и 64 равна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6002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8 больше 26 в 3 раза меньше 6300 в 7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 делении на 7 остаток может быть равен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276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астное 67 и 7 равно 9 (ост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809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 делении 2345 на 5 получится 40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4956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тобы найти делимое, нужно делитель разделить на 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55627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еление проверяется слож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95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таток всегда больше дел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0" y="457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86000" y="1143000"/>
            <a:ext cx="3123720" cy="4876560"/>
            <a:chOff x="2286000" y="1143000"/>
            <a:chExt cx="3123720" cy="4876560"/>
          </a:xfrm>
        </p:grpSpPr>
        <p:sp>
          <p:nvSpPr>
            <p:cNvPr id="110" name=""/>
            <p:cNvSpPr/>
            <p:nvPr/>
          </p:nvSpPr>
          <p:spPr>
            <a:xfrm>
              <a:off x="2286000" y="1143000"/>
              <a:ext cx="3123720" cy="40928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90040" y="5235840"/>
              <a:ext cx="1226880" cy="78372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4382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666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838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5486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7120" y="91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50320" y="42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4680" y="19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3280" y="312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5680" y="5638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4480" y="487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8880" y="571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93080" y="57150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7280" y="419112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3962520" y="5257800"/>
            <a:ext cx="2210400" cy="991440"/>
          </a:xfrm>
          <a:prstGeom prst="curvedConnector5">
            <a:avLst>
              <a:gd name="adj1" fmla="val 49991"/>
              <a:gd name="adj2" fmla="val 49981"/>
              <a:gd name="adj3" fmla="val 49991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-main-pic" descr="Картинка 3 из 110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838080"/>
            <a:ext cx="7848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90920" y="152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990720"/>
          <a:ext cx="7778520" cy="4768560"/>
        </p:xfrm>
        <a:graphic>
          <a:graphicData uri="http://schemas.openxmlformats.org/drawingml/2006/table">
            <a:tbl>
              <a:tblPr/>
              <a:tblGrid>
                <a:gridCol w="353880"/>
                <a:gridCol w="352440"/>
                <a:gridCol w="353880"/>
                <a:gridCol w="352440"/>
                <a:gridCol w="355680"/>
                <a:gridCol w="353880"/>
                <a:gridCol w="352440"/>
                <a:gridCol w="353880"/>
                <a:gridCol w="352440"/>
                <a:gridCol w="354240"/>
                <a:gridCol w="355680"/>
                <a:gridCol w="350640"/>
                <a:gridCol w="355680"/>
                <a:gridCol w="352440"/>
                <a:gridCol w="353880"/>
                <a:gridCol w="354240"/>
                <a:gridCol w="352440"/>
                <a:gridCol w="353880"/>
                <a:gridCol w="352440"/>
                <a:gridCol w="353880"/>
                <a:gridCol w="355680"/>
                <a:gridCol w="352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60020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990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523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0574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048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514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4114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5257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581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990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1523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048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114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15238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581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3124080" cy="2387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867280" y="6019920"/>
            <a:ext cx="2743200" cy="533160"/>
          </a:xfrm>
          <a:prstGeom prst="rightArrow">
            <a:avLst>
              <a:gd name="adj1" fmla="val 50000"/>
              <a:gd name="adj2" fmla="val 1286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19920"/>
            <a:ext cx="2743200" cy="4572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4191120"/>
            <a:ext cx="1447920" cy="838080"/>
          </a:xfrm>
          <a:prstGeom prst="wedgeEllipseCallout">
            <a:avLst>
              <a:gd name="adj1" fmla="val -71819"/>
              <a:gd name="adj2" fmla="val 112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л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4:43:56Z</dcterms:created>
  <dc:creator>1</dc:creator>
  <dc:description/>
  <dc:language>en-US</dc:language>
  <cp:lastModifiedBy>1</cp:lastModifiedBy>
  <dcterms:modified xsi:type="dcterms:W3CDTF">2012-02-29T19:24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