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YWINNER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FFEA-F598-411B-AB90-3A6B71570D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5F50-99A5-42AD-9EE7-C18AF3EAB767}" type="slidenum">
              <a:rPr b="0" lang="ru-RU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6C9A-DE77-40D6-BD87-3E422695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0DF4-A712-41F8-A847-C0CFCB57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93E9-E78F-4593-88B7-0EB0216A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5E20-18D4-4AF4-B4E8-732C83FE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B7D1-6126-410F-96ED-DF7AE0C4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801-2083-4A77-9E64-94F00169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9237-8975-4AB7-8294-3B584BF6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8087-3ACF-4854-9183-D28D2D1F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DAA2-AF6D-466D-AC4B-D12F41D5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253B-4C27-4E49-9C4F-4B33495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9DEA-FA5D-497F-932B-344BC4B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A737-B775-40F2-9A2E-AB492649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8F69-1A8A-416D-BDBC-97B8B61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2BF4-8ECA-4E34-A7B9-55076877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67D7-344C-4319-BE9B-0CFFBCF0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AB46-CFB8-473C-ABF1-84EF6026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F9F8-74DE-4282-AB88-DD06C518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665E-DCF2-4678-9F17-8B194C1E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3F8A-1529-481C-818A-529AD85D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475E-1ADD-458C-8CE8-015DFD7A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CF10-81E1-40F5-8D98-8E8096D8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591E-823E-4220-8640-5FD8F955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BA49-8D64-4443-A9F1-4B77983D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CCB4-5E4D-4ADC-8046-BAA1646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684-CE3B-4909-9779-68231C5335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7B7B-10FC-4C1B-9862-F2BA702261EB}" type="slidenum">
              <a:rPr b="0" lang="ru-RU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YWINN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282"/>
          <p:cNvPicPr/>
          <p:nvPr/>
        </p:nvPicPr>
        <p:blipFill>
          <a:blip r:embed="rId1"/>
          <a:stretch/>
        </p:blipFill>
        <p:spPr>
          <a:xfrm>
            <a:off x="324000" y="476280"/>
            <a:ext cx="7775280" cy="604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Garamond"/>
              </a:rPr>
              <a:t>Молодец !</a:t>
            </a:r>
            <a:endParaRPr b="1" lang="en-US" sz="5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514"/>
                </a:solidFill>
                <a:latin typeface="Garamond"/>
              </a:rPr>
              <a:t>Правильный ответ!</a:t>
            </a:r>
            <a:endParaRPr b="0" lang="en-US" sz="5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AutoShape 6">
            <a:hlinkClick r:id="" action="ppaction://hlinkshowjump?jump=previousslide"/>
          </p:cNvPr>
          <p:cNvSpPr/>
          <p:nvPr/>
        </p:nvSpPr>
        <p:spPr>
          <a:xfrm>
            <a:off x="6948360" y="5734080"/>
            <a:ext cx="971640" cy="576360"/>
          </a:xfrm>
          <a:custGeom>
            <a:avLst/>
            <a:gdLst>
              <a:gd name="textAreaLeft" fmla="*/ 37080 w 971640"/>
              <a:gd name="textAreaRight" fmla="*/ 934560 w 9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6404" h="21600">
                <a:moveTo>
                  <a:pt x="0" y="0"/>
                </a:moveTo>
                <a:lnTo>
                  <a:pt x="36404" y="0"/>
                </a:lnTo>
                <a:lnTo>
                  <a:pt x="36404" y="21600"/>
                </a:lnTo>
                <a:lnTo>
                  <a:pt x="0" y="21600"/>
                </a:lnTo>
                <a:close/>
              </a:path>
              <a:path fill="lightenLess" w="36404" h="21600">
                <a:moveTo>
                  <a:pt x="0" y="0"/>
                </a:moveTo>
                <a:lnTo>
                  <a:pt x="36404" y="0"/>
                </a:lnTo>
                <a:lnTo>
                  <a:pt x="35004" y="1400"/>
                </a:lnTo>
                <a:lnTo>
                  <a:pt x="1400" y="1400"/>
                </a:lnTo>
                <a:close/>
              </a:path>
              <a:path fill="darken" w="36404" h="21600">
                <a:moveTo>
                  <a:pt x="36404" y="0"/>
                </a:moveTo>
                <a:lnTo>
                  <a:pt x="36404" y="21600"/>
                </a:lnTo>
                <a:lnTo>
                  <a:pt x="35004" y="20200"/>
                </a:lnTo>
                <a:lnTo>
                  <a:pt x="35004" y="1400"/>
                </a:lnTo>
                <a:close/>
              </a:path>
              <a:path fill="darkenLess" w="36404" h="21600">
                <a:moveTo>
                  <a:pt x="3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04" y="20200"/>
                </a:lnTo>
                <a:close/>
              </a:path>
              <a:path fill="lighten" w="3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04" h="21600">
                <a:moveTo>
                  <a:pt x="11196" y="3794"/>
                </a:moveTo>
                <a:lnTo>
                  <a:pt x="25209" y="10800"/>
                </a:lnTo>
                <a:lnTo>
                  <a:pt x="1119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YWINN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8) Принимать пищу рекомендуется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2 … 3 раз в день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4 … 5 раз в день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как можно чаще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как получитс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4286160" y="24289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0" name="AutoShape 6">
            <a:hlinkClick r:id="rId2" action="ppaction://hlinksldjump"/>
          </p:cNvPr>
          <p:cNvSpPr/>
          <p:nvPr/>
        </p:nvSpPr>
        <p:spPr>
          <a:xfrm>
            <a:off x="4286160" y="364320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1" name="AutoShape 7">
            <a:hlinkClick r:id="rId3" action="ppaction://hlinksldjump"/>
          </p:cNvPr>
          <p:cNvSpPr/>
          <p:nvPr/>
        </p:nvSpPr>
        <p:spPr>
          <a:xfrm>
            <a:off x="4286160" y="428616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2" name="AutoShape 8">
            <a:hlinkClick r:id="rId4" action="ppaction://hlinksldjump"/>
          </p:cNvPr>
          <p:cNvSpPr/>
          <p:nvPr/>
        </p:nvSpPr>
        <p:spPr>
          <a:xfrm>
            <a:off x="4286160" y="30002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Garamond"/>
              </a:rPr>
              <a:t>9) Источником витамина С в пище являются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191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«чупа-чупс»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сливочное масло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овощи и фрукты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хлеб и мясо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4857840" y="200016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6" name="AutoShape 6">
            <a:hlinkClick r:id="rId2" action="ppaction://hlinksldjump"/>
          </p:cNvPr>
          <p:cNvSpPr/>
          <p:nvPr/>
        </p:nvSpPr>
        <p:spPr>
          <a:xfrm>
            <a:off x="4857840" y="264312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7" name="AutoShape 7">
            <a:hlinkClick r:id="rId3" action="ppaction://hlinksldjump"/>
          </p:cNvPr>
          <p:cNvSpPr/>
          <p:nvPr/>
        </p:nvSpPr>
        <p:spPr>
          <a:xfrm>
            <a:off x="4857840" y="38577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8" name="AutoShape 8">
            <a:hlinkClick r:id="rId4" action="ppaction://hlinksldjump"/>
          </p:cNvPr>
          <p:cNvSpPr/>
          <p:nvPr/>
        </p:nvSpPr>
        <p:spPr>
          <a:xfrm>
            <a:off x="4857840" y="32148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0) Источником витамина В в пище являются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«чупа-чупс»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сливочное масло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овощи и фрукты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хлеб и мясо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AutoShape 6">
            <a:hlinkClick r:id="rId1" action="ppaction://hlinksldjump"/>
          </p:cNvPr>
          <p:cNvSpPr/>
          <p:nvPr/>
        </p:nvSpPr>
        <p:spPr>
          <a:xfrm>
            <a:off x="5000760" y="22147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500076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3" name="AutoShape 8">
            <a:hlinkClick r:id="rId3" action="ppaction://hlinksldjump"/>
          </p:cNvPr>
          <p:cNvSpPr/>
          <p:nvPr/>
        </p:nvSpPr>
        <p:spPr>
          <a:xfrm>
            <a:off x="500076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4" name="AutoShape 9">
            <a:hlinkClick r:id="rId4" action="ppaction://hlinksldjump"/>
          </p:cNvPr>
          <p:cNvSpPr/>
          <p:nvPr/>
        </p:nvSpPr>
        <p:spPr>
          <a:xfrm>
            <a:off x="5000760" y="4071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1) Мыться с мылом и мочалкой необходимо 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не реже 1 раза в неделю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не реже 2 раза в неделю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не реже 3 раза в неделю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как получитс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7" name="AutoShape 5">
            <a:hlinkClick r:id="rId1" action="ppaction://hlinksldjump"/>
          </p:cNvPr>
          <p:cNvSpPr/>
          <p:nvPr/>
        </p:nvSpPr>
        <p:spPr>
          <a:xfrm>
            <a:off x="5500800" y="27147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8" name="AutoShape 6">
            <a:hlinkClick r:id="rId2" action="ppaction://hlinksldjump"/>
          </p:cNvPr>
          <p:cNvSpPr/>
          <p:nvPr/>
        </p:nvSpPr>
        <p:spPr>
          <a:xfrm>
            <a:off x="5500800" y="33577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9" name="AutoShape 7">
            <a:hlinkClick r:id="rId3" action="ppaction://hlinksldjump"/>
          </p:cNvPr>
          <p:cNvSpPr/>
          <p:nvPr/>
        </p:nvSpPr>
        <p:spPr>
          <a:xfrm>
            <a:off x="5500800" y="4000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0" name="AutoShape 8">
            <a:hlinkClick r:id="rId4" action="ppaction://hlinksldjump"/>
          </p:cNvPr>
          <p:cNvSpPr/>
          <p:nvPr/>
        </p:nvSpPr>
        <p:spPr>
          <a:xfrm>
            <a:off x="5500800" y="21430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2) Ноги необходимо мыть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не реже 1 раза в неделю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каждый день утром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каждый день перед сном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не реже 2 раза в неделю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5715000" y="21430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71500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5715000" y="4000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571500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3) Ногти на руках необходимо подстригать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1 раз в неделю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2 раза в неделю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1 раз в 2 недел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как отрастут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500720" y="2928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4500720" y="3500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500720" y="4071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4500720" y="2286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4) Во время занятий расстояние от глаз до книги или тетради должно быть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25 … 30 см.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35 … 40 см.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45 … 50 см.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чем дальше, тем лучше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5429160" y="2286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5500800" y="3500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5500800" y="41432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550080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5) При просмотре телепередач не рекомендуется садится перед экраном ближе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41884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1 метр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2 метр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3 метр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5 метр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708360" y="2421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3708360" y="306864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708360" y="42940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3708360" y="3716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Garamond"/>
              </a:rPr>
              <a:t>Спасибо за ваши знания </a:t>
            </a: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!!!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207" name="Picture 4" descr="j0284916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4824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9640" y="60530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Т е х н о л о г и я          поможет          в а м          в с е г д а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209" name="MSj00821810000[1].mid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9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2" descr="S6002461"/>
          <p:cNvPicPr/>
          <p:nvPr/>
        </p:nvPicPr>
        <p:blipFill>
          <a:blip r:embed="rId1"/>
          <a:stretch/>
        </p:blipFill>
        <p:spPr>
          <a:xfrm>
            <a:off x="2214720" y="785880"/>
            <a:ext cx="6833880" cy="5124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ru-RU" sz="7200" spc="-1" strike="noStrike">
                <a:solidFill>
                  <a:srgbClr val="ffff00"/>
                </a:solidFill>
                <a:latin typeface="Garamond"/>
              </a:rPr>
              <a:t>Подумай ещё !!!</a:t>
            </a:r>
            <a:endParaRPr b="1" lang="en-US" sz="7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760" y="-4291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Garamond"/>
              </a:rPr>
              <a:t>Ответ не верный!</a:t>
            </a:r>
            <a:endParaRPr b="0" lang="en-US" sz="5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" name="AutoShape 6">
            <a:hlinkClick r:id="" action="ppaction://hlinkshowjump?jump=previousslide"/>
          </p:cNvPr>
          <p:cNvSpPr/>
          <p:nvPr/>
        </p:nvSpPr>
        <p:spPr>
          <a:xfrm>
            <a:off x="826920" y="5661000"/>
            <a:ext cx="1152720" cy="6476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36" h="21600">
                <a:moveTo>
                  <a:pt x="0" y="0"/>
                </a:moveTo>
                <a:lnTo>
                  <a:pt x="38436" y="0"/>
                </a:lnTo>
                <a:lnTo>
                  <a:pt x="38436" y="21600"/>
                </a:lnTo>
                <a:lnTo>
                  <a:pt x="0" y="21600"/>
                </a:lnTo>
                <a:close/>
              </a:path>
              <a:path fill="lightenLess" w="38436" h="21600">
                <a:moveTo>
                  <a:pt x="0" y="0"/>
                </a:moveTo>
                <a:lnTo>
                  <a:pt x="38436" y="0"/>
                </a:lnTo>
                <a:lnTo>
                  <a:pt x="37036" y="1400"/>
                </a:lnTo>
                <a:lnTo>
                  <a:pt x="1400" y="1400"/>
                </a:lnTo>
                <a:close/>
              </a:path>
              <a:path fill="darken" w="38436" h="21600">
                <a:moveTo>
                  <a:pt x="38436" y="0"/>
                </a:moveTo>
                <a:lnTo>
                  <a:pt x="38436" y="21600"/>
                </a:lnTo>
                <a:lnTo>
                  <a:pt x="37036" y="20200"/>
                </a:lnTo>
                <a:lnTo>
                  <a:pt x="37036" y="1400"/>
                </a:lnTo>
                <a:close/>
              </a:path>
              <a:path fill="darkenLess" w="38436" h="21600">
                <a:moveTo>
                  <a:pt x="3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36" y="20200"/>
                </a:lnTo>
                <a:close/>
              </a:path>
              <a:path fill="lighten" w="3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36" h="21600">
                <a:moveTo>
                  <a:pt x="12212" y="10800"/>
                </a:moveTo>
                <a:lnTo>
                  <a:pt x="26224" y="3794"/>
                </a:lnTo>
                <a:lnTo>
                  <a:pt x="2622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ransition spd="slow">
    <p:wheel spokes="3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Garamond"/>
              </a:rPr>
              <a:t>1) Слово «гигиена» в переводе с греческого означает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24000" y="32126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здоровье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чистота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приносящий здоровье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дающий чистоту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AutoShape 14">
            <a:hlinkClick r:id="rId1" action="ppaction://hlinksldjump"/>
          </p:cNvPr>
          <p:cNvSpPr/>
          <p:nvPr/>
        </p:nvSpPr>
        <p:spPr>
          <a:xfrm>
            <a:off x="557208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8" name="AutoShape 15">
            <a:hlinkClick r:id="rId2" action="ppaction://hlinksldjump"/>
          </p:cNvPr>
          <p:cNvSpPr/>
          <p:nvPr/>
        </p:nvSpPr>
        <p:spPr>
          <a:xfrm>
            <a:off x="5572080" y="4071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9" name="AutoShape 16">
            <a:hlinkClick r:id="rId3" action="ppaction://hlinksldjump"/>
          </p:cNvPr>
          <p:cNvSpPr/>
          <p:nvPr/>
        </p:nvSpPr>
        <p:spPr>
          <a:xfrm>
            <a:off x="5572080" y="52862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0" name="AutoShape 17">
            <a:hlinkClick r:id="rId4" action="ppaction://hlinksldjump"/>
          </p:cNvPr>
          <p:cNvSpPr/>
          <p:nvPr/>
        </p:nvSpPr>
        <p:spPr>
          <a:xfrm>
            <a:off x="5572080" y="4643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Garamond"/>
              </a:rPr>
              <a:t>2)Для правильной организации своего времени необходимо составить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расписание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картотеку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распорядок  дн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правила поведени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4714920" y="300024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4714920" y="357192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5" name="AutoShape 7">
            <a:hlinkClick r:id="rId3" action="ppaction://hlinksldjump"/>
          </p:cNvPr>
          <p:cNvSpPr/>
          <p:nvPr/>
        </p:nvSpPr>
        <p:spPr>
          <a:xfrm>
            <a:off x="4786200" y="471492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6" name="AutoShape 8">
            <a:hlinkClick r:id="rId4" action="ppaction://hlinksldjump"/>
          </p:cNvPr>
          <p:cNvSpPr/>
          <p:nvPr/>
        </p:nvSpPr>
        <p:spPr>
          <a:xfrm>
            <a:off x="4786200" y="414324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3)Ваше утро должно начинаться с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253656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А) чашечки кофе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 утренней гимнастик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просмотра телепередач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приёма душ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9" name="AutoShape 6">
            <a:hlinkClick r:id="rId1" action="ppaction://hlinksldjump"/>
          </p:cNvPr>
          <p:cNvSpPr/>
          <p:nvPr/>
        </p:nvSpPr>
        <p:spPr>
          <a:xfrm>
            <a:off x="5214960" y="264312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0" name="AutoShape 7">
            <a:hlinkClick r:id="rId2" action="ppaction://hlinksldjump"/>
          </p:cNvPr>
          <p:cNvSpPr/>
          <p:nvPr/>
        </p:nvSpPr>
        <p:spPr>
          <a:xfrm>
            <a:off x="5286240" y="39290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1" name="AutoShape 8">
            <a:hlinkClick r:id="rId3" action="ppaction://hlinksldjump"/>
          </p:cNvPr>
          <p:cNvSpPr/>
          <p:nvPr/>
        </p:nvSpPr>
        <p:spPr>
          <a:xfrm>
            <a:off x="5286240" y="45007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2" name="AutoShape 9">
            <a:hlinkClick r:id="rId4" action="ppaction://hlinksldjump"/>
          </p:cNvPr>
          <p:cNvSpPr/>
          <p:nvPr/>
        </p:nvSpPr>
        <p:spPr>
          <a:xfrm>
            <a:off x="5214960" y="32860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4) В течение дня необходимо бывать на воздухе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2 … 3 час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10 … 12 час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5 … 6 час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10 … 15 минут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4429080" y="2928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6" name="AutoShape 6">
            <a:hlinkClick r:id="rId2" action="ppaction://hlinksldjump"/>
          </p:cNvPr>
          <p:cNvSpPr/>
          <p:nvPr/>
        </p:nvSpPr>
        <p:spPr>
          <a:xfrm>
            <a:off x="4429080" y="35719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7" name="AutoShape 7">
            <a:hlinkClick r:id="rId3" action="ppaction://hlinksldjump"/>
          </p:cNvPr>
          <p:cNvSpPr/>
          <p:nvPr/>
        </p:nvSpPr>
        <p:spPr>
          <a:xfrm>
            <a:off x="4429080" y="42148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8" name="AutoShape 8">
            <a:hlinkClick r:id="rId4" action="ppaction://hlinksldjump"/>
          </p:cNvPr>
          <p:cNvSpPr/>
          <p:nvPr/>
        </p:nvSpPr>
        <p:spPr>
          <a:xfrm>
            <a:off x="4429080" y="2357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5) Приготовление домашних заданий следует начинать с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письменных высокой сложност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письменных средней сложност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письменных низкой сложност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устных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7072200" y="24289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2" name="AutoShape 7">
            <a:hlinkClick r:id="rId2" action="ppaction://hlinksldjump"/>
          </p:cNvPr>
          <p:cNvSpPr/>
          <p:nvPr/>
        </p:nvSpPr>
        <p:spPr>
          <a:xfrm>
            <a:off x="7072200" y="364320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3" name="AutoShape 8">
            <a:hlinkClick r:id="rId3" action="ppaction://hlinksldjump"/>
          </p:cNvPr>
          <p:cNvSpPr/>
          <p:nvPr/>
        </p:nvSpPr>
        <p:spPr>
          <a:xfrm>
            <a:off x="7072200" y="42148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4" name="AutoShape 9">
            <a:hlinkClick r:id="rId4" action="ppaction://hlinksldjump"/>
          </p:cNvPr>
          <p:cNvSpPr/>
          <p:nvPr/>
        </p:nvSpPr>
        <p:spPr>
          <a:xfrm>
            <a:off x="7072200" y="30002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6) Между занятиями необходимо делать перерыв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не менее получас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5 … 10 минут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20 … 30 минут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10 … 15 минут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4714920" y="27860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8" name="AutoShape 6">
            <a:hlinkClick r:id="rId2" action="ppaction://hlinksldjump"/>
          </p:cNvPr>
          <p:cNvSpPr/>
          <p:nvPr/>
        </p:nvSpPr>
        <p:spPr>
          <a:xfrm>
            <a:off x="4714920" y="4000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9" name="AutoShape 7">
            <a:hlinkClick r:id="rId3" action="ppaction://hlinksldjump"/>
          </p:cNvPr>
          <p:cNvSpPr/>
          <p:nvPr/>
        </p:nvSpPr>
        <p:spPr>
          <a:xfrm>
            <a:off x="471492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0" name="AutoShape 8">
            <a:hlinkClick r:id="rId4" action="ppaction://hlinksldjump"/>
          </p:cNvPr>
          <p:cNvSpPr/>
          <p:nvPr/>
        </p:nvSpPr>
        <p:spPr>
          <a:xfrm>
            <a:off x="4714920" y="4643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7) Продолжительность сна школьника должна составлять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не менее 4 час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не менее 6 час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не менее 8 час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не менее 10 час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5072040" y="22147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4" name="AutoShape 6">
            <a:hlinkClick r:id="rId2" action="ppaction://hlinksldjump"/>
          </p:cNvPr>
          <p:cNvSpPr/>
          <p:nvPr/>
        </p:nvSpPr>
        <p:spPr>
          <a:xfrm>
            <a:off x="507204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5" name="AutoShape 7">
            <a:hlinkClick r:id="rId3" action="ppaction://hlinksldjump"/>
          </p:cNvPr>
          <p:cNvSpPr/>
          <p:nvPr/>
        </p:nvSpPr>
        <p:spPr>
          <a:xfrm>
            <a:off x="5072040" y="4071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6" name="AutoShape 8">
            <a:hlinkClick r:id="rId4" action="ppaction://hlinksldjump"/>
          </p:cNvPr>
          <p:cNvSpPr/>
          <p:nvPr/>
        </p:nvSpPr>
        <p:spPr>
          <a:xfrm>
            <a:off x="507204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7:28:07Z</dcterms:created>
  <dc:creator>User</dc:creator>
  <dc:description/>
  <dc:language>en-US</dc:language>
  <cp:lastModifiedBy>Галина</cp:lastModifiedBy>
  <dcterms:modified xsi:type="dcterms:W3CDTF">2010-02-28T15:25:29Z</dcterms:modified>
  <cp:revision>34</cp:revision>
  <dc:subject/>
  <dc:title>Старинная узорчатая твердая сталь для клинков</dc:title>
</cp:coreProperties>
</file>