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8B76-2BF3-4AD0-A332-DAA9362BEC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C46F-A8DD-4A15-81D2-6571120B9B2B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457-5826-4712-A97D-5E387D93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59B-A944-422E-AB93-DA4B312D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760-22D4-427D-906D-C5DE007D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126-DC76-4D86-9B1C-76781492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496-F3A4-44BE-A67B-3DB35CEF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9E9-970A-4CFB-B8AF-C50ECCBA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125-7B0A-4BDF-8A81-56EFB883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0F3-4622-46F7-949F-ABA58AF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F34-19CB-4FD6-B8C2-282A5728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E7B-74AB-4ACC-9858-D3C7F85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5BF-7407-4311-9CAC-0B851E4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C72-BA61-498E-B90E-C6B4A10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C43F-B05A-46C6-B957-689A1B7AC06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C1A-627E-4303-939F-8815A794520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5672160" cy="221436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alibri"/>
              </a:rPr>
              <a:t>«Вот что значит настоящий, верный друг!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5840" y="421488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Работа ученицы 4 класс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МОУ Светловская ООШ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Мюльбаер  Анастасии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0" y="-2552760"/>
            <a:ext cx="71424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Calibri"/>
              </a:rPr>
              <a:t>Кто на ветер не бросает слов,</a:t>
            </a:r>
            <a:br>
              <a:rPr sz="4800"/>
            </a:br>
            <a:r>
              <a:rPr b="0" i="1" lang="ru-RU" sz="4800" spc="-1" strike="noStrike">
                <a:solidFill>
                  <a:srgbClr val="800000"/>
                </a:solidFill>
                <a:latin typeface="Calibri"/>
              </a:rPr>
              <a:t>Кто в беде не дрогнет от испуга,</a:t>
            </a:r>
            <a:br>
              <a:rPr sz="4800"/>
            </a:br>
            <a:r>
              <a:rPr b="0" i="1" lang="ru-RU" sz="4800" spc="-1" strike="noStrike">
                <a:solidFill>
                  <a:srgbClr val="800000"/>
                </a:solidFill>
                <a:latin typeface="Calibri"/>
              </a:rPr>
              <a:t>Кто отдать последнее готов,</a:t>
            </a:r>
            <a:br>
              <a:rPr sz="4800"/>
            </a:br>
            <a:r>
              <a:rPr b="0" i="1" lang="ru-RU" sz="4800" spc="-1" strike="noStrike">
                <a:solidFill>
                  <a:srgbClr val="800000"/>
                </a:solidFill>
                <a:latin typeface="Calibri"/>
              </a:rPr>
              <a:t>Только тот достоин званья друга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3E6-99C0-4C77-8B97-133496BEAEF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DCD-D18D-4BC2-8FC6-220929E53CB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ru-RU" sz="7200" spc="-1" strike="noStrike">
                <a:solidFill>
                  <a:srgbClr val="800000"/>
                </a:solidFill>
                <a:latin typeface="Calibri"/>
              </a:rPr>
              <a:t>Спасибо  за  внимание!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618C-1106-4772-AB2F-C2875E25C9C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F44-B235-433B-AAD6-E83B09B81C8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571840" y="3143160"/>
            <a:ext cx="357192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Calibri"/>
              </a:rPr>
              <a:t>Это я!  И это улица моя!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560-D1B8-4900-9733-A0720BDAC43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1A1-F45E-4623-8A2B-251BFD5A38A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Picture 7" descr="C:\Documents and Settings\Admin\Рабочий стол\Настя Мюльбаер фото\SAM_1309.JPG"/>
          <p:cNvPicPr/>
          <p:nvPr/>
        </p:nvPicPr>
        <p:blipFill>
          <a:blip r:embed="rId1"/>
          <a:stretch/>
        </p:blipFill>
        <p:spPr>
          <a:xfrm>
            <a:off x="428760" y="1285920"/>
            <a:ext cx="83581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800000"/>
                </a:solidFill>
                <a:latin typeface="Calibri"/>
              </a:rPr>
              <a:t>У меня теперь есть Друг,</a:t>
            </a:r>
            <a:br>
              <a:rPr sz="6000"/>
            </a:br>
            <a:r>
              <a:rPr b="0" i="1" lang="ru-RU" sz="6000" spc="-1" strike="noStrike">
                <a:solidFill>
                  <a:srgbClr val="800000"/>
                </a:solidFill>
                <a:latin typeface="Calibri"/>
              </a:rPr>
              <a:t>Преданный и верный.</a:t>
            </a:r>
            <a:br>
              <a:rPr sz="6000"/>
            </a:br>
            <a:r>
              <a:rPr b="0" i="1" lang="ru-RU" sz="6000" spc="-1" strike="noStrike">
                <a:solidFill>
                  <a:srgbClr val="800000"/>
                </a:solidFill>
                <a:latin typeface="Calibri"/>
              </a:rPr>
              <a:t>Без него я как без рук,</a:t>
            </a:r>
            <a:br>
              <a:rPr sz="6000"/>
            </a:br>
            <a:r>
              <a:rPr b="0" i="1" lang="ru-RU" sz="6000" spc="-1" strike="noStrike">
                <a:solidFill>
                  <a:srgbClr val="800000"/>
                </a:solidFill>
                <a:latin typeface="Calibri"/>
              </a:rPr>
              <a:t>Если откровенно.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084-67A2-4E0A-9ECA-16D6CDD9408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9604-5587-480F-9ED4-4705079A827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3008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Это мой лучший друг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алера  Шпак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алера учится во втором класс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Ему  восемь лет, он хорошист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н очень добрый, отзывчивы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любую минуту готов прийти на помощь!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08A4-1602-4C22-B451-E7C6A9371FE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EF5-A4CF-4A96-B8D6-11310F47522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Настя Мюльбаер фото\SAM_1310.JPG"/>
          <p:cNvPicPr/>
          <p:nvPr/>
        </p:nvPicPr>
        <p:blipFill>
          <a:blip r:embed="rId1"/>
          <a:stretch/>
        </p:blipFill>
        <p:spPr>
          <a:xfrm>
            <a:off x="3643200" y="439560"/>
            <a:ext cx="5000760" cy="606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71720" y="499680"/>
            <a:ext cx="300060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Это Валерина сестра Лена  Шпак.</a:t>
            </a:r>
            <a:br>
              <a:rPr sz="3600"/>
            </a:b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Ей пять лет. Она хоть и маленькая, но тоже хороший друг!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162-A912-480B-A70A-D96A9E31D0C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1D1-84A7-4CA2-B2AB-91E2DCCD58E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Настя Мюльбаер фото\SAM_1312.JPG"/>
          <p:cNvPicPr/>
          <p:nvPr/>
        </p:nvPicPr>
        <p:blipFill>
          <a:blip r:embed="rId1"/>
          <a:stretch/>
        </p:blipFill>
        <p:spPr>
          <a:xfrm>
            <a:off x="714240" y="357120"/>
            <a:ext cx="473724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FB6-C96D-4C81-8B82-101B4776640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F12-EFFA-4E8B-9829-3DFBC7025E6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571680" y="5716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е всё доверить можно знакомым и родным, 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е всё сказать возможно родителям своим.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Когда устанут нервы, сразит отчаянья недуг,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Придет на помощь первым твой самый верный друг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500040"/>
            <a:ext cx="3900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Моя одноклассница Менцель Анжела. Она моя подруга по школе. Мы сидим за одной партой. Ей я могу доверить все свои секреты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A9D-19C1-4046-8CC4-E5CEC478E1B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0AE-35F8-4BD5-931E-7FF75D15250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Picture 2" descr="C:\Documents and Settings\Admin\Рабочий стол\Настя Мюльбаер фото\SAM_1311.JPG"/>
          <p:cNvPicPr/>
          <p:nvPr/>
        </p:nvPicPr>
        <p:blipFill>
          <a:blip r:embed="rId1"/>
          <a:stretch/>
        </p:blipFill>
        <p:spPr>
          <a:xfrm>
            <a:off x="4714920" y="357120"/>
            <a:ext cx="414324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72760" y="-5234040"/>
            <a:ext cx="4284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Раз, два – горе – не беда,</a:t>
            </a:r>
            <a:br>
              <a:rPr sz="3200"/>
            </a:b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Унывать не надо никогда.</a:t>
            </a:r>
            <a:br>
              <a:rPr sz="3200"/>
            </a:b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Выше нос, и хвост держи трубой,</a:t>
            </a:r>
            <a:br>
              <a:rPr sz="3200"/>
            </a:b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Знай, что верный друг всегда с тобой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CDF-4B05-450A-AFDA-72511C112FB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295-2766-4BA8-AB40-6272A7B08A7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Настя Мюльбаер фото\SAM_1313.JPG"/>
          <p:cNvPicPr/>
          <p:nvPr/>
        </p:nvPicPr>
        <p:blipFill>
          <a:blip r:embed="rId1"/>
          <a:stretch/>
        </p:blipFill>
        <p:spPr>
          <a:xfrm>
            <a:off x="2214720" y="2500200"/>
            <a:ext cx="6429240" cy="39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060D-200F-4849-8574-892BC9F17C1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7EA-857A-4510-BCB2-A8468A01367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Picture 3" descr="C:\Documents and Settings\Admin\Рабочий стол\Настя Мюльбаер фото\SAM_1314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6:38:38Z</dcterms:created>
  <dc:creator>Admin</dc:creator>
  <dc:description>http://aida.ucoz.ru</dc:description>
  <dc:language>en-US</dc:language>
  <cp:lastModifiedBy>Admin</cp:lastModifiedBy>
  <dcterms:modified xsi:type="dcterms:W3CDTF">2011-05-25T02:18:01Z</dcterms:modified>
  <cp:revision>5</cp:revision>
  <dc:subject/>
  <dc:title>«Вот что значит настоящий, верный друг!»</dc:title>
</cp:coreProperties>
</file>