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4AB-A9DB-4192-BBA6-5D6C534C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8888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780-4B26-409C-AB07-9465B56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596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01F-41E3-498A-9363-8B48500D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00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00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584-D3D6-48C6-8556-2A643D61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43F6-D4F5-46CD-BEC9-0EFE0A26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998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016-4267-4B81-A977-A2EFEB0C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981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3CA-9E67-4AC9-A38C-4CD457B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AB9-7D99-4B93-96FD-1476C89C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5FE2-FC4D-4319-9100-D1389F46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93960"/>
            <a:ext cx="83757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7B1-5109-419D-817E-F8530E4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8B2-D3C1-4FF2-906C-743AF56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998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EB9-F766-4063-8950-9FE6DE7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596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90B9-DDBC-4A7E-8EB0-930A6EA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F02-EFFA-4A2A-98F2-287F114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8888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44EE-BCFB-4CBB-ADE7-34D89BA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596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98B2-7117-4513-87B8-0222EC79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04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46000" y="190476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04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46000" y="4088880"/>
            <a:ext cx="2575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4FEC-9379-4C93-8AA2-01D209DD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981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341-F20E-4AF0-8750-A5CB6C7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8E2-1CB2-4581-A196-0CF038F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C08-A4B0-48F3-86F8-54AAD144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3960"/>
            <a:ext cx="83757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D85-1DF1-43B7-8BAC-EC57AA3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84D-D143-493C-8A46-A028134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5960" y="408888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6F7-15B3-4B07-A174-EC3FF74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5960" y="1904760"/>
            <a:ext cx="390276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88880"/>
            <a:ext cx="79981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D43-C33C-4F18-A2B3-80D636F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15680" cy="5019840"/>
            <a:chOff x="318960" y="1828800"/>
            <a:chExt cx="8815680" cy="501984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296560" cy="2230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01280" cy="501984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296560" cy="2194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04040" cy="3636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36720" cy="282420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36360" cy="223848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60840" cy="3636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38160" cy="223848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8925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8925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F6EF-F7ED-4656-9513-F4F5FC31C08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3960"/>
            <a:ext cx="8375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79981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15680" cy="5119920"/>
            <a:chOff x="318960" y="1752480"/>
            <a:chExt cx="8815680" cy="511992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01280" cy="509616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296560" cy="3038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75240" cy="3636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59800" cy="36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38160" cy="309888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36720" cy="511020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8921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8925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03B44D-63D7-447A-AAF7-81CD6819735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Ел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фасыллары.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Төзед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Хасаншина Альбина Миннулловна —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Беренче Май «Кояшкай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балалар бакчасы тәрбияч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971720" cy="23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9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әрсә артык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73240" y="1979640"/>
            <a:ext cx="7107120" cy="45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95400"/>
            <a:ext cx="83790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0280" y="-125640"/>
            <a:ext cx="8379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укталышлар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841320" y="3036960"/>
            <a:ext cx="523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7920" y="3086280"/>
            <a:ext cx="52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905120"/>
            <a:ext cx="3905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8840" y="1905120"/>
            <a:ext cx="3905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8840" y="4091040"/>
            <a:ext cx="3905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091040"/>
            <a:ext cx="3905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05120"/>
            <a:ext cx="39038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бышмак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7040" y="1905120"/>
            <a:ext cx="39038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гыйрьлә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7040" y="4091040"/>
            <a:ext cx="39038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әкальлә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091040"/>
            <a:ext cx="39038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ынамыш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кайчан бул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99880" indent="-299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өннәр кыскара,яңгырлар я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кошла җылы якка ашы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-299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ын- кырлар ап-ак карга ябынган, елга да боз белән капланган,безгә чана шуарга кардан таулар өйелгә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-299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яш  җылыта,  карны  эретә, бозлар да кит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бышып йөриләр балалар бер читт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-299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өннәр бик җылы, кояш кыздыра,  матур чәчәклә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мь — яшел үләнгә күмел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880" indent="0"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88000" y="1125360"/>
            <a:ext cx="181944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бышмаклар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игән күлмәк бизәг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өтен дөньяны бизәде.(Җә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Бабай килгән сагыны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 чикмәнен ябынып. (Кыш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Ак юрганны алып куйд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шел юрганымны җәем салдым! (Я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Салкын җилләр исә,тәрәзәгә чирт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ры яфраклар  җирне тутыра. (Көз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2637000"/>
            <a:ext cx="170676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әкальләр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 яме чәчкә белән,көз яме көлтә белә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ыш көне арба, яз көне чана әзерл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өзге көн бала кебек: әле җылый, әле көл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Җәй эшләсәң, кыш ашарсы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игыйрьләр.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Көз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ңыш җыел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ошлар кит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ур көз а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җ җит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698920" cy="23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ыш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әнме кыш, саумы кыш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анны кыш, салкын кыш.                 Син килгәнсең еракта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к еракта төньякт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0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з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 килә! Яз килә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ыерчыклар кайта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өрләшәләр, сайрашала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Җырчылар бит барсы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0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9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Җәй.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Җәй шатлык бүләк итт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ры юкә чәчәг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елдиләр бал кортл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ш исле бит баллары.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0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36:04Z</dcterms:created>
  <dc:creator>xxx</dc:creator>
  <dc:description/>
  <dc:language>en-US</dc:language>
  <cp:lastModifiedBy>xxx</cp:lastModifiedBy>
  <dcterms:modified xsi:type="dcterms:W3CDTF">2008-12-12T17:12:47Z</dcterms:modified>
  <cp:revision>2</cp:revision>
  <dc:subject/>
  <dc:title>Времена года. Урок-путешествие. </dc:title>
</cp:coreProperties>
</file>