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E86-24D5-4847-848B-12B14A6C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707-1F68-4ECC-8F2F-7A46D806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4C8-CFE3-4463-9B60-D11C7034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D91-504F-4523-8038-4C8E667B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AACF-6DB9-4630-A62D-241457EC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D631-4968-4285-A18F-D85B0A0B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F714-9D36-4216-A65B-82492B0C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0E8E-2F47-425E-8F6F-848971B7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43C7-5206-4524-A9B4-A5E0F813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796B-FC12-4344-8B4D-40F6A57B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FF0B-C2D6-4BFF-87DA-1E35B932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FAC-C47D-42B4-BED6-E49044DB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0251-EEAB-4DA2-9A1C-DBF3C7E2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64F4-7BA5-403D-8E3E-E457762B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F64C-9C85-401F-BFFE-001541FF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F1C6-6562-4D8A-A4D0-E9F00F0C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A83D-86C8-4067-895E-F7209C0C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D30A-A83A-4CFD-8093-6860F470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F641-69BB-4D45-B71B-DD27D1DD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0059-DD94-43FC-A03F-D46C2C04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7E44-531E-40CB-96C8-B1400868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8FA6-E09E-422A-B43E-22385E47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431-238E-4BB2-A9F9-AEB6DF96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573A3-666B-4D0B-94BE-188585FC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84646-8C01-4B2D-97B0-488D528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E243-7FD9-48D1-B19B-C15A401B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7093-8EC5-4544-84BE-0F8DE03B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54F7-B4D1-4C07-8793-1A073933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F0D8B-702C-4F61-80CB-44B3133A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F802-8494-46C1-A80B-0CC48919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EA346-5472-4C6B-8BDB-E6282E70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26AF7-7019-492F-BF58-0B4CF7D9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11A6-5E85-44EC-9419-794A4AE2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1A3-C432-4594-BE7C-0B27554B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A3E3-4E60-433F-99CE-87D0B776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36461-B45B-46A0-8156-57233423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132D7-9C3D-4E9E-B94A-6BB94B01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0123E-B51E-4253-8E26-1CCDF98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2A6C-AE3D-418E-A251-17A114A7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3D67F-3538-4F8E-AA9A-9B4CDF02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BE57E-04ED-4367-B4CD-28C10FF3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44BF0-FB05-451B-A285-4B3C64A9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947D-FEAB-460E-9254-8EBA8E61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1C24E-4DC4-429B-A989-3E79714A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6C5-F287-4D06-8BB3-AADBCE3A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AEB6-F82E-48EA-A9D2-FF3E9DC7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21302-E613-44B5-BD12-FE020962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3334A-B530-42EA-9B55-B79027AB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F0AE9-516E-4107-AF72-57764128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6FCE0-EE42-4EEA-A22D-C66660DD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51F8-7CF1-4E64-B3C1-D24B8B5C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73068-A993-41CF-B3B7-A8EB8CAC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F555-E88F-4A62-B2B4-F513F6DD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38A13-F384-4F9B-B2EA-242D9203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7208B-B923-483C-934F-F72BF5B2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1B0-4285-4414-B794-F6F0ED84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CF345-5DD2-4536-BD5B-946088EA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DD1-AE89-40D9-A4C8-E502194C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2DD-77F8-4266-803F-B22A8CA6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2F9-F9AF-4C13-8E00-8861DD90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3CFB-966F-4F68-B5D7-907A08808DE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23A1-E363-4573-87A6-31BA1477F91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92DC-2AB0-48DC-AE29-54A5E7CF2C1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80D5-10F5-4497-9E09-E062290452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0037-0B2F-4D30-B4EC-97B14FCFBE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435880" cy="55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у-ка, проверь дружок,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Ты готов начать урок?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сё ль на месте,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сё ль в порядке-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учка, книжка и тетрадка?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се ли правильно сидят?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се ль внимательно глядят?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 удача пусть ждёт вас.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За работу, в добрый час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397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ЕЖИ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835280" y="1476360"/>
            <a:ext cx="53290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ежим дня- это система распределения нагрузки и отдыха, которая обеспечивает сохранение сил и энергии для нормальной жизнедеятельности организма. Режим дня является основой оздоровительного и профилактического воздействия на организм всех факторов учебно-воспитательной работ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42920" y="476280"/>
            <a:ext cx="309564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5ffff"/>
                </a:solidFill>
                <a:latin typeface="Tahoma"/>
              </a:rPr>
              <a:t>3/4     п</a:t>
            </a:r>
            <a:br>
              <a:rPr sz="5500"/>
            </a:br>
            <a:r>
              <a:rPr b="0" lang="en-US" sz="5500" spc="-1" strike="noStrike">
                <a:solidFill>
                  <a:srgbClr val="e5ffff"/>
                </a:solidFill>
                <a:latin typeface="Tahoma"/>
              </a:rPr>
              <a:t>8/35   и</a:t>
            </a:r>
            <a:br>
              <a:rPr sz="5500"/>
            </a:br>
            <a:r>
              <a:rPr b="0" lang="en-US" sz="5500" spc="-1" strike="noStrike">
                <a:solidFill>
                  <a:srgbClr val="e5ffff"/>
                </a:solidFill>
                <a:latin typeface="Tahoma"/>
              </a:rPr>
              <a:t>1/5     н</a:t>
            </a:r>
            <a:br>
              <a:rPr sz="5500"/>
            </a:br>
            <a:r>
              <a:rPr b="0" lang="en-US" sz="5500" spc="-1" strike="noStrike">
                <a:solidFill>
                  <a:srgbClr val="e5ffff"/>
                </a:solidFill>
                <a:latin typeface="Tahoma"/>
              </a:rPr>
              <a:t>1/2     а</a:t>
            </a:r>
            <a:br>
              <a:rPr sz="5500"/>
            </a:br>
            <a:r>
              <a:rPr b="0" lang="en-US" sz="5500" spc="-1" strike="noStrike">
                <a:solidFill>
                  <a:srgbClr val="e5ffff"/>
                </a:solidFill>
                <a:latin typeface="Tahoma"/>
              </a:rPr>
              <a:t>10      т</a:t>
            </a:r>
            <a:br>
              <a:rPr sz="5500"/>
            </a:br>
            <a:r>
              <a:rPr b="0" lang="en-US" sz="5500" spc="-1" strike="noStrike">
                <a:solidFill>
                  <a:srgbClr val="e5ffff"/>
                </a:solidFill>
                <a:latin typeface="Tahoma"/>
              </a:rPr>
              <a:t>1        е</a:t>
            </a:r>
            <a:endParaRPr b="0" lang="en-US" sz="55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e5ffff"/>
                </a:solidFill>
                <a:latin typeface="Tahoma"/>
              </a:rPr>
              <a:t>ПИТАНИЕ</a:t>
            </a:r>
            <a:endParaRPr b="0" lang="en-US" sz="65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268360" y="2060640"/>
            <a:ext cx="460872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1280" y="380880"/>
            <a:ext cx="807552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5ffff"/>
                </a:solidFill>
                <a:latin typeface="Tahoma"/>
              </a:rPr>
              <a:t>Пища-это источник энергии для человека, и избыток или недостаток её- проблема. Если человек много ест, у него развивается ожирение, сахарный диабет, заболевания желудочно-кишечного тракта, если ест мало, обрушивается дистрофия, сахарный диабет и много других заболеваний. Где же выход? Смолоду научиться соблюдать золотую середину, не допуская переедание, так и недоедание. Надо жить в гармонии с собой и окружающими вас продуктами.</a:t>
            </a:r>
            <a:endParaRPr b="0" lang="en-US" sz="33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/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) неправильная дроб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) правильная дроб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целое чис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) 0,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) 0,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0,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/2 х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) 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)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)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/4 х 16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) 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)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)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) неправильная дроб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) правильная дроб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) десятичная дроб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51280" y="692280"/>
            <a:ext cx="55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e5ffff"/>
                </a:solidFill>
                <a:latin typeface="Tahoma"/>
              </a:rPr>
              <a:t>СПОРТ</a:t>
            </a:r>
            <a:endParaRPr b="0" lang="en-US" sz="65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048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137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 утрам ты закаляйся,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одой холодной обливайся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Будешь ты всегда здоров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Тут не нужно лишних сл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50920" y="2349360"/>
            <a:ext cx="88930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№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57 (а – з),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№ 464,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думать задачу на умножение дробей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8920" y="380520"/>
            <a:ext cx="87138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ffff"/>
                </a:solidFill>
                <a:latin typeface="Tahoma"/>
              </a:rPr>
              <a:t>Мы рождены, чтоб жить на свете долго:</a:t>
            </a:r>
            <a:br>
              <a:rPr sz="3500"/>
            </a:br>
            <a:r>
              <a:rPr b="0" lang="en-US" sz="3500" spc="-1" strike="noStrike">
                <a:solidFill>
                  <a:srgbClr val="e5ffff"/>
                </a:solidFill>
                <a:latin typeface="Tahoma"/>
              </a:rPr>
              <a:t>Грустить и петь, смеяться и любить.</a:t>
            </a:r>
            <a:br>
              <a:rPr sz="3500"/>
            </a:br>
            <a:r>
              <a:rPr b="0" lang="en-US" sz="3500" spc="-1" strike="noStrike">
                <a:solidFill>
                  <a:srgbClr val="e5ffff"/>
                </a:solidFill>
                <a:latin typeface="Tahoma"/>
              </a:rPr>
              <a:t>Но, чтобы стали все мечты возможны,</a:t>
            </a:r>
            <a:br>
              <a:rPr sz="3500"/>
            </a:br>
            <a:r>
              <a:rPr b="0" lang="en-US" sz="3500" spc="-1" strike="noStrike">
                <a:solidFill>
                  <a:srgbClr val="e5ffff"/>
                </a:solidFill>
                <a:latin typeface="Tahoma"/>
              </a:rPr>
              <a:t>Должны мы все здоровье сохранить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лаю всем крепкого здоровья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3628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Я тот самый «Айболит»,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то всех излечит, исцелит!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о к вам пришёл я не затем,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тоб ставить градусники всем.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 волшебную страну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Хочу всех пригласить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ецепты здоровья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Там с вами добыть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773360"/>
            <a:ext cx="82296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5ffff"/>
                </a:solidFill>
                <a:latin typeface="Tahoma"/>
              </a:rPr>
              <a:t>«Умножение дробей»</a:t>
            </a:r>
            <a:endParaRPr b="0" lang="en-US" sz="5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Научиться умножать дробь на дробь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8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Закрепить навыки сокращения дробей и исключения целой части из неправильной дроби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8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Развивать навыки устного счёта, самостоятельной работы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8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Воспитывать осознанное и ценностное отношение к собственному здоровью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650960" y="26028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Picture 1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817560" cy="2016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4"/>
          <a:stretch/>
        </p:blipFill>
        <p:spPr>
          <a:xfrm>
            <a:off x="1619280" y="1700280"/>
            <a:ext cx="1093680" cy="19447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5"/>
          <a:stretch/>
        </p:blipFill>
        <p:spPr>
          <a:xfrm>
            <a:off x="3059280" y="1700280"/>
            <a:ext cx="1476360" cy="1871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6"/>
          <a:stretch/>
        </p:blipFill>
        <p:spPr>
          <a:xfrm>
            <a:off x="4788000" y="1700280"/>
            <a:ext cx="1230120" cy="1944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2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13" descr=""/>
          <p:cNvPicPr/>
          <p:nvPr/>
        </p:nvPicPr>
        <p:blipFill>
          <a:blip r:embed="rId7"/>
          <a:stretch/>
        </p:blipFill>
        <p:spPr>
          <a:xfrm>
            <a:off x="6300720" y="1700280"/>
            <a:ext cx="1184400" cy="18716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5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16" descr=""/>
          <p:cNvPicPr/>
          <p:nvPr/>
        </p:nvPicPr>
        <p:blipFill>
          <a:blip r:embed="rId8"/>
          <a:stretch/>
        </p:blipFill>
        <p:spPr>
          <a:xfrm>
            <a:off x="7740720" y="1773360"/>
            <a:ext cx="1147680" cy="1800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8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19" descr=""/>
          <p:cNvPicPr/>
          <p:nvPr/>
        </p:nvPicPr>
        <p:blipFill>
          <a:blip r:embed="rId9"/>
          <a:stretch/>
        </p:blipFill>
        <p:spPr>
          <a:xfrm>
            <a:off x="4932360" y="4365720"/>
            <a:ext cx="1195560" cy="18730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1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22" descr=""/>
          <p:cNvPicPr/>
          <p:nvPr/>
        </p:nvPicPr>
        <p:blipFill>
          <a:blip r:embed="rId10"/>
          <a:stretch/>
        </p:blipFill>
        <p:spPr>
          <a:xfrm>
            <a:off x="468360" y="4149720"/>
            <a:ext cx="866880" cy="21556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24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25" descr=""/>
          <p:cNvPicPr/>
          <p:nvPr/>
        </p:nvPicPr>
        <p:blipFill>
          <a:blip r:embed="rId11"/>
          <a:stretch/>
        </p:blipFill>
        <p:spPr>
          <a:xfrm>
            <a:off x="1692360" y="4221000"/>
            <a:ext cx="1195200" cy="18734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7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28" descr=""/>
          <p:cNvPicPr/>
          <p:nvPr/>
        </p:nvPicPr>
        <p:blipFill>
          <a:blip r:embed="rId12"/>
          <a:stretch/>
        </p:blipFill>
        <p:spPr>
          <a:xfrm>
            <a:off x="3276720" y="4365720"/>
            <a:ext cx="1174680" cy="1873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0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34" descr=""/>
          <p:cNvPicPr/>
          <p:nvPr/>
        </p:nvPicPr>
        <p:blipFill>
          <a:blip r:embed="rId13"/>
          <a:stretch/>
        </p:blipFill>
        <p:spPr>
          <a:xfrm>
            <a:off x="6659640" y="4221000"/>
            <a:ext cx="1047600" cy="1944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6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7461000" cy="11764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1390680" cy="20016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5724360" y="4149720"/>
            <a:ext cx="1662120" cy="18003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12" descr=""/>
          <p:cNvPicPr/>
          <p:nvPr/>
        </p:nvPicPr>
        <p:blipFill>
          <a:blip r:embed="rId5"/>
          <a:stretch/>
        </p:blipFill>
        <p:spPr>
          <a:xfrm>
            <a:off x="2195640" y="2060640"/>
            <a:ext cx="1222200" cy="172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6"/>
          <a:stretch/>
        </p:blipFill>
        <p:spPr>
          <a:xfrm>
            <a:off x="3708360" y="1989000"/>
            <a:ext cx="1143000" cy="17146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6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8" name="Picture 17" descr=""/>
          <p:cNvPicPr/>
          <p:nvPr/>
        </p:nvPicPr>
        <p:blipFill>
          <a:blip r:embed="rId7"/>
          <a:stretch/>
        </p:blipFill>
        <p:spPr>
          <a:xfrm>
            <a:off x="5076720" y="1989000"/>
            <a:ext cx="1746360" cy="1871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9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0" descr=""/>
          <p:cNvPicPr/>
          <p:nvPr/>
        </p:nvPicPr>
        <p:blipFill>
          <a:blip r:embed="rId8"/>
          <a:stretch/>
        </p:blipFill>
        <p:spPr>
          <a:xfrm>
            <a:off x="7164360" y="1916280"/>
            <a:ext cx="1623960" cy="1873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icture 23" descr=""/>
          <p:cNvPicPr/>
          <p:nvPr/>
        </p:nvPicPr>
        <p:blipFill>
          <a:blip r:embed="rId9"/>
          <a:stretch/>
        </p:blipFill>
        <p:spPr>
          <a:xfrm>
            <a:off x="4067280" y="4076640"/>
            <a:ext cx="1314360" cy="1989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6" descr=""/>
          <p:cNvPicPr/>
          <p:nvPr/>
        </p:nvPicPr>
        <p:blipFill>
          <a:blip r:embed="rId10"/>
          <a:stretch/>
        </p:blipFill>
        <p:spPr>
          <a:xfrm>
            <a:off x="179280" y="4149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8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Picture 29" descr=""/>
          <p:cNvPicPr/>
          <p:nvPr/>
        </p:nvPicPr>
        <p:blipFill>
          <a:blip r:embed="rId11"/>
          <a:stretch/>
        </p:blipFill>
        <p:spPr>
          <a:xfrm>
            <a:off x="2195640" y="4076640"/>
            <a:ext cx="1527120" cy="19432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1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3" name="Picture 32" descr=""/>
          <p:cNvPicPr/>
          <p:nvPr/>
        </p:nvPicPr>
        <p:blipFill>
          <a:blip r:embed="rId12"/>
          <a:stretch/>
        </p:blipFill>
        <p:spPr>
          <a:xfrm>
            <a:off x="7596360" y="4221000"/>
            <a:ext cx="1203120" cy="18003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4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Заголовок 1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473800" cy="14572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Picture 12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868320" cy="21589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4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15" descr=""/>
          <p:cNvPicPr/>
          <p:nvPr/>
        </p:nvPicPr>
        <p:blipFill>
          <a:blip r:embed="rId4"/>
          <a:stretch/>
        </p:blipFill>
        <p:spPr>
          <a:xfrm>
            <a:off x="1908000" y="1989000"/>
            <a:ext cx="1287720" cy="20163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7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Picture 21" descr=""/>
          <p:cNvPicPr/>
          <p:nvPr/>
        </p:nvPicPr>
        <p:blipFill>
          <a:blip r:embed="rId5"/>
          <a:stretch/>
        </p:blipFill>
        <p:spPr>
          <a:xfrm>
            <a:off x="5580000" y="1916280"/>
            <a:ext cx="1359000" cy="21492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2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Rectangle 26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6" name="Picture 27" descr=""/>
          <p:cNvPicPr/>
          <p:nvPr/>
        </p:nvPicPr>
        <p:blipFill>
          <a:blip r:embed="rId6"/>
          <a:stretch/>
        </p:blipFill>
        <p:spPr>
          <a:xfrm>
            <a:off x="3924360" y="1989000"/>
            <a:ext cx="1285920" cy="2016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9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30" descr=""/>
          <p:cNvPicPr/>
          <p:nvPr/>
        </p:nvPicPr>
        <p:blipFill>
          <a:blip r:embed="rId7"/>
          <a:stretch/>
        </p:blipFill>
        <p:spPr>
          <a:xfrm>
            <a:off x="7740720" y="1989000"/>
            <a:ext cx="846000" cy="20876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2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3" name="Picture 35" descr=""/>
          <p:cNvPicPr/>
          <p:nvPr/>
        </p:nvPicPr>
        <p:blipFill>
          <a:blip r:embed="rId8"/>
          <a:stretch/>
        </p:blipFill>
        <p:spPr>
          <a:xfrm>
            <a:off x="5724360" y="4365720"/>
            <a:ext cx="1059120" cy="21603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7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6" name="Picture 38" descr=""/>
          <p:cNvPicPr/>
          <p:nvPr/>
        </p:nvPicPr>
        <p:blipFill>
          <a:blip r:embed="rId9"/>
          <a:stretch/>
        </p:blipFill>
        <p:spPr>
          <a:xfrm>
            <a:off x="324000" y="4365720"/>
            <a:ext cx="1276200" cy="20160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0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9" name="Picture 41" descr=""/>
          <p:cNvPicPr/>
          <p:nvPr/>
        </p:nvPicPr>
        <p:blipFill>
          <a:blip r:embed="rId10"/>
          <a:stretch/>
        </p:blipFill>
        <p:spPr>
          <a:xfrm>
            <a:off x="1908000" y="4365720"/>
            <a:ext cx="1230480" cy="19447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Rectangle 46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Rectangle 4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47" descr=""/>
          <p:cNvPicPr/>
          <p:nvPr/>
        </p:nvPicPr>
        <p:blipFill>
          <a:blip r:embed="rId11"/>
          <a:stretch/>
        </p:blipFill>
        <p:spPr>
          <a:xfrm>
            <a:off x="3780000" y="4292640"/>
            <a:ext cx="1212840" cy="22320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9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7" name="Picture 50" descr=""/>
          <p:cNvPicPr/>
          <p:nvPr/>
        </p:nvPicPr>
        <p:blipFill>
          <a:blip r:embed="rId12"/>
          <a:stretch/>
        </p:blipFill>
        <p:spPr>
          <a:xfrm>
            <a:off x="7380360" y="4365720"/>
            <a:ext cx="1320840" cy="2087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2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5ffff"/>
                </a:solidFill>
                <a:latin typeface="Tahoma"/>
              </a:rPr>
              <a:t>«Здоровье человека лишь </a:t>
            </a:r>
            <a:br>
              <a:rPr sz="3400"/>
            </a:br>
            <a:r>
              <a:rPr b="0" lang="en-US" sz="3400" spc="-1" strike="noStrike">
                <a:solidFill>
                  <a:srgbClr val="e5ffff"/>
                </a:solidFill>
                <a:latin typeface="Tahoma"/>
              </a:rPr>
              <a:t>на 2/25    зависит от медицинской помощи,</a:t>
            </a:r>
            <a:br>
              <a:rPr sz="3400"/>
            </a:br>
            <a:r>
              <a:rPr b="0" lang="en-US" sz="3400" spc="-1" strike="noStrike">
                <a:solidFill>
                  <a:srgbClr val="e5ffff"/>
                </a:solidFill>
                <a:latin typeface="Tahoma"/>
              </a:rPr>
              <a:t>на 3/20-от генетических факторов, </a:t>
            </a:r>
            <a:br>
              <a:rPr sz="3400"/>
            </a:br>
            <a:r>
              <a:rPr b="0" lang="en-US" sz="3400" spc="-1" strike="noStrike">
                <a:solidFill>
                  <a:srgbClr val="e5ffff"/>
                </a:solidFill>
                <a:latin typeface="Tahoma"/>
              </a:rPr>
              <a:t>на 1/5     - от экологии, и более чем </a:t>
            </a:r>
            <a:br>
              <a:rPr sz="3400"/>
            </a:br>
            <a:r>
              <a:rPr b="0" lang="en-US" sz="3400" spc="-1" strike="noStrike">
                <a:solidFill>
                  <a:srgbClr val="e5ffff"/>
                </a:solidFill>
                <a:latin typeface="Tahoma"/>
              </a:rPr>
              <a:t>на     1/2 -от образа жизни»</a:t>
            </a:r>
            <a:endParaRPr b="0" lang="en-US" sz="3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821844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Капля первая упала-кап!</a:t>
            </a:r>
            <a:br>
              <a:rPr sz="3300"/>
            </a:b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И вторая пробежала-кап!</a:t>
            </a:r>
            <a:br>
              <a:rPr sz="3300"/>
            </a:b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Мы на небо посмотрели,</a:t>
            </a:r>
            <a:br>
              <a:rPr sz="3300"/>
            </a:b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Капельки кап-кап запели,</a:t>
            </a:r>
            <a:br>
              <a:rPr sz="3300"/>
            </a:b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Намочились лица,</a:t>
            </a:r>
            <a:br>
              <a:rPr sz="3300"/>
            </a:b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Мы их вытирали.</a:t>
            </a:r>
            <a:br>
              <a:rPr sz="3300"/>
            </a:b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Туфли- посмотрите-</a:t>
            </a:r>
            <a:br>
              <a:rPr sz="3300"/>
            </a:b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Мокрыми стали.</a:t>
            </a:r>
            <a:br>
              <a:rPr sz="3300"/>
            </a:b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Плечами дружно поведём </a:t>
            </a:r>
            <a:br>
              <a:rPr sz="3300"/>
            </a:b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И все капельки стряхнём.</a:t>
            </a:r>
            <a:br>
              <a:rPr sz="3300"/>
            </a:b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От дождя убежим,</a:t>
            </a:r>
            <a:br>
              <a:rPr sz="3300"/>
            </a:br>
            <a:r>
              <a:rPr b="0" lang="ru-RU" sz="3300" spc="-1" strike="noStrike">
                <a:solidFill>
                  <a:srgbClr val="e5ffff"/>
                </a:solidFill>
                <a:latin typeface="Tahoma"/>
              </a:rPr>
              <a:t>Под кусточком посидим.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57:23Z</dcterms:created>
  <dc:creator>Ученик 10</dc:creator>
  <dc:description/>
  <dc:language>en-US</dc:language>
  <cp:lastModifiedBy>Nabster</cp:lastModifiedBy>
  <dcterms:modified xsi:type="dcterms:W3CDTF">2010-11-09T05:26:40Z</dcterms:modified>
  <cp:revision>31</cp:revision>
  <dc:subject/>
  <dc:title>Выделите целую часть из дробей:</dc:title>
</cp:coreProperties>
</file>