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6DD-193B-4349-A45F-B0B94596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59A-89D9-48CC-86D9-2A964C4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272-8252-42D6-BFE5-538D982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73B-3397-4E12-9DF1-6F4EA8C7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9C4-995E-42FA-8D7E-C40E6E36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47D-D1DE-4EFC-ADF5-5359075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BA1-4D4D-4F6E-972C-F2196B1B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918-2B2A-4088-BD8C-2C5BF2A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168-5C34-4FDB-8443-70D47116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BDB-3F13-4969-92F2-F076A96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7C1-DC2B-4137-BF24-06061E9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631-231F-427F-82B2-477C1BC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3D9-E33B-4EA0-B622-DCB2A4DD17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689040" y="1341360"/>
            <a:ext cx="7845480" cy="226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240" y="4149720"/>
            <a:ext cx="70167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arik Dar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A school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yasan -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year was RRCPO “Leaf” foun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phrase: The motto of RRCPO “Leaf” is: “Let the world change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rogram is aimed at cleaning environmental assa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mpetition does RRCPO “Leaf” win every year since 200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want to join  our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CPO “Leaf” was founded on 14.12.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purpose of the organization is to create conditions for improving the physical and moral growth of childr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D:\ДАША\Картинки\Лист\201887156.jpg"/>
          <p:cNvPicPr/>
          <p:nvPr/>
        </p:nvPicPr>
        <p:blipFill>
          <a:blip r:embed="rId2"/>
          <a:stretch/>
        </p:blipFill>
        <p:spPr>
          <a:xfrm>
            <a:off x="4714920" y="35719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D:\ДАША\Картинки\Лист\deti02.jpg"/>
          <p:cNvPicPr/>
          <p:nvPr/>
        </p:nvPicPr>
        <p:blipFill>
          <a:blip r:embed="rId3"/>
          <a:stretch/>
        </p:blipFill>
        <p:spPr>
          <a:xfrm>
            <a:off x="571680" y="3571920"/>
            <a:ext cx="372096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s of the organ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(meaning love for the Motherland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(meaning love of natu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 of the organization is divided in half diagonally, its upper half is red, the lower one is gre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D:\ДАША\Картинки\Лист\listznak.png"/>
          <p:cNvPicPr/>
          <p:nvPr/>
        </p:nvPicPr>
        <p:blipFill>
          <a:blip r:embed="rId1"/>
          <a:stretch/>
        </p:blipFill>
        <p:spPr>
          <a:xfrm>
            <a:off x="785880" y="3071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ДАША\Картинки\Лист\flag.gif"/>
          <p:cNvPicPr/>
          <p:nvPr/>
        </p:nvPicPr>
        <p:blipFill>
          <a:blip r:embed="rId2"/>
          <a:stretch/>
        </p:blipFill>
        <p:spPr>
          <a:xfrm>
            <a:off x="5000760" y="3143160"/>
            <a:ext cx="348912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lem of RRCPO “Leaf” is a sty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le leaf, petiole placed vertically in the blue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f is divided into two parts at midrib,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is green, the right is red. Above the mapl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mi-circle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"Organization"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it - the word “leaf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D:\ДАША\Картинки\Лист\listembl.png"/>
          <p:cNvPicPr/>
          <p:nvPr/>
        </p:nvPicPr>
        <p:blipFill>
          <a:blip r:embed="rId1"/>
          <a:stretch/>
        </p:blipFill>
        <p:spPr>
          <a:xfrm>
            <a:off x="4932360" y="270828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560" y="907920"/>
            <a:ext cx="8543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 of our program “Clean lakes” is cleaning out the territory surrounding the lakes in Klepiki, Ryazan reg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D:\ДАША\Картинки\Лист\x_e2292efcавы.jpg"/>
          <p:cNvPicPr/>
          <p:nvPr/>
        </p:nvPicPr>
        <p:blipFill>
          <a:blip r:embed="rId1"/>
          <a:stretch/>
        </p:blipFill>
        <p:spPr>
          <a:xfrm>
            <a:off x="142920" y="3286080"/>
            <a:ext cx="554832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ДАША\Картинки\Лист\x_e91fbf91.jpg"/>
          <p:cNvPicPr/>
          <p:nvPr/>
        </p:nvPicPr>
        <p:blipFill>
          <a:blip r:embed="rId2"/>
          <a:stretch/>
        </p:blipFill>
        <p:spPr>
          <a:xfrm>
            <a:off x="6072120" y="2928960"/>
            <a:ext cx="263052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2560" y="642960"/>
            <a:ext cx="854388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regional gathering of activists for childre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th movement was held on 22 – 24 of October 2010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urist camp "Meschera" in Klepiki, Ryaz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D:\ДАША\Картинки\Лист\x_0de2b3d6.jpg"/>
          <p:cNvPicPr/>
          <p:nvPr/>
        </p:nvPicPr>
        <p:blipFill>
          <a:blip r:embed="rId1"/>
          <a:stretch/>
        </p:blipFill>
        <p:spPr>
          <a:xfrm>
            <a:off x="500040" y="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ДАША\Картинки\Лист\x_edc8fb65.jpg"/>
          <p:cNvPicPr/>
          <p:nvPr/>
        </p:nvPicPr>
        <p:blipFill>
          <a:blip r:embed="rId2"/>
          <a:stretch/>
        </p:blipFill>
        <p:spPr>
          <a:xfrm>
            <a:off x="5580000" y="4516560"/>
            <a:ext cx="3122640" cy="234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ДАША\Картинки\Лист\x_8444d20b.jpg"/>
          <p:cNvPicPr/>
          <p:nvPr/>
        </p:nvPicPr>
        <p:blipFill>
          <a:blip r:embed="rId3"/>
          <a:stretch/>
        </p:blipFill>
        <p:spPr>
          <a:xfrm>
            <a:off x="468360" y="4521240"/>
            <a:ext cx="3114720" cy="233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ДАША\Картинки\Лист\x_d4c446a3.jpg"/>
          <p:cNvPicPr/>
          <p:nvPr/>
        </p:nvPicPr>
        <p:blipFill>
          <a:blip r:embed="rId4"/>
          <a:stretch/>
        </p:blipFill>
        <p:spPr>
          <a:xfrm>
            <a:off x="5592600" y="27000"/>
            <a:ext cx="312264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ing children from orphanag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gather stationary and toys for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D:\ДАША\Картинки\Лист\x_0015001b.jpg"/>
          <p:cNvPicPr/>
          <p:nvPr/>
        </p:nvPicPr>
        <p:blipFill>
          <a:blip r:embed="rId1"/>
          <a:stretch/>
        </p:blipFill>
        <p:spPr>
          <a:xfrm>
            <a:off x="500040" y="3857760"/>
            <a:ext cx="3560760" cy="267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ДАША\Картинки\Лист\x_a569f65b.jpg"/>
          <p:cNvPicPr/>
          <p:nvPr/>
        </p:nvPicPr>
        <p:blipFill>
          <a:blip r:embed="rId2"/>
          <a:stretch/>
        </p:blipFill>
        <p:spPr>
          <a:xfrm>
            <a:off x="285840" y="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ДАША\Картинки\Лист\x_4c542dec.jpg"/>
          <p:cNvPicPr/>
          <p:nvPr/>
        </p:nvPicPr>
        <p:blipFill>
          <a:blip r:embed="rId3"/>
          <a:stretch/>
        </p:blipFill>
        <p:spPr>
          <a:xfrm>
            <a:off x="6072120" y="3429000"/>
            <a:ext cx="2470320" cy="32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D:\ДАША\Картинки\Лист\x_304fb1b4.jpg"/>
          <p:cNvPicPr/>
          <p:nvPr/>
        </p:nvPicPr>
        <p:blipFill>
          <a:blip r:embed="rId4"/>
          <a:stretch/>
        </p:blipFill>
        <p:spPr>
          <a:xfrm>
            <a:off x="5786280" y="0"/>
            <a:ext cx="313704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trip to the Sheremetievskiy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phanage on 29.05.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D:\ДАША\Картинки\Лист\x_4c35c046.jpg"/>
          <p:cNvPicPr/>
          <p:nvPr/>
        </p:nvPicPr>
        <p:blipFill>
          <a:blip r:embed="rId1"/>
          <a:stretch/>
        </p:blipFill>
        <p:spPr>
          <a:xfrm>
            <a:off x="5572080" y="1214280"/>
            <a:ext cx="3333960" cy="250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ДАША\Картинки\Лист\x_5db17962.jpg"/>
          <p:cNvPicPr/>
          <p:nvPr/>
        </p:nvPicPr>
        <p:blipFill>
          <a:blip r:embed="rId2"/>
          <a:stretch/>
        </p:blipFill>
        <p:spPr>
          <a:xfrm>
            <a:off x="428760" y="19890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ДАША\Картинки\Лист\x_ea43d7fd.jpg"/>
          <p:cNvPicPr/>
          <p:nvPr/>
        </p:nvPicPr>
        <p:blipFill>
          <a:blip r:embed="rId3"/>
          <a:stretch/>
        </p:blipFill>
        <p:spPr>
          <a:xfrm>
            <a:off x="4572000" y="40766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2005, members RRCPO “Leaf” are winners   of the regional stage of Russian n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“Leader of the XXI centu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children's and youth organ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D:\ДАША\Картинки\Лист\lider.jpg"/>
          <p:cNvPicPr/>
          <p:nvPr/>
        </p:nvPicPr>
        <p:blipFill>
          <a:blip r:embed="rId1"/>
          <a:stretch/>
        </p:blipFill>
        <p:spPr>
          <a:xfrm>
            <a:off x="684360" y="2708280"/>
            <a:ext cx="2636640" cy="395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ДАША\Картинки\Лист\1.jpg"/>
          <p:cNvPicPr/>
          <p:nvPr/>
        </p:nvPicPr>
        <p:blipFill>
          <a:blip r:embed="rId2"/>
          <a:stretch/>
        </p:blipFill>
        <p:spPr>
          <a:xfrm>
            <a:off x="4140360" y="3213000"/>
            <a:ext cx="4673520" cy="31165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19:21Z</dcterms:created>
  <dc:creator>Roza</dc:creator>
  <dc:description/>
  <dc:language>en-US</dc:language>
  <cp:lastModifiedBy>Вероника</cp:lastModifiedBy>
  <dcterms:modified xsi:type="dcterms:W3CDTF">2010-12-12T06:45:59Z</dcterms:modified>
  <cp:revision>49</cp:revision>
  <dc:subject/>
  <dc:title>Волонтёрский отряд дружины - Рязанской Региональной Детской общественной организации "Лист" города Рязани</dc:title>
</cp:coreProperties>
</file>